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D12E-C168-44DF-AECA-840CA3F584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D9D9-396C-4A70-80E8-30E84C845B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E922-8DBE-4950-A865-D8F6A6D065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ECC5-56AD-4A83-A9EB-6C2669357D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102-5216-4B03-AD86-6A5E5169AE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7698-CDB6-4205-97BD-E1BB29561E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0D69-1DEF-406E-A9DD-F2523F343D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AEA0-168B-475B-A46F-D263379496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604A-02CF-40B2-8573-E06A6C2902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73D-C5AA-4150-9DC2-5EEF0EBB26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D411-9F31-4F6A-ADEF-7E38854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6A50-A1B8-462E-94B9-5FBC652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68A5-A227-4E8F-B85D-EADF0613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4680-F34D-4526-ABF8-12D91618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8AEF-EF33-43DE-8926-E5F86AA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362A-31F1-4950-9360-B97000E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CAF3-F9D0-4909-A15B-DDD05794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1FC6-B530-47EC-B1CF-11131286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884F-A0D7-4437-B8BF-04751451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DEF3-5122-4F6A-AF06-117A0E3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D465-0CE2-4368-8FBB-1F7D82D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7983-885E-4CB3-8903-6DD6DA2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1DD9-D71D-43B9-BD3B-20587469A0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425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©Les processus métiers: concepts, modèles et systè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rocessus métiers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s, modèles et systè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074-204C-49CE-AF81-36DA6DD4CA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emps de cycle de la séquence est la somme des temps de cycle moyens des activités en sé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+ 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processus1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10 + 20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e 4" descr=""/>
          <p:cNvPicPr/>
          <p:nvPr/>
        </p:nvPicPr>
        <p:blipFill>
          <a:blip r:embed="rId1"/>
          <a:stretch/>
        </p:blipFill>
        <p:spPr>
          <a:xfrm>
            <a:off x="1332000" y="4508640"/>
            <a:ext cx="6361200" cy="1512720"/>
          </a:xfrm>
          <a:prstGeom prst="rect">
            <a:avLst/>
          </a:prstGeom>
          <a:ln w="0">
            <a:noFill/>
          </a:ln>
        </p:spPr>
      </p:pic>
      <p:sp>
        <p:nvSpPr>
          <p:cNvPr id="8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8152-8C31-4CF1-A761-AB3ADCE8F8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emins parallè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deux activités (fragmets de processus) s’exécutent en parallèle, leur contribution au TC est le  TC de l’activité (du fragment) la (le) plus long(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processus1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max{ 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TC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}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mage 4" descr=""/>
          <p:cNvPicPr/>
          <p:nvPr/>
        </p:nvPicPr>
        <p:blipFill>
          <a:blip r:embed="rId1"/>
          <a:stretch/>
        </p:blipFill>
        <p:spPr>
          <a:xfrm>
            <a:off x="2017800" y="4305240"/>
            <a:ext cx="5046480" cy="1789200"/>
          </a:xfrm>
          <a:prstGeom prst="rect">
            <a:avLst/>
          </a:prstGeom>
          <a:ln w="0">
            <a:noFill/>
          </a:ln>
        </p:spPr>
      </p:pic>
      <p:sp>
        <p:nvSpPr>
          <p:cNvPr id="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5364-93DC-409D-8745-174F7781771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emins altern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pic>
        <p:nvPicPr>
          <p:cNvPr id="95" name="Image 1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5037120" cy="229392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3"/>
          <p:cNvSpPr/>
          <p:nvPr/>
        </p:nvSpPr>
        <p:spPr>
          <a:xfrm>
            <a:off x="5591520" y="522936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C = 0,7 x 10 + 0,3 x 20 = 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37F-AFA4-4865-99AE-C6951A547AB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u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Espace réservé du contenu 2" descr=""/>
          <p:cNvPicPr/>
          <p:nvPr/>
        </p:nvPicPr>
        <p:blipFill>
          <a:blip r:embed="rId1"/>
          <a:stretch/>
        </p:blipFill>
        <p:spPr>
          <a:xfrm>
            <a:off x="396720" y="1474920"/>
            <a:ext cx="8423280" cy="4524120"/>
          </a:xfrm>
          <a:prstGeom prst="rect">
            <a:avLst/>
          </a:prstGeom>
          <a:ln w="0">
            <a:noFill/>
          </a:ln>
        </p:spPr>
      </p:pic>
      <p:pic>
        <p:nvPicPr>
          <p:cNvPr id="100" name="Image 5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5018040" cy="169524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6"/>
          <p:cNvSpPr/>
          <p:nvPr/>
        </p:nvSpPr>
        <p:spPr>
          <a:xfrm>
            <a:off x="5597640" y="5045040"/>
            <a:ext cx="34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C = 10/0,7 = 14,3 (n tent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C = 10 x 1,3 = 13 (2 tent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E12-4D41-48EF-AFA7-00858378AB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ercice : calculer le T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Espace réservé du contenu 6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4319640"/>
          </a:xfrm>
          <a:prstGeom prst="rect">
            <a:avLst/>
          </a:prstGeom>
          <a:ln w="0">
            <a:noFill/>
          </a:ln>
        </p:spPr>
      </p:pic>
      <p:sp>
        <p:nvSpPr>
          <p:cNvPr id="10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E446-20FA-4826-81F5-C84896B68E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emps de cycle 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0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660D-73A7-4D0B-9B98-D8106F0130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lculer le temps de cycle effic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Espace réservé du contenu 4"/>
          <p:cNvGraphicFramePr/>
          <p:nvPr/>
        </p:nvGraphicFramePr>
        <p:xfrm>
          <a:off x="971640" y="2276640"/>
          <a:ext cx="55450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Espace réservé du contenu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55450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DB41-F17C-47F2-B3A9-9F9E6CEC49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ttle’s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ip = nombre de cas en cours d’exécution (work in progr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lation avec le temps de cycl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ip =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c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e taux d’arrivée par unité de te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pplication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 exemple, stabiliser le Wip en augmentan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&gt; rationaliser le processus pour diminuer 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er le TC expérimentalement en observant Wip et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3C3-3145-4F08-A91C-A0554EEFC64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les d’a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A679-B8F4-461A-BD66-F6854AD2FC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le d’attente (concep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Espace réservé du contenu 4" descr=""/>
          <p:cNvPicPr/>
          <p:nvPr/>
        </p:nvPicPr>
        <p:blipFill>
          <a:blip r:embed="rId1"/>
          <a:stretch/>
        </p:blipFill>
        <p:spPr>
          <a:xfrm>
            <a:off x="457200" y="2925720"/>
            <a:ext cx="8229600" cy="309708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5110200" y="1785960"/>
            <a:ext cx="1465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9720" y="1938240"/>
            <a:ext cx="167616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05240" y="2160720"/>
            <a:ext cx="566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6580080" y="2160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427040" y="1936800"/>
            <a:ext cx="99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iv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3342240" y="144936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 d’at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378760" y="1976400"/>
            <a:ext cx="90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401200" y="163512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6735240" y="1619280"/>
            <a:ext cx="33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5014440" y="159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296-17E9-400E-B8AB-213E7379E44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rganisatio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s et 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élisation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l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alyse quant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us transac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ouverte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98AF-3A78-4296-A202-E863533FDE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le d’attente (paramèt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644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 = nombre moyen de cas dans le système (i.e. travaux en progrè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q = longueur de la queue (nombre moyen de cas en queue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 = temps moyen dans le système (temps de cyc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q = temps moyen dans la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195720" y="2400480"/>
            <a:ext cx="1687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653280" y="2413080"/>
            <a:ext cx="84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q,L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3287880" y="281160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4552200" y="2824200"/>
            <a:ext cx="59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,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5084640" y="1622520"/>
            <a:ext cx="14655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224160" y="1774800"/>
            <a:ext cx="167652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478240" y="1996920"/>
            <a:ext cx="56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554880" y="1996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400760" y="1773360"/>
            <a:ext cx="99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iv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317040" y="1285920"/>
            <a:ext cx="14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 d’at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53200" y="1812960"/>
            <a:ext cx="90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2375640" y="1471680"/>
            <a:ext cx="32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6709680" y="1455840"/>
            <a:ext cx="33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4989240" y="14270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1A7C-9C06-484B-998F-96C6BD1810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le d’attente M/M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ED23-1F0A-4712-A840-219E7F04FB3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le d’attente M/M/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Espace réservé du contenu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15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78AE-14A7-4A57-8123-1EE2EF70D1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le d’attente M/M/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f ! Il existe des outils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t 3"/>
              <p:cNvSpPr txBox="1"/>
              <p:nvPr/>
            </p:nvSpPr>
            <p:spPr>
              <a:xfrm>
                <a:off x="900000" y="1916280"/>
                <a:ext cx="4040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ρ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t 4"/>
              <p:cNvSpPr txBox="1"/>
              <p:nvPr/>
            </p:nvSpPr>
            <p:spPr>
              <a:xfrm>
                <a:off x="826920" y="2852640"/>
                <a:ext cx="4716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λ</m:t>
                                        </m:r>
                                      </m:num>
                                      <m:den>
                                        <m:r>
                                          <m:t xml:space="preserve">μ</m:t>
                                        </m:r>
                                      </m:den>
                                    </m:f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cμ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DA0A-71C4-4B27-AE47-1EA05F17D1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imites des modèles à file(s) d’at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’autres modèles si la queue suit un autre modèle de probabil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 modèle étudié fonctionne avec une seule queue (une activité à la fois) : pour analyser des processus, on peut utiliser des réseaux de files d’atten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ais mathématiques très complexes, en particulier en cas de concurrence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bablement pourquoi les techniques de simulation sont plus popula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EA99-D6D4-46A4-A659-7C2ECBC8B8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57000"/>
            <a:ext cx="82296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restaurant reçoit en moyenne 1200 clients par jour (entre 10h et 22h). Pendant les heures de pointe (12h à 15h et 18h à 21h) il reçoit au total 900 clients. En moyenne 90 clients sont présents dans le restaurant à cette période.   Aux heures basses le restaurant reçoit 300 clients au total, avec 30 clients présents en moyenne à un moment donné sur cette pér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en de temps un client reste-t-il en moyenne dans le restaurant aux heures de po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en de temps un client reste-t-il en moyenne dans le restaurant aux heures basses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restaurant souhaite augmenter sa clientèle, mais la capacité du restaurant est limitée et il est déjà très plein aux heures de pointe. Sur quel paramètre peut agir le restaura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C1B6-D6B4-4736-A032-0663034AED6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57000"/>
            <a:ext cx="8229600" cy="4514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restaurant reçoit en moyenne 1200 clients par jour (entre 10h et 22h). Pendant les heures de pointe (</a:t>
            </a: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12h à 15h et 18h à 21h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il reçoit au total </a:t>
            </a: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9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ients. En moyenn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9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lients sont présents dans le restaurant à cette période.   Aux heures basses le restaurant reçoit 300 clients au total, avec 30 clients présents en moyenne à un moment donné sur cette pér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en de temps un client reste-t-il en moyenne dans le restaurant aux heures de po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en de temps un client reste-t-il en moyenne dans le restaurant aux heures basses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restaurant souhaite augmenter sa clientèle, mais la capacité du restaurant est limitée et il est déjà très plein aux heures de pointe. Sur quel paramètre peut agir le restauran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IP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70c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30C-BECD-41A0-B7C7-65A1744569D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ip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eures de poin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900/6 = 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p =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 = 90/150 = 0.6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ures creu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300/6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P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C = 30/50 = 0.6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minuer TC, c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ugmente et WIP doit rester s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43CC-EA7D-4798-B2CD-AC03BC5AC8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C8C-D93A-4EE9-B2F4-63B6785E3C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par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valuation de propriétés recherch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visualisation de 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valuation de traces d’exé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eaux temporisés pour l’évaluation d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eaux stochastiques pour l’évaluation de probabilités de franchissement d’une transit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7988-5B0A-4D55-8341-36D8767FE2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apitre 5 :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s proces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21F-502E-4E7F-B933-140543AAAEE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RdP_exemple"/>
          <p:cNvPicPr/>
          <p:nvPr/>
        </p:nvPicPr>
        <p:blipFill>
          <a:blip r:embed="rId1"/>
          <a:stretch/>
        </p:blipFill>
        <p:spPr>
          <a:xfrm>
            <a:off x="2195640" y="1197000"/>
            <a:ext cx="4897440" cy="4968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emp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154-D230-494D-9A33-FE269C36E5A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empl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la variante (a), plusieurs activités de réservation d’hôtels et de vols s’exécutent en parallèle, dans la variante (b) une seule activité pour toutes les ré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analyse peut permettre d’évaluer quelle est la stratégie la plus efficace, éventuellement en fonction de circo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907-3424-4A75-A5D2-07E37BEBBA7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R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rtainement le fondement principal pour la gestion des flots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ques outils utiles, mais la validation automatique est loin d’être attei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particulier pour les réseaux colo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RdP sont souvent embarqués de façon cachée dans bons nombres d’outils associés aux SGW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8A32-9E80-4F6B-BC49-285EDFFC5B4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9EDF-BB4E-4CFB-802D-BF94B54A59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s qualitative vs. analyse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quali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el checking (a pri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alité du service(à posteri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de fl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E96F-918D-4060-8EB3-7A577DEE89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quanti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alyse de 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du temps d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les d’at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BC2-9FCB-40B5-A961-58D36CE729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jectif : estimer la performance globale d’un proces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091880" y="4408560"/>
            <a:ext cx="244548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ize revenues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iz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5166360" y="4430880"/>
            <a:ext cx="31417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resources efficiently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isfying customer nee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675160" y="5398920"/>
            <a:ext cx="39283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isfy customer needs (effectiven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an efficient way (efficie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8"/>
          <p:cNvGrpSpPr/>
          <p:nvPr/>
        </p:nvGrpSpPr>
        <p:grpSpPr>
          <a:xfrm>
            <a:off x="736560" y="2884320"/>
            <a:ext cx="7722360" cy="1467000"/>
            <a:chOff x="736560" y="2884320"/>
            <a:chExt cx="7722360" cy="1467000"/>
          </a:xfrm>
        </p:grpSpPr>
        <p:sp>
          <p:nvSpPr>
            <p:cNvPr id="69" name="Text Box 7"/>
            <p:cNvSpPr/>
            <p:nvPr/>
          </p:nvSpPr>
          <p:spPr>
            <a:xfrm>
              <a:off x="736560" y="2884320"/>
              <a:ext cx="299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maximizing fir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8"/>
            <p:cNvSpPr/>
            <p:nvPr/>
          </p:nvSpPr>
          <p:spPr>
            <a:xfrm>
              <a:off x="4921920" y="2884320"/>
              <a:ext cx="313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n-profit organiz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9"/>
            <p:cNvSpPr/>
            <p:nvPr/>
          </p:nvSpPr>
          <p:spPr>
            <a:xfrm>
              <a:off x="1307880" y="3365280"/>
              <a:ext cx="211788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ize long ter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hareholder val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5161680" y="3369960"/>
              <a:ext cx="329724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rvive and grow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ile satisfying customer nee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8"/>
            <p:cNvSpPr/>
            <p:nvPr/>
          </p:nvSpPr>
          <p:spPr>
            <a:xfrm>
              <a:off x="1981080" y="4027320"/>
              <a:ext cx="457200" cy="3049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9"/>
            <p:cNvSpPr/>
            <p:nvPr/>
          </p:nvSpPr>
          <p:spPr>
            <a:xfrm>
              <a:off x="6400800" y="4046400"/>
              <a:ext cx="457200" cy="3049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5DC-163E-4EF0-AE69-B27883F8BB7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fférentes dimension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mps : temps de cycle moyen pour un processus connaissant le temps de cycle des 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ût : coût moyen d’une instance de processus connaissant le coût par exécution des activ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rreurs : le taux d’erreur d’un processus connaissant le taux d’erreur de chaque 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6FD3-EC9D-4083-ADDB-B798934734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lcul du temps d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AEE7-35F0-4B11-9F88-92FD22DE67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nalyse du temps d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emps de cycle d’un processus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emps moyen entre sa date de démarrage et sa date de terminais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Temps de cycle d’une activité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La somme de son temps d’attente et de son temps d’exécu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alculer le temps de cycle moyen pour un process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Somme du temps d’exécution et du temps d’attente des activit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Dépend des structures de contrô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Séqu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arallélisme (AND-Split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hoix (XOR-split, OR-Split 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51F5-290E-415B-82EA-6ECEE041C3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7:57:17Z</dcterms:created>
  <dc:creator>godart</dc:creator>
  <dc:description/>
  <dc:language>en-US</dc:language>
  <cp:lastModifiedBy>Claude Godart</cp:lastModifiedBy>
  <cp:lastPrinted>2014-02-07T14:15:05Z</cp:lastPrinted>
  <dcterms:modified xsi:type="dcterms:W3CDTF">2015-10-12T07:52:26Z</dcterms:modified>
  <cp:revision>402</cp:revision>
  <dc:subject/>
  <dc:title>Les procédés métiers : conception, modélisation et mise en oeuvre</dc:title>
</cp:coreProperties>
</file>