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0.png" ContentType="image/png"/>
  <Override PartName="/ppt/media/image26.jpeg" ContentType="image/jpeg"/>
  <Override PartName="/ppt/media/image5.jpeg" ContentType="image/jpeg"/>
  <Override PartName="/ppt/media/image61.png" ContentType="image/png"/>
  <Override PartName="/ppt/media/image59.png" ContentType="image/png"/>
  <Override PartName="/ppt/media/image24.jpeg" ContentType="image/jpeg"/>
  <Override PartName="/ppt/media/image49.png" ContentType="image/png"/>
  <Override PartName="/ppt/media/image2.jpeg" ContentType="image/jpeg"/>
  <Override PartName="/ppt/media/image57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42.wmf" ContentType="image/x-wmf"/>
  <Override PartName="/ppt/media/image54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35.wmf" ContentType="image/x-wmf"/>
  <Override PartName="/ppt/media/image60.png" ContentType="image/png"/>
  <Override PartName="/ppt/media/image6.jpeg" ContentType="image/jpeg"/>
  <Override PartName="/ppt/media/image15.jpeg" ContentType="image/jpeg"/>
  <Override PartName="/ppt/media/image29.wmf" ContentType="image/x-wmf"/>
  <Override PartName="/ppt/media/image19.jpeg" ContentType="image/jpeg"/>
  <Override PartName="/ppt/media/image25.jpeg" ContentType="image/jpeg"/>
  <Override PartName="/ppt/media/image62.png" ContentType="image/png"/>
  <Override PartName="/ppt/media/image45.wmf" ContentType="image/x-wmf"/>
  <Override PartName="/ppt/media/image17.jpeg" ContentType="image/jpeg"/>
  <Override PartName="/ppt/media/image18.jpeg" ContentType="image/jpeg"/>
  <Override PartName="/ppt/media/image3.jpeg" ContentType="image/jpeg"/>
  <Override PartName="/ppt/media/image63.png" ContentType="image/png"/>
  <Override PartName="/ppt/media/image52.png" ContentType="image/png"/>
  <Override PartName="/ppt/media/image7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41.wmf" ContentType="image/x-wmf"/>
  <Override PartName="/ppt/media/image28.jpeg" ContentType="image/jpeg"/>
  <Override PartName="/ppt/media/image11.jpeg" ContentType="image/jpeg"/>
  <Override PartName="/ppt/media/image9.jpeg" ContentType="image/jpeg"/>
  <Override PartName="/ppt/media/image48.png" ContentType="image/png"/>
  <Override PartName="/ppt/media/image30.jpeg" ContentType="image/jpeg"/>
  <Override PartName="/ppt/media/image37.wmf" ContentType="image/x-wmf"/>
  <Override PartName="/ppt/media/image12.jpeg" ContentType="image/jpeg"/>
  <Override PartName="/ppt/media/image31.jpeg" ContentType="image/jpeg"/>
  <Override PartName="/ppt/media/image47.wmf" ContentType="image/x-wmf"/>
  <Override PartName="/ppt/media/image13.jpeg" ContentType="image/jpeg"/>
  <Override PartName="/ppt/media/image38.wmf" ContentType="image/x-wmf"/>
  <Override PartName="/ppt/media/image32.jpeg" ContentType="image/jpeg"/>
  <Override PartName="/ppt/media/image33.jpeg" ContentType="image/jpeg"/>
  <Override PartName="/ppt/media/image34.jpeg" ContentType="image/jpeg"/>
  <Override PartName="/ppt/media/image40.wmf" ContentType="image/x-wmf"/>
  <Override PartName="/ppt/media/image36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4.jpeg" ContentType="image/jpeg"/>
  <Override PartName="/ppt/media/image51.png" ContentType="image/png"/>
  <Override PartName="/ppt/media/image5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7879-C167-4145-8CD6-051388BA9B7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6CE9-A11B-4B22-AAA7-07E0C2CE9D5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943E-3352-4FDC-AC90-B7ADA1F3ABB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3F3F-6421-4C48-9967-DA6F6EC3304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2BB0-A508-4CC0-9308-2101B964937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7D03-F859-4675-8961-A6DF35158C3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43E9-EE7E-43A1-9B87-DED9B83A30C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B932-E437-48C6-88A4-40918553BC6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5FC2-0068-423B-BBFC-F3D651A82CB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1720-CC00-4926-BAAB-52E5500A2FE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155A-F546-45BC-B6FD-2792B81C916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6681-7EA6-40C2-8C8D-67E372AE904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CD7E-2B1F-46C8-83AC-2EBAF7ECB3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A105-B75A-4E22-B37D-F2EBA8C233F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5F0C-8AE8-4FE5-9DC8-7ABAB2BF319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3110-5B16-487F-BFA2-224BCDFAA7F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1E8C-BF73-4644-831C-F410E2251C4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2FB9-B601-48FE-A954-D47DA54A4B0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B5E4-54B4-49C4-895D-FEA23D27905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9B8A-F414-475B-86FD-985BB6F795B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8922-383D-462D-93F6-12EB8629DC4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BBAF-A265-476F-BD27-F84D43BC85C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F24D-21D7-458E-8036-8F45D5FE705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7B99-65F5-4A7B-8CB4-E3FAE6F7F98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84D1-1F7C-459B-93AA-2A5EBAB373D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B797-E9A6-43AA-BBA2-CDF6576EBA6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67CF-B88B-47E3-8449-98AC817467D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33BE-5580-4EB2-B140-8F87C5FF051C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754A-D508-4E4D-B005-540DA8B705B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164E-DEEA-4B32-9237-34F0CA45236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AC22-FC79-4FDB-BB62-D578078BA7C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AA23-591D-4C18-A62B-11071C9A134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D21A-57C0-4EC3-8BBE-30D10A64893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1896-BF22-4934-A792-B2F0AC2D9CF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043C-860F-4CDF-A5DA-C901E458D4E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48E1-5967-47FD-8F4C-491A32F393E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F5E0-A45D-4A4D-95F5-46E097017D8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FFA4-9DE8-4388-A48C-40E0EF40E35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870C-5C49-4C10-8F18-878504E844C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0294-C31A-4A47-BE89-8604814E3472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2C8C-DDF6-4CF7-8842-8390C0B7AA2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91BD-D4D0-4D93-8FA2-E1F422C1517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4A30-2A74-4A4D-A3C0-4C6E659B243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765A-E4DD-4917-9510-69A2CB17C6FD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EF96-F1C2-4055-B774-2912306D862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62F7-C881-4483-AEED-C7936017C47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B20-495B-454A-AAD8-F73FF7BE226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9A5D-521B-429E-9701-C479683426CF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0BEC-2024-40AB-95F2-078DE7FD336B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455C-C369-4DF8-A62C-BEB269358E4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BDA4-F1D7-416A-B655-A6EA293587E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3C99-DE60-4762-ABC0-CBF4ED99E77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063B-1C6D-43D7-A814-71910C173193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5506-F255-4AB6-B215-3107531504D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1882-49F8-44E1-B4DC-5FC1913D031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D8FB-09D3-4D78-847B-466E8EE26FF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C0A3-9D15-468E-A8D6-6D764B56C9A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39F1-9D55-40A4-BC0A-1BBE4627DE5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901C-CF9B-4E1C-9EBA-6E9D1D15F4A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8B7E-7A4D-4E75-9DB6-25286D83C9D4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B69A-249D-4662-B3CC-C79CC92C656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C509-58F2-4414-98B5-018A93193175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02CA-301B-4E7E-AB21-F1736B32147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4749-B150-42B7-9C91-C0988C9456B6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1489-F70D-4BC6-B62C-7ECE075B8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The Upper Parallel Pa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e upper parallel path of the fork, the Task, “Moderate E-mail Discussion,” has a Tim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 Event attached to its boundary. Because of th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ask is placed in its own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cop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aultHandler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ask itself is mapped to a BPEL4WS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synchronous), and will be placed in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er-level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for reasons described below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imer Intermediate Event must be set up to create 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aul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 the appropriate time. To 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eventHandlers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added to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onAlarm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included in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eventHandlers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tribute is set to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uration that is defined in the Timer Intermediate Ev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onAlarm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ains 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throw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th a fault name after the Intermediate Event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Exit” append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aultHandlers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ll be triggered by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aul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nerated by the abov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throw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Si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imer Intermediate Event leads direction to the Exclusive Gateway, there is no specif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vity that must be performed in response the to time-out. The main purpose is to exit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sk. Thu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aultHandlers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 added to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aultHandlers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 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aultNam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t to Intermediate Event with “_Exit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end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ll contain an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v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CC63-72F6-40DF-928E-9A68A4E3A367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645B-D8C8-4F22-887A-18A513DC0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The Middle Parallel Pa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middle parallel path of the fork has a string of two objec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ven though this series of objects appears in the middle of a BPEL4WS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they will 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lace within 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le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ese situations,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ll continue until there is a location in the Diagram w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are multiple incoming Sequence Flow. When more than one Sequence Flow converge 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rks the end of a BPEL4WS structure (as determined by structures that have been crea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y upstream objects). In this case, the Parallel Gateway also marks the end of the higher-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ll be listed in the higher-level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thout 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b-element. Th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ans that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ll be instantiated when the higher-level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gins since it has 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endencies on any other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ll have two activiti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rst, the Timer Intermediate Event used in this situation will map to a BPEL4WS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set to 6 days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, the “E-Mail Discussion Deadline Warning” Task will map to an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llows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In addition, this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n be asynchronous since a response is no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quired. This means that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outputVariabl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ll not be includ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middle path of the fork could have been configured in BPEL4WS without 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stead. This is an example of a situation where a BPMN configuration may der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possible BPEL4WS configurations. Since both BPEL4WS configurations will handle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ropriate behavior, it is up to the implementation of the BPMN to BPEL4WS derivation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termine which configuration will be used. BPMN does not provide any specifi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mmendation in these situations. However, the lower parallel path of the Process can als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modeled with 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 with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, and, to show how links would be used, this se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 the Process will be mapped to elements in a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at have dependencies specified by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60B1-48A1-4194-AE26-40FAA1131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The Lower Parallel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lower parallel path of the fork has a number of objects and, as just described above,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mapped to BPEL4WS elements connected with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path also contains a Decision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can map to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as will happen later in the process, but in this situation the Deci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mapped t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olled by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irst object is a Task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 that has tw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s referring to two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re are two Targe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ause the Task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llowed by the Gateway with its two Gates. This is done instead of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ditionExpression for the Gate labeled “Yes” will map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expression checks the value of the “ConCall” property (set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Task) to see if there will be a conference call during the coming wee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Gate labeled “No” has a condition of default. For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this would map to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However, sinc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not being used,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st be the inverse of all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. The expression of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placed inside a “not” func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listed i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out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-element. This means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instantiated whe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since it has no dependenc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any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remaining elements of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Thus, they will not be instantiated until the source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Yes” Gate from the Gateway leads to a Timer Intermediate Event, which will map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of the wait will set to for 9am PDT on the next Thurs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also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o link to the following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No” Gate from the Gateway leads to a merging Exclusive Gateway, which me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nothing is expected to happen down this path. Thus, this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for moderating the conference call follows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re are three link elements in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la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entioned above, the Parallel Gateway marks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ly, there will b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pl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corresponds to the initia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lets the paren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now that the (sub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been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fter the Parallel Paths are Joi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“Evaluate Discussion Progress” is intended to occur only when all the parallel pat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ve completed, and thus, it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follows the closing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6BB8-DB21-4D68-A449-96620D09D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The Lower Parallel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lower parallel path of the fork has a number of objects and, as just described above,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mapped to BPEL4WS elements connected with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path also contains a Decision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can map to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as will happen later in the process, but in this situation the Deci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mapped t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olled by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irst object is a Task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 that has tw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s referring to two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re are two Targe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ause the Task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llowed by the Gateway with its two Gates. This is done instead of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ditionExpression for the Gate labeled “Yes” will map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expression checks the value of the “ConCall” property (set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Task) to see if there will be a conference call during the coming wee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Gate labeled “No” has a condition of default. For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this would map to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However, sinc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not being used,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st be the inverse of all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. The expression of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placed inside a “not” func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listed i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out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-element. This means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instantiated whe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since it has no dependenc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any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remaining elements of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Thus, they will not be instantiated until the source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Yes” Gate from the Gateway leads to a Timer Intermediate Event, which will map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of the wait will set to for 9am PDT on the next Thurs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also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o link to the following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No” Gate from the Gateway leads to a merging Exclusive Gateway, which me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nothing is expected to happen down this path. Thus, this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for moderating the conference call follows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re are three link elements in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la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entioned above, the Parallel Gateway marks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ly, there will b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pl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corresponds to the initia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lets the paren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now that the (sub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been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fter the Parallel Paths are Joi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“Evaluate Discussion Progress” is intended to occur only when all the parallel pat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ve completed, and thus, it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follows the closing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FA2C-6187-4C25-8585-32C80ADDB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The Lower Parallel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lower parallel path of the fork has a number of objects and, as just described above,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mapped to BPEL4WS elements connected with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path also contains a Decision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can map to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as will happen later in the process, but in this situation the Deci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mapped t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olled by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irst object is a Task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 that has tw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s referring to two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re are two Targe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ause the Task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llowed by the Gateway with its two Gates. This is done instead of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ditionExpression for the Gate labeled “Yes” will map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expression checks the value of the “ConCall” property (set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Task) to see if there will be a conference call during the coming wee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Gate labeled “No” has a condition of default. For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this would map to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However, sinc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not being used,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st be the inverse of all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. The expression of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placed inside a “not” func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listed i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out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-element. This means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instantiated whe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since it has no dependenc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any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remaining elements of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Thus, they will not be instantiated until the source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Yes” Gate from the Gateway leads to a Timer Intermediate Event, which will map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of the wait will set to for 9am PDT on the next Thurs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also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o link to the following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No” Gate from the Gateway leads to a merging Exclusive Gateway, which me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nothing is expected to happen down this path. Thus, this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for moderating the conference call follows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re are three link elements in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la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entioned above, the Parallel Gateway marks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ly, there will b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pl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corresponds to the initia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lets the paren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now that the (sub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been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fter the Parallel Paths are Joi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“Evaluate Discussion Progress” is intended to occur only when all the parallel pat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ve completed, and thus, it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follows the closing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3A00-93E1-4EE2-8B2C-A6781105F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The Lower Parallel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lower parallel path of the fork has a number of objects and, as just described above,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mapped to BPEL4WS elements connected with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path also contains a Decision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can map to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as will happen later in the process, but in this situation the Deci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mapped t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olled by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irst object is a Task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 that has tw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s referring to two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re are two Targe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ause the Task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llowed by the Gateway with its two Gates. This is done instead of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ditionExpression for the Gate labeled “Yes” will map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expression checks the value of the “ConCall” property (set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Task) to see if there will be a conference call during the coming wee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Gate labeled “No” has a condition of default. For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this would map to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However, sinc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not being used,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st be the inverse of all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. The expression of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placed inside a “not” func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listed i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out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-element. This means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instantiated whe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since it has no dependenc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any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remaining elements of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Thus, they will not be instantiated until the source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Yes” Gate from the Gateway leads to a Timer Intermediate Event, which will map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of the wait will set to for 9am PDT on the next Thurs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also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o link to the following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No” Gate from the Gateway leads to a merging Exclusive Gateway, which me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nothing is expected to happen down this path. Thus, this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for moderating the conference call follows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re are three link elements in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la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entioned above, the Parallel Gateway marks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ly, there will b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pl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corresponds to the initia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lets the paren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now that the (sub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been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fter the Parallel Paths are Joi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“Evaluate Discussion Progress” is intended to occur only when all the parallel pat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ve completed, and thus, it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follows the closing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2011-F4E1-4253-95CD-4F26981FD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The Lower Parallel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lower parallel path of the fork has a number of objects and, as just described above,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mapped to BPEL4WS elements connected with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path also contains a Decision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can map to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as will happen later in the process, but in this situation the Deci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mapped t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olled by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irst object is a Task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 that has tw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s referring to two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re are two Targe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ause the Task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llowed by the Gateway with its two Gates. This is done instead of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ditionExpression for the Gate labeled “Yes” will map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expression checks the value of the “ConCall” property (set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Task) to see if there will be a conference call during the coming wee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Gate labeled “No” has a condition of default. For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this would map to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However, sinc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not being used,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st be the inverse of all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. The expression of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placed inside a “not” func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listed i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out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-element. This means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instantiated whe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since it has no dependenc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any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remaining elements of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Thus, they will not be instantiated until the source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Yes” Gate from the Gateway leads to a Timer Intermediate Event, which will map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of the wait will set to for 9am PDT on the next Thurs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also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o link to the following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No” Gate from the Gateway leads to a merging Exclusive Gateway, which me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nothing is expected to happen down this path. Thus, this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for moderating the conference call follows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re are three link elements in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la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entioned above, the Parallel Gateway marks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ly, there will b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pl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corresponds to the initia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lets the paren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now that the (sub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been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fter the Parallel Paths are Joi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“Evaluate Discussion Progress” is intended to occur only when all the parallel pat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ve completed, and thus, it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follows the closing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B965-5242-443F-B0BC-B96CFA54B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The Lower Parallel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lower parallel path of the fork has a number of objects and, as just described above,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mapped to BPEL4WS elements connected with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path also contains a Decision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can map to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as will happen later in the process, but in this situation the Deci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mapped t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rolled by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irst object is a Task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 that has tw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s referring to two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re are two Targe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ause the Task 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llowed by the Gateway with its two Gates. This is done instead of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ditionExpression for the Gate labeled “Yes” will map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expression checks the value of the “ConCall” property (set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Task) to see if there will be a conference call during the coming wee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Gate labeled “No” has a condition of default. For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this would map to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otherwis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However, sinc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witch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not being used,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st be the inverse of all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ransitionCondition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tivity. The expression of the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placed inside a “not” func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listed i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out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-element. This means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be instantiated when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gins since it has no dependenc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any other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The remaining elements of the higher-leve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. Thus, they will not be instantiated until the source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Yes” Gate from the Gateway leads to a Timer Intermediate Event, which will map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of the wait will set to for 9am PDT on the next Thurs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also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o link to the following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No” Gate from the Gateway leads to a merging Exclusive Gateway, which me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nothing is expected to happen down this path. Thus, this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for moderating the conference call follows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which will 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ynchronous)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that corresponds to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arge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ment 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revious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re are three link elements in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ll have a source of the fir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 target of the las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entioned above, the Parallel Gateway marks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lly, there will be 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pl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 the end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equenc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corresponds to the initial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lets the parent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now that the (sub)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been complet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fter the Parallel Paths are Join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Task “Evaluate Discussion Progress” is intended to occur only when all the parallel pat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ve completed, and thus, it wi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to an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vok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follows the closing of the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9125-7BCD-44E0-B04A-82B1E3D2D2E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149-4601-427C-B990-EACD09EF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4E1-B5C9-4FC3-8070-5AF21911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C68-CAFF-44BF-8417-47733C49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223-913C-4B28-A62F-FD2329B3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477-093A-4DA5-8A64-BACDBFCA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0CA-A194-4039-9E53-29962EC0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169-CC79-413E-9374-83FC7354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BA5-921D-43B9-AB80-2BFD58BE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C7CB-F675-4843-A549-66BAE1AD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53B-E99D-4E65-B31A-6396C3D1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D4E-1AB7-4C58-997C-6896C097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D32-ED0D-430A-A893-4D18A05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5843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©Les processus métiers: concepts, modèles et systèm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868B-233E-4EA9-9B68-CD7C341CDEB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aude.godart@univ-lorraine.loria.f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hyperlink" Target="http://fr.bonitasof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laude.godart@univ-lorraine.loria.f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-01.ibm.com/support/docview.wss?uid=swg27007197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jboss.org/jbpm.html" TargetMode="External"/><Relationship Id="rId2" Type="http://schemas.openxmlformats.org/officeDocument/2006/relationships/hyperlink" Target="http://fr.bonitasof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msdn.microsoft.com/fr-fr/library/vstudio/bb628617(v=vs.90)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image" Target="../media/image42.wmf"/><Relationship Id="rId10" Type="http://schemas.openxmlformats.org/officeDocument/2006/relationships/image" Target="../media/image43.wmf"/><Relationship Id="rId11" Type="http://schemas.openxmlformats.org/officeDocument/2006/relationships/image" Target="../media/image44.wmf"/><Relationship Id="rId12" Type="http://schemas.openxmlformats.org/officeDocument/2006/relationships/image" Target="../media/image45.wmf"/><Relationship Id="rId13" Type="http://schemas.openxmlformats.org/officeDocument/2006/relationships/image" Target="../media/image46.wmf"/><Relationship Id="rId14" Type="http://schemas.openxmlformats.org/officeDocument/2006/relationships/image" Target="../media/image47.wmf"/><Relationship Id="rId1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97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processus métiers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cepts, modèles et sy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ude Go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versité de lorraine. Es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ude.godart@univ-lorraine.loria.f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service de définition des proces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modélisation des processus en utilisant des notations (chapitres 2 et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modélisation des rôles, des ressources et les liaisons statiques entre les activités et les rôles, les activités et les applications ex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analyse et la simulation des processus (structuration, vivacité, blocage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gestion des applications cl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gestion des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gestion des corbeilles de bons de travail des participants en fonction des rô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possibilité de trier et d’organiser les b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instanciation, le démarrage, la suspension d’un processus, d’une activ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information sur l’état du processus et des 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 gestion des applications invoqu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gestion des connexions, déconnexions aux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gestion des activités invoquant un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rage/suspension/redémarrage/abandon d’une activité, gestion des signaux, notification de termina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gestion des données en entrée et en sortie des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’interopérabilité des processu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e d’interopé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a) mode chaî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b) mode hiérarch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c) mode synchronisation parallè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d) mode pair-à-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 notations pour l’interopérabilité (WfXML, XP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pporte les processus inter-organisationnels (chapitre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nteroperabilite"/>
          <p:cNvPicPr/>
          <p:nvPr/>
        </p:nvPicPr>
        <p:blipFill>
          <a:blip r:embed="rId1"/>
          <a:stretch/>
        </p:blipFill>
        <p:spPr>
          <a:xfrm>
            <a:off x="2506680" y="1600200"/>
            <a:ext cx="413064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’interopérabilité des processu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supervision des proces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gestion (évaluation, ajustement) des rôles, des utilis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figuration pour améliorer des paramètres (performance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inspection d’un processus en cours d’exé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modification « à la main » d’une instance de process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journalisation des information d’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heuristiques d’audit (taux moyen d’attente, d’exécution, taux d’utilisation des ressources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utilisateurs d’un SG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concepteurs et analystes de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élisation a priori et re-ingénierie du modèle de processus,  surveillance de l’exécution, analyse des traces d’exé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dministrateur de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sponsable du fonctionnement d’un processus à l’exécution; est informé de tout dysfonctionnement et réagit en fo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dministrateur opéra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sponsable du bon fonctionnement du matériel et du logic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utilisateurs fin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peut distinguer : les clients (simple utilisateurs, par exemple Web) , les techniciens métiers qui peuvent gérer des activités complexes, le service support qui fait le lien entre les de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systèmes intégrés de gestion de proces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poser l’ensemble des fonctionna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poser une large gamme d’outils pour l’intégration au système d’information de l’organisation hôte (interface BD 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urer un haut niveau de sûreté et de fiabilité pour garantir la continuité de l’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s : Bonita, IBM MQ Work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on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emière version LGPL e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va Bonita depuis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ibuteur à, et utilisateur de la PVM (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ocess Vitual Machin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jourd’hui Bonita, un des leaders du BPM en France :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.bonitasoft.com/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rganisation du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pts et 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élisation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alyse qualitative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alyse quantitative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ystèmes de gestion de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essus transac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ouverte de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o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280" y="160020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transparents qui suivent ont été réalisés avec la version de Bonita disponible e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puis, le système a évolué mais l’architecture présentée est encore repré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archiBonita"/>
          <p:cNvPicPr/>
          <p:nvPr/>
        </p:nvPicPr>
        <p:blipFill>
          <a:blip r:embed="rId1"/>
          <a:stretch/>
        </p:blipFill>
        <p:spPr>
          <a:xfrm>
            <a:off x="2695680" y="1600200"/>
            <a:ext cx="3752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 multitiers Java Enterprise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tes les interactions avec les utilisateurs se font à travers la « 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console workflow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 moteur de processu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ère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description et l’exécution des processus, ainsi que l’interface avec les programmes d’exé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mpla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ment Java Enterprise Edition (J2EE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Entity bean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our la sauvegarde des in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ava Authentification and Authorization services pour la gestion des droits d’accè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ava Transaction Service pour la gestion des transactions (long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ava Messaging pour la gestion des ale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ava Mail pour l’envoi des e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Gestion des utilisateurs</a:t>
            </a:r>
            <a:br>
              <a:rPr sz="36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 profils princip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bprofiluser"/>
          <p:cNvPicPr/>
          <p:nvPr/>
        </p:nvPicPr>
        <p:blipFill>
          <a:blip r:embed="rId1"/>
          <a:stretch/>
        </p:blipFill>
        <p:spPr>
          <a:xfrm>
            <a:off x="1039680" y="2230560"/>
            <a:ext cx="70646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fil utilisat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marrage d’un process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raitement des 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sualisation des processus et des activités dans lesquels il est impliqu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ster les informations sur les activités terminé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dition d’une con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ondition"/>
          <p:cNvPicPr/>
          <p:nvPr/>
        </p:nvPicPr>
        <p:blipFill>
          <a:blip r:embed="rId1"/>
          <a:stretch/>
        </p:blipFill>
        <p:spPr>
          <a:xfrm>
            <a:off x="623880" y="1600200"/>
            <a:ext cx="789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at d’une instance de proces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worklist"/>
          <p:cNvPicPr/>
          <p:nvPr/>
        </p:nvPicPr>
        <p:blipFill>
          <a:blip r:embed="rId1"/>
          <a:stretch/>
        </p:blipFill>
        <p:spPr>
          <a:xfrm>
            <a:off x="457200" y="2023920"/>
            <a:ext cx="822960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fil administrateu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rienté syst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ère la base de données des utilis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finit le profil des utilis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376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estion des rôles et des utilisate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dusermanagement"/>
          <p:cNvPicPr/>
          <p:nvPr/>
        </p:nvPicPr>
        <p:blipFill>
          <a:blip r:embed="rId1"/>
          <a:stretch/>
        </p:blipFill>
        <p:spPr>
          <a:xfrm>
            <a:off x="1714680" y="1901880"/>
            <a:ext cx="5715000" cy="2463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573480" y="4941720"/>
            <a:ext cx="80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défaut, Bonita fournit  un référentiel de gestion des utilisateurs s’appuy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r une base de donné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130120"/>
            <a:ext cx="820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hapitre 4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èmes de gestion de proces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ude Go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versité de lorraine. Es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ude.godart@univ-lorraine.loria.f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estion des rôles et des utilisate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duserldap"/>
          <p:cNvPicPr/>
          <p:nvPr/>
        </p:nvPicPr>
        <p:blipFill>
          <a:blip r:embed="rId1"/>
          <a:stretch/>
        </p:blipFill>
        <p:spPr>
          <a:xfrm>
            <a:off x="1585800" y="1557360"/>
            <a:ext cx="5970600" cy="3200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762480" y="508464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is ce référentiel peut être remplacé ou interconnecté à un référent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entreprise existant, typiquement LD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fil opérate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ut intervenir sur le déroulement des instances de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estion des erreurs en utilisant les traces et les histo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istorique d’un proces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istoric"/>
          <p:cNvPicPr/>
          <p:nvPr/>
        </p:nvPicPr>
        <p:blipFill>
          <a:blip r:embed="rId1"/>
          <a:stretch/>
        </p:blipFill>
        <p:spPr>
          <a:xfrm>
            <a:off x="1370160" y="1600200"/>
            <a:ext cx="6403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moteur d’exéc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vironnement Java 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nées des processus gérées par l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JB du serveur d’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ockage des données par le moteur de transformation Objet/Rela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tification des clients, des outils … avec J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prète des descriptions de processus en XP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activités, les transitions s’exécutent comme des transactions J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nectivité vers des systèmes d’information par Web services ou connecteur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Java Connect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ssibilité d’associer des actions aux événements du cycle de vie des activités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Hook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’outil de définition de proces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til graphique ProEd qui génère en sortie des description XP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finition des activités, des transitions, des participants, des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hook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, des sous-processus, des blocs d’activ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lugi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mulaires de définition des activ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diteur Pro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essaiproed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ormulaire de définition d’activ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formactivity"/>
          <p:cNvPicPr/>
          <p:nvPr/>
        </p:nvPicPr>
        <p:blipFill>
          <a:blip r:embed="rId1"/>
          <a:stretch/>
        </p:blipFill>
        <p:spPr>
          <a:xfrm>
            <a:off x="3056040" y="1600200"/>
            <a:ext cx="303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rmulaire d’une activ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xforms"/>
          <p:cNvPicPr/>
          <p:nvPr/>
        </p:nvPicPr>
        <p:blipFill>
          <a:blip r:embed="rId1"/>
          <a:stretch/>
        </p:blipFill>
        <p:spPr>
          <a:xfrm>
            <a:off x="1628640" y="2714760"/>
            <a:ext cx="5886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processus de gestion de voyage avec Pro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voyageproed"/>
          <p:cNvPicPr/>
          <p:nvPr/>
        </p:nvPicPr>
        <p:blipFill>
          <a:blip r:embed="rId1"/>
          <a:stretch/>
        </p:blipFill>
        <p:spPr>
          <a:xfrm>
            <a:off x="1047600" y="2509920"/>
            <a:ext cx="70488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troduction de Swiml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voyageproedswimlane"/>
          <p:cNvPicPr/>
          <p:nvPr/>
        </p:nvPicPr>
        <p:blipFill>
          <a:blip r:embed="rId1"/>
          <a:stretch/>
        </p:blipFill>
        <p:spPr>
          <a:xfrm>
            <a:off x="2063880" y="1600200"/>
            <a:ext cx="501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epts génér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èle de référence de la Wf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ystèmes de gestion de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stèmes intégrés (Bonita, IBM MQ Work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ibliothèques de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VM, WW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services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PMN vers BPEL4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emple de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Hook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ans un processus XPD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pay_hookcode_Page_3"/>
          <p:cNvPicPr/>
          <p:nvPr/>
        </p:nvPicPr>
        <p:blipFill>
          <a:blip r:embed="rId1"/>
          <a:stretch/>
        </p:blipFill>
        <p:spPr>
          <a:xfrm>
            <a:off x="1370160" y="1600200"/>
            <a:ext cx="6403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écution d’un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H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pay_hook"/>
          <p:cNvPicPr/>
          <p:nvPr/>
        </p:nvPicPr>
        <p:blipFill>
          <a:blip r:embed="rId1"/>
          <a:stretch/>
        </p:blipFill>
        <p:spPr>
          <a:xfrm>
            <a:off x="1371600" y="2433600"/>
            <a:ext cx="6400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ministration de Boni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dministrationf"/>
          <p:cNvPicPr/>
          <p:nvPr/>
        </p:nvPicPr>
        <p:blipFill>
          <a:blip r:embed="rId1"/>
          <a:stretch/>
        </p:blipFill>
        <p:spPr>
          <a:xfrm>
            <a:off x="1371600" y="1600200"/>
            <a:ext cx="639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estion des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stion de processus de longue dur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que opération système d’écriture et de mise à jour de l’état du processus lance une  transaction Java 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gestion des opération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ommi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Rollback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st déléguée au container EJ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st possible de choisir la politique de gestion transactionnelle de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h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anmoins, il s’agit de transactions « classiques », pas de transactions avancées comme proposées WS-Coordination/Transaction (Chapitre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BM MQ Work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stème intégré com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hitecture à 3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workflow comme un intergiciel entre le serveur de base de données et les application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égration par échange de messa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lus grande fiabilité, passage à l’éch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énéficie du contexte 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-01.ibm.com/support/docview.wss?uid=swg27007197#9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ibmwfarchi"/>
          <p:cNvPicPr/>
          <p:nvPr/>
        </p:nvPicPr>
        <p:blipFill>
          <a:blip r:embed="rId1"/>
          <a:stretch/>
        </p:blipFill>
        <p:spPr>
          <a:xfrm>
            <a:off x="2028960" y="1700280"/>
            <a:ext cx="508464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556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tégration par queues de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ibmwfarchiweb"/>
          <p:cNvPicPr/>
          <p:nvPr/>
        </p:nvPicPr>
        <p:blipFill>
          <a:blip r:embed="rId1"/>
          <a:stretch/>
        </p:blipFill>
        <p:spPr>
          <a:xfrm>
            <a:off x="2927520" y="1413000"/>
            <a:ext cx="328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PI IBM MQ Work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ibmwfapi"/>
          <p:cNvPicPr/>
          <p:nvPr/>
        </p:nvPicPr>
        <p:blipFill>
          <a:blip r:embed="rId1"/>
          <a:stretch/>
        </p:blipFill>
        <p:spPr>
          <a:xfrm>
            <a:off x="2011320" y="1916280"/>
            <a:ext cx="486576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clusion sur les systèmes intég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onctionnalités de plus en plus standardisées mais avec des mises en œuvre diffé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belle réussite du monde du logiciel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contribution à la P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réation en 2009 de la société Bonita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BM MQ 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standard du monde 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énéficie du contexte IBM (intégration fiable par queues de mess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bibliothèques de proces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troduc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ctif d’un système de gestion de processus (SGP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a logique d’un processus et en contrôler le respect à l’exé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surer l’interface entre ces fonctionnalités, les utilisateurs et les programmes d’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crè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outils variés avec des architectures var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is un ensemble standardisé de composants fonctionnels  (modèle de la Wf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on retrouve ces fonctionnalités totalement ou en partie dans les outils, leurs mises en œuvre sont assez dive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ensemble de composants bas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une définition à la carte de processus lé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énéralement à embarquer dans des applications plus l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ux approch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PVM du monde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WWF du monde 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Process Virtual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yau de SGP du monde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ndé sur JB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(Java Business Process Management,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jboss.org/jbpm.htm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 et Bonita (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.bonitasoft.co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PVM propose un noyau de modèle de processus basique mais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inci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s les modèles ont en comm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’être représentés comme un graphe pour faciliter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’exprimer d’une façon ou d’une autre des flots d’exé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’être potentiellement de longue durée et d’inclure des états d’attente d’évén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s varient en fonction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modèle de persistance cho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types de transactions qui encapsulent l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services annexes uti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liaisons avec les applications de l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yau de base</a:t>
            </a:r>
            <a:br>
              <a:rPr sz="36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èle de graphes de processus, définition du comportement d’un nœud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pvmGraphe"/>
          <p:cNvPicPr/>
          <p:nvPr/>
        </p:nvPicPr>
        <p:blipFill>
          <a:blip r:embed="rId1"/>
          <a:stretch/>
        </p:blipFill>
        <p:spPr>
          <a:xfrm>
            <a:off x="1547640" y="1998720"/>
            <a:ext cx="6026400" cy="2438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2484360" y="4676760"/>
            <a:ext cx="4572000" cy="119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interface Execut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id execute (Execution execution) throws Excep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odèle d’exécution de PV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vmExecution"/>
          <p:cNvPicPr/>
          <p:nvPr/>
        </p:nvPicPr>
        <p:blipFill>
          <a:blip r:embed="rId1"/>
          <a:stretch/>
        </p:blipFill>
        <p:spPr>
          <a:xfrm>
            <a:off x="3013200" y="1844640"/>
            <a:ext cx="415116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618480" y="4600440"/>
            <a:ext cx="811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une exécution est associée un pointeur qui pointe sur le noeud co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xécution attend un événement externe qui déclenche la méthode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proc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u nœud courant qui permet de décider quelle transition franc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finition d’un nœud de type</a:t>
            </a:r>
            <a:br>
              <a:rPr sz="4000"/>
            </a:b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Tâche humain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662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class TaskNode implements Execut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ing task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void execute (Execution executio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affecter une personne responsable de cette tâ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ser assignedUser = calculateUser(taskName, executi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créer la tâ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task = new Task(taskName, assignedUsr, executi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ajouter la tâche au répertoire de tâ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Repository taskRepository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cution.getContext().getTaskRepositor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Repository.addTask(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finition d’un nœud de type 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Courr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2879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class EmailNode implements Execut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ing recipi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ing subj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ing t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blic void execute (Execution execution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 envoyer l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ndEmail(recipient,subject,text,executio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/ propager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cution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tens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PVMexempleab"/>
          <p:cNvPicPr/>
          <p:nvPr/>
        </p:nvPicPr>
        <p:blipFill>
          <a:blip r:embed="rId1"/>
          <a:stretch/>
        </p:blipFill>
        <p:spPr>
          <a:xfrm>
            <a:off x="1903320" y="1600200"/>
            <a:ext cx="533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tens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PVMexemplecd"/>
          <p:cNvPicPr/>
          <p:nvPr/>
        </p:nvPicPr>
        <p:blipFill>
          <a:blip r:embed="rId1"/>
          <a:stretch/>
        </p:blipFill>
        <p:spPr>
          <a:xfrm>
            <a:off x="1496880" y="1413000"/>
            <a:ext cx="615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Window Workflow Foun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ctif semblable à P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s conçu pour le monde 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sdn.microsoft.com/fr-fr/library/vstudio/bb628617(v=vs.90).aspx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énéficie du contexte et permet de générer aussi bie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processus class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flots de page d’un sit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processus de circulation de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troduc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ux grandes approch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suites intégrées de gestion de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lution complète et générale pour une large gamme d’applications distribu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onita, IBM MQ Workflow, W4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bibliothèques de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nsemble de composants basiques pour une définition à la carte de SGP légers souvent embarqués dans des applications plus l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ess Virtual Machine, Window Workflow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rchitecture : 3 couches princip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wwfarchitecture"/>
          <p:cNvPicPr/>
          <p:nvPr/>
        </p:nvPicPr>
        <p:blipFill>
          <a:blip r:embed="rId1"/>
          <a:stretch/>
        </p:blipFill>
        <p:spPr>
          <a:xfrm>
            <a:off x="2195640" y="1844640"/>
            <a:ext cx="460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finition d’une activité en étendant une activité exist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392200"/>
            <a:ext cx="8229600" cy="31975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blic class CreateActivity : Activit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blic string Assigne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ublic DateTime DueDat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otected override ActivityExecutionStatus Execut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tivityExecutionContext contex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/ assign task to assigne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turn ActivityExecutionStatus.Clos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til de modélisation de processu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(intégré à Visual Studio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wwfexpense2"/>
          <p:cNvPicPr/>
          <p:nvPr/>
        </p:nvPicPr>
        <p:blipFill>
          <a:blip r:embed="rId1"/>
          <a:stretch/>
        </p:blipFill>
        <p:spPr>
          <a:xfrm>
            <a:off x="2792520" y="1639800"/>
            <a:ext cx="355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ébergement d’un proces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wwfprocedeheberge"/>
          <p:cNvPicPr/>
          <p:nvPr/>
        </p:nvPicPr>
        <p:blipFill>
          <a:blip r:embed="rId1"/>
          <a:stretch/>
        </p:blipFill>
        <p:spPr>
          <a:xfrm>
            <a:off x="3606840" y="1484280"/>
            <a:ext cx="1928880" cy="3492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1050120" y="5373720"/>
            <a:ext cx="73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application de la famille .NET 2007 intégre WWF en son co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Encre 1" descr=""/>
          <p:cNvPicPr/>
          <p:nvPr/>
        </p:nvPicPr>
        <p:blipFill>
          <a:blip r:embed="rId2"/>
          <a:stretch/>
        </p:blipFill>
        <p:spPr>
          <a:xfrm>
            <a:off x="4908600" y="5288040"/>
            <a:ext cx="67320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ébergement du moteur d’exéc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197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kflowRuntime runtime = new WorkflowRun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untime.AddServic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kflowInstance instance = runtime.CreateWorkflow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ance.Star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uid id = instance.Instanc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596520" y="4437000"/>
            <a:ext cx="77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tanciation du moteur de processus, ajout de servic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réation d’une instance de process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marrage de l’instance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bibliothèques de processu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mettent de répondre à des demandes plutôt simples sans gros investissement ni gros déploi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effort de programmation est néanmoins encore nécessaire, mais beaucoup moins important qu’en partant  de r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 apporte la garantie d’une forme d’interopérabi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services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activités comme des services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logique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PEL (Business Process Execution Langu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ntaxiquement un milieu entre BPMN et XP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activités comme des services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à coins arrondis 5"/>
          <p:cNvSpPr/>
          <p:nvPr/>
        </p:nvSpPr>
        <p:spPr>
          <a:xfrm>
            <a:off x="1692360" y="436572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rvic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à coins arrondis 6"/>
          <p:cNvSpPr/>
          <p:nvPr/>
        </p:nvSpPr>
        <p:spPr>
          <a:xfrm>
            <a:off x="2941560" y="436572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rvic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à coins arrondis 7"/>
          <p:cNvSpPr/>
          <p:nvPr/>
        </p:nvSpPr>
        <p:spPr>
          <a:xfrm>
            <a:off x="4140360" y="4351320"/>
            <a:ext cx="100800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rvic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à coins arrondis 8"/>
          <p:cNvSpPr/>
          <p:nvPr/>
        </p:nvSpPr>
        <p:spPr>
          <a:xfrm>
            <a:off x="5364000" y="4351320"/>
            <a:ext cx="1008360" cy="4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rvic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à coins arrondis 9"/>
          <p:cNvSpPr/>
          <p:nvPr/>
        </p:nvSpPr>
        <p:spPr>
          <a:xfrm>
            <a:off x="6929280" y="4359240"/>
            <a:ext cx="1008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rvic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1405080" y="5014800"/>
            <a:ext cx="6840360" cy="576360"/>
          </a:xfrm>
          <a:prstGeom prst="rect">
            <a:avLst/>
          </a:prstGeom>
          <a:solidFill>
            <a:srgbClr val="f2f2f2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us ( … BPEL …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à coins arrondis 11"/>
          <p:cNvSpPr/>
          <p:nvPr/>
        </p:nvSpPr>
        <p:spPr>
          <a:xfrm>
            <a:off x="1908000" y="5746680"/>
            <a:ext cx="100836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à coins arrondis 12"/>
          <p:cNvSpPr/>
          <p:nvPr/>
        </p:nvSpPr>
        <p:spPr>
          <a:xfrm>
            <a:off x="3157560" y="5746680"/>
            <a:ext cx="1008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à coins arrondis 13"/>
          <p:cNvSpPr/>
          <p:nvPr/>
        </p:nvSpPr>
        <p:spPr>
          <a:xfrm>
            <a:off x="4356000" y="5732640"/>
            <a:ext cx="100800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à coins arrondis 14"/>
          <p:cNvSpPr/>
          <p:nvPr/>
        </p:nvSpPr>
        <p:spPr>
          <a:xfrm>
            <a:off x="6405480" y="5732640"/>
            <a:ext cx="1008000" cy="43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 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à coins arrondis 15"/>
          <p:cNvSpPr/>
          <p:nvPr/>
        </p:nvSpPr>
        <p:spPr>
          <a:xfrm>
            <a:off x="7629480" y="5740560"/>
            <a:ext cx="10080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 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Imag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6294240" cy="1882440"/>
          </a:xfrm>
          <a:prstGeom prst="rect">
            <a:avLst/>
          </a:prstGeom>
          <a:ln w="0">
            <a:noFill/>
          </a:ln>
        </p:spPr>
      </p:pic>
      <p:cxnSp>
        <p:nvCxnSpPr>
          <p:cNvPr id="200" name="Connecteur droit avec flèche 4"/>
          <p:cNvCxnSpPr>
            <a:endCxn id="188" idx="0"/>
          </p:cNvCxnSpPr>
          <p:nvPr/>
        </p:nvCxnSpPr>
        <p:spPr>
          <a:xfrm>
            <a:off x="971640" y="2863800"/>
            <a:ext cx="1226160" cy="1502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01" name="Connecteur droit avec flèche 18"/>
          <p:cNvCxnSpPr>
            <a:endCxn id="189" idx="0"/>
          </p:cNvCxnSpPr>
          <p:nvPr/>
        </p:nvCxnSpPr>
        <p:spPr>
          <a:xfrm>
            <a:off x="2050560" y="2565000"/>
            <a:ext cx="1396440" cy="180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02" name="Connecteur droit avec flèche 22"/>
          <p:cNvCxnSpPr>
            <a:endCxn id="190" idx="0"/>
          </p:cNvCxnSpPr>
          <p:nvPr/>
        </p:nvCxnSpPr>
        <p:spPr>
          <a:xfrm>
            <a:off x="2050920" y="3141720"/>
            <a:ext cx="2594880" cy="12103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03" name="Connecteur droit avec flèche 25"/>
          <p:cNvCxnSpPr>
            <a:endCxn id="191" idx="0"/>
          </p:cNvCxnSpPr>
          <p:nvPr/>
        </p:nvCxnSpPr>
        <p:spPr>
          <a:xfrm>
            <a:off x="3058920" y="2863800"/>
            <a:ext cx="2810520" cy="1488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04" name="ZoneTexte 27"/>
          <p:cNvSpPr/>
          <p:nvPr/>
        </p:nvSpPr>
        <p:spPr>
          <a:xfrm>
            <a:off x="5456160" y="3614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28"/>
          <p:cNvSpPr/>
          <p:nvPr/>
        </p:nvSpPr>
        <p:spPr>
          <a:xfrm>
            <a:off x="6413760" y="4354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ervic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Espace réservé du contenu 4" descr=""/>
          <p:cNvPicPr/>
          <p:nvPr/>
        </p:nvPicPr>
        <p:blipFill>
          <a:blip r:embed="rId1"/>
          <a:stretch/>
        </p:blipFill>
        <p:spPr>
          <a:xfrm>
            <a:off x="1851120" y="2327400"/>
            <a:ext cx="54417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ppel de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Espace réservé du contenu 4" descr=""/>
          <p:cNvPicPr/>
          <p:nvPr/>
        </p:nvPicPr>
        <p:blipFill>
          <a:blip r:embed="rId1"/>
          <a:stretch/>
        </p:blipFill>
        <p:spPr>
          <a:xfrm>
            <a:off x="457200" y="2112840"/>
            <a:ext cx="8229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composants d’un SGWf (WfM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rchitectureglobale2"/>
          <p:cNvPicPr/>
          <p:nvPr/>
        </p:nvPicPr>
        <p:blipFill>
          <a:blip r:embed="rId1"/>
          <a:stretch/>
        </p:blipFill>
        <p:spPr>
          <a:xfrm>
            <a:off x="1725480" y="1413000"/>
            <a:ext cx="56548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osition de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Espace réservé du contenu 4" descr=""/>
          <p:cNvPicPr/>
          <p:nvPr/>
        </p:nvPicPr>
        <p:blipFill>
          <a:blip r:embed="rId1"/>
          <a:stretch/>
        </p:blipFill>
        <p:spPr>
          <a:xfrm>
            <a:off x="1035000" y="1609560"/>
            <a:ext cx="707400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siness Process Execution Languag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 Web Services</a:t>
            </a:r>
            <a:br>
              <a:rPr sz="3200"/>
            </a:b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(BPEL4WS en court, BPEL en encore plus cou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struc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ctivités de bas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&lt;assign&gt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gestion de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&lt;invoke&gt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appeler u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&lt;receive&gt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recevoir une ré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lot de contrôl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&lt;sequence&gt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 exécution en sé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&lt;while&gt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oucle tant-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&lt;switch&gt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di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&lt;flow&gt;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xécution parallè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 4" descr=""/>
          <p:cNvPicPr/>
          <p:nvPr/>
        </p:nvPicPr>
        <p:blipFill>
          <a:blip r:embed="rId1"/>
          <a:stretch/>
        </p:blipFill>
        <p:spPr>
          <a:xfrm>
            <a:off x="539640" y="2862360"/>
            <a:ext cx="8209080" cy="20876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147760" y="3149640"/>
            <a:ext cx="1656000" cy="1512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956120" y="2862360"/>
            <a:ext cx="2016360" cy="2016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539640" y="2436840"/>
            <a:ext cx="8209080" cy="2585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ZoneTexte 8"/>
          <p:cNvSpPr/>
          <p:nvPr/>
        </p:nvSpPr>
        <p:spPr>
          <a:xfrm>
            <a:off x="548640" y="208764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10"/>
          <p:cNvSpPr/>
          <p:nvPr/>
        </p:nvSpPr>
        <p:spPr>
          <a:xfrm>
            <a:off x="2110320" y="28209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low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ZoneTexte 12"/>
          <p:cNvSpPr/>
          <p:nvPr/>
        </p:nvSpPr>
        <p:spPr>
          <a:xfrm>
            <a:off x="4897080" y="25336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swit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llipse 13"/>
          <p:cNvSpPr/>
          <p:nvPr/>
        </p:nvSpPr>
        <p:spPr>
          <a:xfrm>
            <a:off x="179280" y="1268280"/>
            <a:ext cx="4614840" cy="460872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14"/>
          <p:cNvSpPr/>
          <p:nvPr/>
        </p:nvSpPr>
        <p:spPr>
          <a:xfrm>
            <a:off x="1145520" y="587700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Partie décrite en BPEL </a:t>
            </a:r>
            <a:r>
              <a:rPr b="0" lang="fr-FR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age 4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5183280" cy="6264360"/>
          </a:xfrm>
          <a:prstGeom prst="rect">
            <a:avLst/>
          </a:prstGeom>
          <a:ln w="0">
            <a:noFill/>
          </a:ln>
        </p:spPr>
      </p:pic>
      <p:pic>
        <p:nvPicPr>
          <p:cNvPr id="225" name="Encre 5" descr=""/>
          <p:cNvPicPr/>
          <p:nvPr/>
        </p:nvPicPr>
        <p:blipFill>
          <a:blip r:embed="rId2"/>
          <a:stretch/>
        </p:blipFill>
        <p:spPr>
          <a:xfrm>
            <a:off x="1852560" y="452520"/>
            <a:ext cx="723960" cy="127080"/>
          </a:xfrm>
          <a:prstGeom prst="rect">
            <a:avLst/>
          </a:prstGeom>
          <a:ln w="0">
            <a:noFill/>
          </a:ln>
        </p:spPr>
      </p:pic>
      <p:pic>
        <p:nvPicPr>
          <p:cNvPr id="226" name="Encre 6" descr=""/>
          <p:cNvPicPr/>
          <p:nvPr/>
        </p:nvPicPr>
        <p:blipFill>
          <a:blip r:embed="rId3"/>
          <a:stretch/>
        </p:blipFill>
        <p:spPr>
          <a:xfrm>
            <a:off x="1773360" y="433440"/>
            <a:ext cx="901440" cy="133200"/>
          </a:xfrm>
          <a:prstGeom prst="rect">
            <a:avLst/>
          </a:prstGeom>
          <a:ln w="0">
            <a:noFill/>
          </a:ln>
        </p:spPr>
      </p:pic>
      <p:pic>
        <p:nvPicPr>
          <p:cNvPr id="227" name="Encre 7" descr=""/>
          <p:cNvPicPr/>
          <p:nvPr/>
        </p:nvPicPr>
        <p:blipFill>
          <a:blip r:embed="rId4"/>
          <a:stretch/>
        </p:blipFill>
        <p:spPr>
          <a:xfrm>
            <a:off x="1760400" y="6467400"/>
            <a:ext cx="973440" cy="135000"/>
          </a:xfrm>
          <a:prstGeom prst="rect">
            <a:avLst/>
          </a:prstGeom>
          <a:ln w="0">
            <a:noFill/>
          </a:ln>
        </p:spPr>
      </p:pic>
      <p:pic>
        <p:nvPicPr>
          <p:cNvPr id="228" name="Encre 8" descr=""/>
          <p:cNvPicPr/>
          <p:nvPr/>
        </p:nvPicPr>
        <p:blipFill>
          <a:blip r:embed="rId5"/>
          <a:stretch/>
        </p:blipFill>
        <p:spPr>
          <a:xfrm>
            <a:off x="2112840" y="2346480"/>
            <a:ext cx="658800" cy="133200"/>
          </a:xfrm>
          <a:prstGeom prst="rect">
            <a:avLst/>
          </a:prstGeom>
          <a:ln w="0">
            <a:noFill/>
          </a:ln>
        </p:spPr>
      </p:pic>
      <p:pic>
        <p:nvPicPr>
          <p:cNvPr id="229" name="Encre 9" descr=""/>
          <p:cNvPicPr/>
          <p:nvPr/>
        </p:nvPicPr>
        <p:blipFill>
          <a:blip r:embed="rId6"/>
          <a:stretch/>
        </p:blipFill>
        <p:spPr>
          <a:xfrm>
            <a:off x="2022480" y="3130560"/>
            <a:ext cx="801720" cy="139680"/>
          </a:xfrm>
          <a:prstGeom prst="rect">
            <a:avLst/>
          </a:prstGeom>
          <a:ln w="0">
            <a:noFill/>
          </a:ln>
        </p:spPr>
      </p:pic>
      <p:pic>
        <p:nvPicPr>
          <p:cNvPr id="230" name="Encre 10" descr=""/>
          <p:cNvPicPr/>
          <p:nvPr/>
        </p:nvPicPr>
        <p:blipFill>
          <a:blip r:embed="rId7"/>
          <a:stretch/>
        </p:blipFill>
        <p:spPr>
          <a:xfrm>
            <a:off x="2112840" y="3470400"/>
            <a:ext cx="658800" cy="126720"/>
          </a:xfrm>
          <a:prstGeom prst="rect">
            <a:avLst/>
          </a:prstGeom>
          <a:ln w="0">
            <a:noFill/>
          </a:ln>
        </p:spPr>
      </p:pic>
      <p:pic>
        <p:nvPicPr>
          <p:cNvPr id="231" name="Encre 11" descr=""/>
          <p:cNvPicPr/>
          <p:nvPr/>
        </p:nvPicPr>
        <p:blipFill>
          <a:blip r:embed="rId8"/>
          <a:stretch/>
        </p:blipFill>
        <p:spPr>
          <a:xfrm>
            <a:off x="2112840" y="4280040"/>
            <a:ext cx="843120" cy="126720"/>
          </a:xfrm>
          <a:prstGeom prst="rect">
            <a:avLst/>
          </a:prstGeom>
          <a:ln w="0">
            <a:noFill/>
          </a:ln>
        </p:spPr>
      </p:pic>
      <p:pic>
        <p:nvPicPr>
          <p:cNvPr id="232" name="Encre 12" descr=""/>
          <p:cNvPicPr/>
          <p:nvPr/>
        </p:nvPicPr>
        <p:blipFill>
          <a:blip r:embed="rId9"/>
          <a:stretch/>
        </p:blipFill>
        <p:spPr>
          <a:xfrm>
            <a:off x="2100240" y="4410000"/>
            <a:ext cx="658800" cy="141480"/>
          </a:xfrm>
          <a:prstGeom prst="rect">
            <a:avLst/>
          </a:prstGeom>
          <a:ln w="0">
            <a:noFill/>
          </a:ln>
        </p:spPr>
      </p:pic>
      <p:pic>
        <p:nvPicPr>
          <p:cNvPr id="233" name="Encre 13" descr=""/>
          <p:cNvPicPr/>
          <p:nvPr/>
        </p:nvPicPr>
        <p:blipFill>
          <a:blip r:embed="rId10"/>
          <a:stretch/>
        </p:blipFill>
        <p:spPr>
          <a:xfrm>
            <a:off x="2093760" y="5657760"/>
            <a:ext cx="854280" cy="173160"/>
          </a:xfrm>
          <a:prstGeom prst="rect">
            <a:avLst/>
          </a:prstGeom>
          <a:ln w="0">
            <a:noFill/>
          </a:ln>
        </p:spPr>
      </p:pic>
      <p:pic>
        <p:nvPicPr>
          <p:cNvPr id="234" name="Encre 14" descr=""/>
          <p:cNvPicPr/>
          <p:nvPr/>
        </p:nvPicPr>
        <p:blipFill>
          <a:blip r:embed="rId11"/>
          <a:stretch/>
        </p:blipFill>
        <p:spPr>
          <a:xfrm>
            <a:off x="1943280" y="1400040"/>
            <a:ext cx="620640" cy="133560"/>
          </a:xfrm>
          <a:prstGeom prst="rect">
            <a:avLst/>
          </a:prstGeom>
          <a:ln w="0">
            <a:noFill/>
          </a:ln>
        </p:spPr>
      </p:pic>
      <p:pic>
        <p:nvPicPr>
          <p:cNvPr id="235" name="Encre 15" descr=""/>
          <p:cNvPicPr/>
          <p:nvPr/>
        </p:nvPicPr>
        <p:blipFill>
          <a:blip r:embed="rId12"/>
          <a:stretch/>
        </p:blipFill>
        <p:spPr>
          <a:xfrm>
            <a:off x="1930320" y="5854680"/>
            <a:ext cx="679680" cy="127080"/>
          </a:xfrm>
          <a:prstGeom prst="rect">
            <a:avLst/>
          </a:prstGeom>
          <a:ln w="0">
            <a:noFill/>
          </a:ln>
        </p:spPr>
      </p:pic>
      <p:pic>
        <p:nvPicPr>
          <p:cNvPr id="236" name="Encre 16" descr=""/>
          <p:cNvPicPr/>
          <p:nvPr/>
        </p:nvPicPr>
        <p:blipFill>
          <a:blip r:embed="rId13"/>
          <a:stretch/>
        </p:blipFill>
        <p:spPr>
          <a:xfrm>
            <a:off x="1957320" y="603360"/>
            <a:ext cx="723960" cy="145800"/>
          </a:xfrm>
          <a:prstGeom prst="rect">
            <a:avLst/>
          </a:prstGeom>
          <a:ln w="0">
            <a:noFill/>
          </a:ln>
        </p:spPr>
      </p:pic>
      <p:pic>
        <p:nvPicPr>
          <p:cNvPr id="237" name="Encre 17" descr=""/>
          <p:cNvPicPr/>
          <p:nvPr/>
        </p:nvPicPr>
        <p:blipFill>
          <a:blip r:embed="rId14"/>
          <a:stretch/>
        </p:blipFill>
        <p:spPr>
          <a:xfrm>
            <a:off x="1911240" y="1216080"/>
            <a:ext cx="1036800" cy="1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n exemple plus comp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Arial"/>
              </a:rPr>
              <a:t>Les transparents 76 à 100 viennent de cette présentation accessible sur leWeb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335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146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ing BPEL4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225440" y="3573360"/>
            <a:ext cx="7048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hard C. Gro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. Product Manager, Togethe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rland Softwar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nference Borland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PMN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PEL4W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0088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PMN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PEL4WS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386000" y="1933560"/>
            <a:ext cx="637200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PMN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PEL4WS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143000" y="1873080"/>
            <a:ext cx="7315200" cy="40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explore the diagram elements and mappings of BPMN to BPEL4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is E-mail Vot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BPMN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here is on Discussion Cycle sub-process for 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mail Vo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905120" y="1708200"/>
            <a:ext cx="5410080" cy="4357800"/>
          </a:xfrm>
          <a:prstGeom prst="rect">
            <a:avLst/>
          </a:prstGeom>
          <a:ln w="0">
            <a:noFill/>
          </a:ln>
        </p:spPr>
      </p:pic>
      <p:sp>
        <p:nvSpPr>
          <p:cNvPr id="252" name="Oval 5"/>
          <p:cNvSpPr/>
          <p:nvPr/>
        </p:nvSpPr>
        <p:spPr>
          <a:xfrm>
            <a:off x="2514600" y="2590920"/>
            <a:ext cx="914400" cy="6094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modèle de référence de la WfM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referencemodel2"/>
          <p:cNvPicPr/>
          <p:nvPr/>
        </p:nvPicPr>
        <p:blipFill>
          <a:blip r:embed="rId1"/>
          <a:stretch/>
        </p:blipFill>
        <p:spPr>
          <a:xfrm>
            <a:off x="1144440" y="1557360"/>
            <a:ext cx="6853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ping Discussi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Cyc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-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BPD (of BPMN) maps to BPEL4W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tion from higher-level process means it will start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n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3891240" y="3733920"/>
            <a:ext cx="4766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process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name="Discussion_Cycl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sequenc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receiv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tnerLink="Internal" portType="tns:processPort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peration="call_Discussion_Cycle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variable="processData" createInstance="Ye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reply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tnerLink="Internal" portType="tns:processPort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peration="call_Discussion_Cycle" variable="processData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sequenc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process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156204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8"/>
          <p:cNvSpPr/>
          <p:nvPr/>
        </p:nvSpPr>
        <p:spPr>
          <a:xfrm>
            <a:off x="3200400" y="4648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685800" y="1700280"/>
            <a:ext cx="7719840" cy="4302000"/>
          </a:xfrm>
          <a:prstGeom prst="rect">
            <a:avLst/>
          </a:prstGeom>
          <a:ln w="0">
            <a:noFill/>
          </a:ln>
        </p:spPr>
      </p:pic>
      <p:sp>
        <p:nvSpPr>
          <p:cNvPr id="260" name="Oval 5"/>
          <p:cNvSpPr/>
          <p:nvPr/>
        </p:nvSpPr>
        <p:spPr>
          <a:xfrm>
            <a:off x="1555920" y="3421080"/>
            <a:ext cx="1295280" cy="8380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unc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Announce Issues for Discussion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ps to a BPEL4W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1847880" cy="120960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5"/>
          <p:cNvSpPr/>
          <p:nvPr/>
        </p:nvSpPr>
        <p:spPr>
          <a:xfrm>
            <a:off x="3200400" y="42670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4152600" y="3657600"/>
            <a:ext cx="444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name="AnnounceIssuesforDiscussion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rtnerLink="WGVo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ortType="tns:emailPort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eration="sendDiscussionAnnouncemen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putVariable="processData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685800" y="1700280"/>
            <a:ext cx="7719840" cy="4302000"/>
          </a:xfrm>
          <a:prstGeom prst="rect">
            <a:avLst/>
          </a:prstGeom>
          <a:ln w="0">
            <a:noFill/>
          </a:ln>
        </p:spPr>
      </p:pic>
      <p:sp>
        <p:nvSpPr>
          <p:cNvPr id="268" name="Oval 4"/>
          <p:cNvSpPr/>
          <p:nvPr/>
        </p:nvSpPr>
        <p:spPr>
          <a:xfrm>
            <a:off x="2614680" y="3421080"/>
            <a:ext cx="260280" cy="8380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put of the “Announce Issues for Discussion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llows 3 paths that map to a BPEL4W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2743200" y="4572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305160" y="3578400"/>
            <a:ext cx="544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flow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name="ModerateEmailDiscussion"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name="EMailDiscussionDeadlineWarning"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name="CheckCalendarforConferenceCall"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flow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"/>
          <p:cNvPicPr/>
          <p:nvPr/>
        </p:nvPicPr>
        <p:blipFill>
          <a:blip r:embed="rId1"/>
          <a:stretch/>
        </p:blipFill>
        <p:spPr>
          <a:xfrm>
            <a:off x="817560" y="3686040"/>
            <a:ext cx="1392120" cy="21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685800" y="1700280"/>
            <a:ext cx="7719840" cy="4302000"/>
          </a:xfrm>
          <a:prstGeom prst="rect">
            <a:avLst/>
          </a:prstGeom>
          <a:ln w="0">
            <a:noFill/>
          </a:ln>
        </p:spPr>
      </p:pic>
      <p:sp>
        <p:nvSpPr>
          <p:cNvPr id="276" name="Oval 4"/>
          <p:cNvSpPr/>
          <p:nvPr/>
        </p:nvSpPr>
        <p:spPr>
          <a:xfrm>
            <a:off x="2209680" y="1905120"/>
            <a:ext cx="2667240" cy="1523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per Paralle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rate E-mail Discuss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ps to a synchronous BPEL4W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3200400" y="47912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002840" y="3832200"/>
            <a:ext cx="460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2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name="ModerateEmailDiscussion"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artnerLink="internal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ortType="tns:internalPort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peration="sendDiscussion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putVariable="processData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utputVariable="processData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7" descr=""/>
          <p:cNvPicPr/>
          <p:nvPr/>
        </p:nvPicPr>
        <p:blipFill>
          <a:blip r:embed="rId1"/>
          <a:stretch/>
        </p:blipFill>
        <p:spPr>
          <a:xfrm>
            <a:off x="533520" y="4029120"/>
            <a:ext cx="2514600" cy="18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per Paralle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r Intermediate Event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 map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 wrapp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ultHand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3200400" y="47912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533520" y="4029120"/>
            <a:ext cx="2514600" cy="18082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7"/>
          <p:cNvSpPr/>
          <p:nvPr/>
        </p:nvSpPr>
        <p:spPr>
          <a:xfrm>
            <a:off x="3637080" y="3886200"/>
            <a:ext cx="50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name="ModerateEmailDiscussion" …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faultHandler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faultName="7Days_Exi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empty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800" spc="-1" strike="noStrike">
                <a:solidFill>
                  <a:srgbClr val="a50021"/>
                </a:solidFill>
                <a:latin typeface="Arial Narrow"/>
              </a:rPr>
              <a:t>faultHandler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806400" y="4587840"/>
            <a:ext cx="914400" cy="6094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per Paralle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event at proper time, BPEL4W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entHandl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ded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Ala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row to emp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3200400" y="47912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533520" y="4029120"/>
            <a:ext cx="2514600" cy="18082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3686400" y="3862440"/>
            <a:ext cx="4423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eventHandler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onAlar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or="tns:OneWeek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aultName="7Days_Exit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onAlar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eventHandler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2000" spc="-1" strike="noStrike">
                <a:solidFill>
                  <a:srgbClr val="a50021"/>
                </a:solidFill>
                <a:latin typeface="Arial Narrow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685800" y="1700280"/>
            <a:ext cx="7719840" cy="4302000"/>
          </a:xfrm>
          <a:prstGeom prst="rect">
            <a:avLst/>
          </a:prstGeom>
          <a:ln w="0">
            <a:noFill/>
          </a:ln>
        </p:spPr>
      </p:pic>
      <p:sp>
        <p:nvSpPr>
          <p:cNvPr id="295" name="Oval 4"/>
          <p:cNvSpPr/>
          <p:nvPr/>
        </p:nvSpPr>
        <p:spPr>
          <a:xfrm>
            <a:off x="2971800" y="3352680"/>
            <a:ext cx="2666880" cy="9907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service d’exécution des proces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réation et terminaison des 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avigation au sein d’un cas en interprétant le modèle de processus en fonction du contexte d’exé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ert des données entre les conteneurs d’entrée et de sortie d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ffectation des bons de travail dans les corbeilles des ressources (en fonction des rôles, 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aison des activité aux applications externes comme défini dans le modèle informati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pture des données historiques nécessaires à la supervision et à l’audit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Paralle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-Mail Discussion Deadline Warn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p to BPEL4W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s withi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2819520" y="4867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305160" y="3886200"/>
            <a:ext cx="554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sequenc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name="Delay6daysfromDiscussionAnnouncement" for="P6D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name="EMailDiscussionDeadlineWarning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rtnerLink="WGVoter" portType="tns:emailPort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peration="sendDiscussionWarning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putVariable="processData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sequenc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457200" y="4576680"/>
            <a:ext cx="2209680" cy="8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685800" y="1700280"/>
            <a:ext cx="7719840" cy="4302000"/>
          </a:xfrm>
          <a:prstGeom prst="rect">
            <a:avLst/>
          </a:prstGeom>
          <a:ln w="0">
            <a:noFill/>
          </a:ln>
        </p:spPr>
      </p:pic>
      <p:sp>
        <p:nvSpPr>
          <p:cNvPr id="303" name="Oval 4"/>
          <p:cNvSpPr/>
          <p:nvPr/>
        </p:nvSpPr>
        <p:spPr>
          <a:xfrm>
            <a:off x="2209680" y="3962520"/>
            <a:ext cx="4800600" cy="1676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Paralle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2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ck Calendar for Conference C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ps to BPEL4W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output can be handled with a BPEL4W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refere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429000" y="4898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4035600" y="4441680"/>
            <a:ext cx="456984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name="CheckCalendarforConferenceCall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tnerLink="internal" portType="tns:internalPort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peration="receiveCallSchedule" inputVariable="processData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utputVariable="processDat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1"/>
          <a:stretch/>
        </p:blipFill>
        <p:spPr>
          <a:xfrm>
            <a:off x="533520" y="4594320"/>
            <a:ext cx="266688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Paralle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s to BPEL4W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 with correspon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tion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rib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2133720" y="4867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2597760" y="3214800"/>
            <a:ext cx="61488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flow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links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name="CheckCalendarforConferenceCalltoWaituntilThursday,9am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name="CheckCalendarforConferenceCalltoEmpty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name="CheckCalendarforConferenceCall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linkName="CheckCalendarforConferenceCalltoWaituntilThursday9a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ransitionCondition="bpws:getVariableProperty(processData,conCall)=true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linkName="CheckCalendarforConferenceCalltoEmpty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ransitionCondition="not(bpws:getVariableProperty(processData,conCall)=true)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4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137160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Paralle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“Yes” output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BPEL4W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is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contains nes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k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676520" y="4952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2200680" y="3581280"/>
            <a:ext cx="6703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flow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link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name="WaituntilThursday9amtoModerateConferenceCallDiscussi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name="CheckCalendarforConferenceCalltoWaituntilThursday,9am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name="WaituntilThursday9am" for="P6DT9H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target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linkName="CheckCalendarforConferenceCalltoWaituntilThursday9am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linkName="WaituntilThursday9amtoModerateConferenceCallDiscussi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wait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1"/>
          <a:stretch/>
        </p:blipFill>
        <p:spPr>
          <a:xfrm>
            <a:off x="380880" y="4530600"/>
            <a:ext cx="1219320" cy="9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Paralle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Moderate Conference Call Discus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s to a BPEL4W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1981080" y="4572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362320" y="3505320"/>
            <a:ext cx="6476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name="ModerateConferenceCallDiscussion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rtnerLink="internal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ortType="tns:internalPort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peration="sendConCall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putVariable="processData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utputVariable="processData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target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linkName="WaituntilThursday9amtoModerateConferenceCallDiscussi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7" descr=""/>
          <p:cNvPicPr/>
          <p:nvPr/>
        </p:nvPicPr>
        <p:blipFill>
          <a:blip r:embed="rId1"/>
          <a:stretch/>
        </p:blipFill>
        <p:spPr>
          <a:xfrm>
            <a:off x="457200" y="4267080"/>
            <a:ext cx="1295280" cy="7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Paralle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ault “No” output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s to a BPEL4W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rging Exclusive Gateway used to form the end of lower parallel path before Parallel Gateway marks end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3657600" y="4648320"/>
            <a:ext cx="510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empty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target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linkName="CheckCalendarforConferenceCalltoEmpty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empty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743200" cy="144144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4"/>
          <p:cNvSpPr/>
          <p:nvPr/>
        </p:nvSpPr>
        <p:spPr>
          <a:xfrm>
            <a:off x="3124080" y="4952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685800" y="1700280"/>
            <a:ext cx="7719840" cy="4302000"/>
          </a:xfrm>
          <a:prstGeom prst="rect">
            <a:avLst/>
          </a:prstGeom>
          <a:ln w="0">
            <a:noFill/>
          </a:ln>
        </p:spPr>
      </p:pic>
      <p:sp>
        <p:nvSpPr>
          <p:cNvPr id="331" name="Oval 4"/>
          <p:cNvSpPr/>
          <p:nvPr/>
        </p:nvSpPr>
        <p:spPr>
          <a:xfrm>
            <a:off x="5334120" y="3352680"/>
            <a:ext cx="3047760" cy="9907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Parallel 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Gateway marks end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followed by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aluate Discussion Progress, which maps to BPEL4W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rks end of ou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2971800" y="3809880"/>
            <a:ext cx="5867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flow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invok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name="EvaluateDiscussionProgress" partnerLink="internal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ortType="tns:internalPort" operation="receiveDiscussionStatu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putVariable="processData" outputVariable="processData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reply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partnerLink="Internal" portType="tns:processPort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peration="call_Discussion_Cycle" variable="processData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sequence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lt;/</a:t>
            </a:r>
            <a:r>
              <a:rPr b="0" lang="en-US" sz="1600" spc="-1" strike="noStrike">
                <a:solidFill>
                  <a:srgbClr val="a50021"/>
                </a:solidFill>
                <a:latin typeface="Arial Narrow"/>
              </a:rPr>
              <a:t>proces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2666880" y="4876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"/>
          <p:cNvPicPr/>
          <p:nvPr/>
        </p:nvPicPr>
        <p:blipFill>
          <a:blip r:embed="rId1"/>
          <a:stretch/>
        </p:blipFill>
        <p:spPr>
          <a:xfrm>
            <a:off x="380880" y="4613400"/>
            <a:ext cx="2133720" cy="8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architecture fonctionnelle de référence (Wf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mises en œuvre logicielles variées, libres ou proprié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solutions plus ou moins lourdes pour répondre à une large gamme de bes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déploiement implicite ou explicite important dans l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08:50:04Z</dcterms:created>
  <dc:creator>godart</dc:creator>
  <dc:description/>
  <dc:language>en-US</dc:language>
  <cp:lastModifiedBy>Claude Godart</cp:lastModifiedBy>
  <cp:lastPrinted>2013-10-24T09:01:03Z</cp:lastPrinted>
  <dcterms:modified xsi:type="dcterms:W3CDTF">2014-04-29T07:05:30Z</dcterms:modified>
  <cp:revision>180</cp:revision>
  <dc:subject/>
  <dc:title>jjj</dc:title>
</cp:coreProperties>
</file>