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63C4-5B44-4647-9F3E-B448A8F69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785-A1E4-47E5-8C08-A7962833D0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8129-3E9B-40BA-BDFB-8F5BA95F89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4511-AA9D-4014-88CE-124EFE6B5F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254C-5091-465D-860F-61C81A5045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A8B-EEA3-458E-B60C-286ADC3929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8FC-C91E-42B2-BC51-D633BFFBC7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573-3950-40B2-B8F4-0BC8D142BE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BD6-699A-4E2B-A4C1-2C7E477A67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8904-65D2-4AFA-8641-C8518BE452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066C-20B0-4C45-A3F7-647E039FC4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DB8D-6775-4EF4-910B-89F33C20D1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C479-C314-4C20-B671-E5DCA5843C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240-BF8B-4CB8-9571-13115D2050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C04-2289-46D5-BD60-F814CE92EC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5253-1A88-45BD-B36D-C890B8D556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8461-2049-4F2F-A481-D058794A9D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8BDD-CEE7-478B-A54B-C262519131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91DE-56E9-4D47-B7E0-C0763A6F93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745-125F-4C75-AA7B-5C7F321691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B47-837C-4F1F-BE3B-1FC5F18B45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2480-B5BD-4188-8388-8AD6885E38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A735-2394-4435-9DCE-560BB5923D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5E34-96AA-48CE-8430-154F9BCDA4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518-607B-47AC-A6DF-11CDBBFF5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9660-0E51-4DC7-B7B2-98ABDCDF7C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8D67-9B89-4A5A-8379-3BFD340DB0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4F46-4EA7-4421-B08D-FE359DC9A1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0047-B7D7-4B7B-A5AE-F99C5E229D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F9A2-886B-4D10-95DA-EDB1FE50B0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89E-F3FA-4B25-91B0-2D563B443E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395-A699-4181-874B-9810B45E8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570E-2DE6-40A6-9592-2E5A46190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C688-5D28-4B1F-B540-66F90D9C2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DDDB-483A-4E00-BFEE-4D5703489E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64B-AE81-467E-9BF5-20A237F903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AA4-1BA7-4268-B50C-1933FBAE80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BF4-3976-4AE0-B324-E57F2B63E9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3DE-124C-44C7-918F-A0E34F98DA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70A8-D771-4F7C-B944-DE87877BB1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E927-8484-419F-A455-9B8866D43C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556-B866-4475-B0BD-8270EE230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7651-4C2B-4152-9EC5-47AA6B5FC6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4003-A9C0-4A7E-A688-00709E4A7F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9AB-42FD-4466-BBD4-B12E4C0659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93BF-ECD2-46FB-8E21-0A05DF9B98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9FA-238C-497E-9E2A-0FB59ED259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C51-82EA-4766-AE61-1710A44419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486C-0FA3-4510-9FB4-D892617264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27C5-0585-40E7-B61D-0015E2BF1E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3001-A3A8-4691-ADD8-66DF968826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876C-0204-4EDF-87F9-F0D0AA8990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B7F-967B-4E7F-AF8E-AD5100EA6F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1CE-65ED-4A13-8E22-236D3144F8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F29-C26C-4F46-81DE-466D81001C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BB3E-5C46-4BD7-8A37-89B3D81B4B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9C12-13E3-485E-A879-02BBA3C428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7DA8-720E-49BA-8164-E00359F802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939-7245-4B40-8681-11237CE320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FFF0-0820-4CF4-881E-8840D787C1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100-98D1-4F8E-98B4-C59D7BC6C1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F06E-1FC7-4BE9-9275-511FABE10A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FF1-EF45-4D31-A010-1AE818D0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BEB-BBB0-4E4D-B729-2707ACB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2D3-C457-43FF-BEB7-A31855ED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170-3211-498B-AA55-A7FFBAF0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640-E0EA-4DD6-B9CE-808BA671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D9C-2101-4861-825B-1CC51D3A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53F-D2D6-45C9-90C8-504E9A0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BEF-1E31-4A93-824D-C8A40BE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1ED-DB59-47A5-920B-61F18E70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67D-F152-4404-AB31-6F0D307F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7EF-EC01-45D9-B020-7B4BD725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AFA-B606-4CCA-9070-A021CD80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D8E6-4134-44B5-B7F4-DAF4DBAFE8B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laude.godart@univ-lorraine.loria.f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oasis-open.org/-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rocessus métiers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ncepts, modèles et systè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D01-282A-4CF9-A5C2-2196649F324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ise en oeuvre du modèle ACID Compatibilité entre verr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1273680" y="2382840"/>
            <a:ext cx="6322680" cy="2701800"/>
            <a:chOff x="1273680" y="2382840"/>
            <a:chExt cx="6322680" cy="2701800"/>
          </a:xfrm>
        </p:grpSpPr>
        <p:sp>
          <p:nvSpPr>
            <p:cNvPr id="76" name="Rectangle 5"/>
            <p:cNvSpPr/>
            <p:nvPr/>
          </p:nvSpPr>
          <p:spPr>
            <a:xfrm>
              <a:off x="2185920" y="2951280"/>
              <a:ext cx="5410440" cy="21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2185920" y="4017960"/>
              <a:ext cx="54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4091040" y="29512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2550960" y="3255840"/>
              <a:ext cx="625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>
              <a:off x="2553120" y="2382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>
              <a:off x="1349640" y="3255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1"/>
            <p:cNvSpPr/>
            <p:nvPr/>
          </p:nvSpPr>
          <p:spPr>
            <a:xfrm>
              <a:off x="4779000" y="241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1273680" y="439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4700520" y="3255840"/>
              <a:ext cx="625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4"/>
            <p:cNvSpPr/>
            <p:nvPr/>
          </p:nvSpPr>
          <p:spPr>
            <a:xfrm>
              <a:off x="6072120" y="29512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6606720" y="24177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i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532200" y="32558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7"/>
            <p:cNvSpPr/>
            <p:nvPr/>
          </p:nvSpPr>
          <p:spPr>
            <a:xfrm>
              <a:off x="6532200" y="432288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454-45F3-4068-8506-AF8E47C5A8D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aranties du 2P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s les exceptions acceptées sont sérial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s les exécutions sérialisables ne sont pas accep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332000" y="3789360"/>
            <a:ext cx="4824360" cy="172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"/>
          <p:cNvSpPr/>
          <p:nvPr/>
        </p:nvSpPr>
        <p:spPr>
          <a:xfrm>
            <a:off x="2340000" y="4076640"/>
            <a:ext cx="352728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658120" y="354816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écution sérialis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15600" y="558972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écution acceptées par le 2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H="1">
            <a:off x="6084360" y="400536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H="1">
            <a:off x="2195640" y="5229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22A8-E5E0-4856-AC36-D878C2284A57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ise en oeuvre du modèle ACID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Contexte décentralis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ransactions est dit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distribué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i elle modifie plusieurs base de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osée de sous transaction, chaque sous transaction est semblable à une transaction centra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IDité dans un contexte distribu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olation/dur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chaque sous transaction est isolée/durable, la transaction globale est isolée/du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hér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sous transaction peut ne pas être cohérente mais la transaction globale doit l’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écessiter de coordonner l’exécution des sous-transactions pour assurer la cohé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omicité : l’atomicité doit être assurée au niveau local et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protocole de terminaison à deux phases assure une terminaison atom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86C-6FA4-4EF5-A32D-20D07743B94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ise en oeuvre du modèle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otocole de terminaison à deux phases (ou p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PC"/>
          <p:cNvPicPr/>
          <p:nvPr/>
        </p:nvPicPr>
        <p:blipFill>
          <a:blip r:embed="rId1"/>
          <a:stretch/>
        </p:blipFill>
        <p:spPr>
          <a:xfrm>
            <a:off x="900000" y="2276640"/>
            <a:ext cx="7559640" cy="3673440"/>
          </a:xfrm>
          <a:prstGeom prst="rect">
            <a:avLst/>
          </a:prstGeom>
          <a:ln w="0">
            <a:noFill/>
          </a:ln>
        </p:spPr>
      </p:pic>
      <p:sp>
        <p:nvSpPr>
          <p:cNvPr id="10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76AD-1FF8-41E0-ACEB-917704D8862B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limites du modèle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ropriétés ACID restreignent l’application du modèle ACID aux applications base de données (classiq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courte durée où le principe de tout ou rien est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vec contraintes d’intégrité numériques et détermini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ature non 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967-6F25-49FD-945A-D7E3035C5DC0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limites du modèle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uvelles applications avancées (comme les processus métiers) avec de nouveaux besoins veulent bénéficier de la simplicité des transactions pour assurer des exécutions f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so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ongue dur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’un développement incertain : pas de programme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pas possible de vérifier la cohérence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a prior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llaborative par nature : le principe d’isolation est antagon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stion : comment dépasser les limites du modèle ACID tout en préservant leur généralité et leur simplicité pour résoudre les problèmes de défaillance logicielle et physi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F0D7-C87D-4AE5-9CA8-4E5C6ED84CEB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odèles de transaction avanc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t :  étendre le modèle ACID pour supporter des applications avanc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pproche : relâcher les propriété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tructure plus complex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mi-atom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tats intermédi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tives d’exé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rrection définie par les concep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F44-C80D-4BFC-B34A-9199D4E7C5C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dèle des SAGA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otion de compens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SAGA est une transaction ACD composée de sous transactions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écanisme de recouvrement d’un état cohérent est basé sur la notion d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à chaque sous transaction Ti, le concepteur associe une activité de compensation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) qui « défait » les modifications faites par 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faire » signifie ramener la transaction à un état acceptable qui n’est pas forcément un état antéri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faire »  ne signifie pas que Ti n’a pas eu d’effe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écution d’une SAGA en cas d’échec d’une sous transaction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i−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;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. . .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2BA-0A4F-44B2-82D3-6BE8E2773E68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e modèle des SAGA: exe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0920" y="1484280"/>
            <a:ext cx="86644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pécification des besoins du client; Réservation d’hôt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Réservation de vol; Paiement en ligne; Envoi de document via Expéditeu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mpensation(Spécification des besoins du clien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voyer message (« Voyage annulé 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mpensation(Réservation d’hôtel) = Annulation de réservation d’hô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mpensation(Réservation de vol) = Annulation de réservation de v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mpensation(Paiement en ligne) = Rembourser Pai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ompensation(Envoi de document via Expéditeur 1) = r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ieurs « Sagas » peuvent être définies pour le même exe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aucune ne correspond exactement au proc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Réservation de voyage en ligne » : en particuli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’y a pas de parallélism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813-9F70-4C01-9AA3-B4B1D7E1A2E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e modèle des transactions flexibles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(Transactions typées et alternative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bjectif : dépasser les limites des S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ructure de contrôle pa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ncipe de tout ou rien maint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action 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lérer la défaillance de certaines sous-transactions en revenant à un état amont  cohérent par compensation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uis en exécutant un chemin altern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ose su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typage des sous-transactions (compensable, pivot et rejou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règles de bonne structur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près une activité pivot plusieurs chemin alternatifs sont possibles: ces chemins sont ordonnés, la dernière alternative doit être sûre de terminer (constituée uniquement de transactions rejou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transactions entre deux activités pivots doivent être compen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Encre 1" descr=""/>
          <p:cNvPicPr/>
          <p:nvPr/>
        </p:nvPicPr>
        <p:blipFill>
          <a:blip r:embed="rId1"/>
          <a:stretch/>
        </p:blipFill>
        <p:spPr>
          <a:xfrm>
            <a:off x="4575240" y="3595680"/>
            <a:ext cx="3638520" cy="750960"/>
          </a:xfrm>
          <a:prstGeom prst="rect">
            <a:avLst/>
          </a:prstGeom>
          <a:ln w="0">
            <a:noFill/>
          </a:ln>
        </p:spPr>
      </p:pic>
      <p:sp>
        <p:nvSpPr>
          <p:cNvPr id="125" name="Espace réservé du numéro de diapositive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26E-3347-4434-917C-41A34FF181BA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rganisation du c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pts et 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élisation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l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alyse quantitativ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ystèmes de gestion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cessus transac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ouverte de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ypes d’activi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activite+transaction"/>
          <p:cNvPicPr/>
          <p:nvPr/>
        </p:nvPicPr>
        <p:blipFill>
          <a:blip r:embed="rId1"/>
          <a:stretch/>
        </p:blipFill>
        <p:spPr>
          <a:xfrm>
            <a:off x="2028960" y="1916280"/>
            <a:ext cx="5084640" cy="44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812160" y="1000080"/>
            <a:ext cx="73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Par la suite on assimilera sous-transaction et activ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s processus transactio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57E3-348E-4AC7-A367-04444BCF493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ansaction flexible (Exe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258920" y="2473200"/>
            <a:ext cx="469800" cy="525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668680" y="2473200"/>
            <a:ext cx="471240" cy="525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3922560" y="2473200"/>
            <a:ext cx="470160" cy="525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5148360" y="1773360"/>
            <a:ext cx="718920" cy="52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6981840" y="2529000"/>
            <a:ext cx="46836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5148360" y="3262320"/>
            <a:ext cx="718920" cy="525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1"/>
          <p:cNvSpPr/>
          <p:nvPr/>
        </p:nvSpPr>
        <p:spPr>
          <a:xfrm>
            <a:off x="6981840" y="1773360"/>
            <a:ext cx="46980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1728720" y="27367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4392720" y="2133360"/>
            <a:ext cx="755640" cy="60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4392720" y="2707920"/>
            <a:ext cx="68400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722920" y="2736720"/>
            <a:ext cx="12589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5796000" y="1989000"/>
            <a:ext cx="118584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4356000" y="285264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3139920" y="27367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5075280" y="2473200"/>
            <a:ext cx="792000" cy="525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2"/>
          <p:cNvSpPr/>
          <p:nvPr/>
        </p:nvSpPr>
        <p:spPr>
          <a:xfrm>
            <a:off x="6983280" y="3284640"/>
            <a:ext cx="46836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5867280" y="3500280"/>
            <a:ext cx="111600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1979640" y="3284640"/>
            <a:ext cx="468360" cy="525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1619280" y="2997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7"/>
          <p:cNvSpPr/>
          <p:nvPr/>
        </p:nvSpPr>
        <p:spPr>
          <a:xfrm>
            <a:off x="3614760" y="5316480"/>
            <a:ext cx="471600" cy="4176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4046400" y="5367240"/>
            <a:ext cx="15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en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2462040" y="5316480"/>
            <a:ext cx="471600" cy="432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868480" y="5380200"/>
            <a:ext cx="6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733320" y="5342040"/>
            <a:ext cx="471600" cy="417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1165320" y="539280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jou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698400" y="4513320"/>
            <a:ext cx="719280" cy="52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900000" y="46530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              et               sont des alternatives préférées dans cet or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1536840" y="4508640"/>
            <a:ext cx="718920" cy="5252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602080" y="4564080"/>
            <a:ext cx="718920" cy="525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D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739C-EF89-4F48-911A-99F72D6DACB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dèle des transactions flex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t mieux adapté aux transactions de longue durée en tolérant la défaillance de « sous-transaction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aux concepteurs de spécifier une certaine forme d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pendant nécessite un effort additionnel pour structurer les transactions en respectant les règles de bonne stru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it une structure plus développée que celle des SAGA mais moins expressive que celle des processus métiers (mais aussi moins express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1CE-DF2A-4A6D-9E7F-4C5EC7FAF60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rrection définie par les concepte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s modèles classiques, la correction est « syntaxique » (indépendante de l’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ans les modèles avancés, les concepteurs utilisant la connaissance de l’application pour structurer des transactions correctes (Sagas, transactions flexi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notion de correction dépend de l’application (Correction « sémantique 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Voir les Etat de Terminaison Acceptés des processus transactionn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E92-7EC2-406B-92AC-F55C0CCFEB4A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tion de processu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s transactionnels et processus métiers ont des objectifs assez pro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estion d’un ensemble d’activités à la fois en concurrence (s’exécutant en parallèles) et en interaction (explicite ou implic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distingue entre deux approch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œuvre des modèles transactionnels avancés comme des work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idérer un processus comme une transaction distribuée où les activités sont les sous trans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822-F7C9-4FA9-AE62-5E28772D906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 processus comme une transaction distrib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processus transactionnel est un processus dont les activités expo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priétés transactionnelles: compensable, pivot, rejou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états transactionnels: terminé, avorté, compen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flots transactionnels de compensation, d’exécution alternative, d’ann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: en cas d’échec de l’activité A, annuler l’exécution de l’activité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assimile un processus à une transaction distribuée et les activités à des sous-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88A3-4C13-451E-83F8-9C98C864E18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de processus transac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exemple+proprietes"/>
          <p:cNvPicPr/>
          <p:nvPr/>
        </p:nvPicPr>
        <p:blipFill>
          <a:blip r:embed="rId1"/>
          <a:stretch/>
        </p:blipFill>
        <p:spPr>
          <a:xfrm>
            <a:off x="849240" y="2463840"/>
            <a:ext cx="7443720" cy="2798640"/>
          </a:xfrm>
          <a:prstGeom prst="rect">
            <a:avLst/>
          </a:prstGeom>
          <a:ln w="0">
            <a:noFill/>
          </a:ln>
        </p:spPr>
      </p:pic>
      <p:sp>
        <p:nvSpPr>
          <p:cNvPr id="17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C9F-DE5E-42D8-91BC-2F51EBB66EF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8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rrection définie par le concepteur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Etats de Terminaison Accept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orrection est définie par les états acceptables dans lesquelles les sous-transactions de la transaction distribuée peuvent term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combinaisons d’états peuvent être accep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les états de terminaison avec « succès » et ceux en « échec »; dans un état acceptable avec succès, une ou plusieurs sous-transaction peuvent avoir écho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4625-0A67-4FAC-9C6A-55605905ABEA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414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rrection définie par le concepteur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Exe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eta2"/>
          <p:cNvPicPr/>
          <p:nvPr/>
        </p:nvPicPr>
        <p:blipFill>
          <a:blip r:embed="rId1"/>
          <a:stretch/>
        </p:blipFill>
        <p:spPr>
          <a:xfrm>
            <a:off x="1428840" y="2135160"/>
            <a:ext cx="628632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0533-A387-4A50-A89E-90038AFC1A1F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Validation de processus transac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ut: garantir la fiabilité d’un processus transactionnel en assurant que toute instance se termine dans un état accep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tre aux concepteurs de spécifier le flot de contrôle des processus et l’ensemble des états de terminaison acceptés ({ETA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partir du flot de contrôle et de l’{ETA} générer les propriétés de validation que tout processus valide doit respe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énération des propriétés se fait en deux ét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du flot transactionnel induit par l’{ET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énération des propriétés de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75E-86D4-4B94-9218-1246DADEA1C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hapitre 5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rocessu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1A5-2F26-4104-B745-BD5CA9DC62B0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ude God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versité de lorraine. Es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ude.godart@univ-lorraine.loria.f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alcul du flot transactionnel induit par 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flot de contrôle peut engendrer plusieurs processus transactionnels q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agent le même flot de contrôle ({ET} sans éch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distinguent par leurs flots transactionnels respectifs ({ET} avec éche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insi l’{ET} avec échecs (y compris celui défini dans {ETA}) induit le flot transactionnel du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ncipe du calcul du flot transactionnel induit par {ETA} : un état de terminaison avec échec garde la trace de l’échec produit et l’ensemble des mécanismes de recouvrement appliqué à la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E9B5-C69D-420C-A80F-4201118B3E1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énération des propriétés de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ropriétés de validation visent à assurer que tout processus valide respecte deux princi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accepte, au plus, les échecs acceptés par le flot transactionnel induit par 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définit pour chaque échec accepté les même mécanismes de recouvrement que ceux définis dans le flot transactionnel induit par 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325-5DC6-4EF3-9C3A-55800D9D33A9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de processus transactionnel non va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procedenonvalide"/>
          <p:cNvPicPr/>
          <p:nvPr/>
        </p:nvPicPr>
        <p:blipFill>
          <a:blip r:embed="rId1"/>
          <a:stretch/>
        </p:blipFill>
        <p:spPr>
          <a:xfrm>
            <a:off x="1042920" y="1816200"/>
            <a:ext cx="7058160" cy="2908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243000" y="4941720"/>
            <a:ext cx="84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cessus non valide car il permet d’atteindre l’é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BC.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terminé, RH.terminé, RV.échoué, PL.abandonné, ED1.abandonn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D2.abandonné, ED3.abandonn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} qui n’appartient pas à l’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C1FF-FEA9-4C31-8CE8-D3819D82327F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FlotTransactionnelInduit"/>
          <p:cNvPicPr/>
          <p:nvPr/>
        </p:nvPicPr>
        <p:blipFill>
          <a:blip r:embed="rId1"/>
          <a:stretch/>
        </p:blipFill>
        <p:spPr>
          <a:xfrm>
            <a:off x="250920" y="1989000"/>
            <a:ext cx="8713800" cy="3384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250920" y="27468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de processus transactionnel va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40E6-42FA-4340-BADF-BB6B7D119F53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atron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patron de workflow est une abstraction d’une classe d’interactions récurrente caractérisée par les dépendances d’activation entre les activité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notion de patron de processus en général considère d’autres dépendances que les dépendances d’activation comme les dépendances transac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Idée de patron transac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B28E-5373-4DFE-A7E7-555B39F2971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es patron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dépendances transactionnel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endances de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endances d’ann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pendances d’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que patron de workflow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t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ssède un flot transactionnel potentiel qui inclut tous les dépendances transactionnelles qui peuvent être définies selon 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B666-C80A-46C5-B02E-3B8BB7859B1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atron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potentiel-patrons"/>
          <p:cNvPicPr/>
          <p:nvPr/>
        </p:nvPicPr>
        <p:blipFill>
          <a:blip r:embed="rId1"/>
          <a:stretch/>
        </p:blipFill>
        <p:spPr>
          <a:xfrm>
            <a:off x="1990800" y="1600200"/>
            <a:ext cx="516096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0867-FB76-4934-B343-4DACB5E6FA43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patrons transa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patron transactionnel dérivé d’un patron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st une instance d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qui est enrichie par des dépendances transactionnels incluses dans son flot transactionnel 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9352-ECAB-498E-AAAC-CAB18242F084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odéliser avec des patrons transactionnel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ion de patrons transac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er les patrons transactionnels comme briques de base pour spécifier des processus transac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lusieurs modèles de processus peuvent être dérivés à partie du même flot de contrôle en fonction des flots transactionnels sélectionnés dans le flot transactionnel 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DFF-8FDE-46D8-BDC2-8EE993246D98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exemple+patronst"/>
          <p:cNvPicPr/>
          <p:nvPr/>
        </p:nvPicPr>
        <p:blipFill>
          <a:blip r:embed="rId1"/>
          <a:stretch/>
        </p:blipFill>
        <p:spPr>
          <a:xfrm>
            <a:off x="1349280" y="274680"/>
            <a:ext cx="6445440" cy="5851440"/>
          </a:xfrm>
          <a:prstGeom prst="rect">
            <a:avLst/>
          </a:prstGeom>
          <a:ln w="0">
            <a:noFill/>
          </a:ln>
        </p:spPr>
      </p:pic>
      <p:sp>
        <p:nvSpPr>
          <p:cNvPr id="21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28B2-31F6-48E6-9E1D-11E2A1B604C9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ocessus transactionnel : dé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La cohérence transactionnelle, les transactions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lâcher les propriétés ACID : les modèles de transactions avan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odèle de processus transac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atron transactionnel de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nfrastructures pour la mise en oeuvre des processus transactio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FA9E-552D-4B40-86E6-6EA641D858D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Infrastructure pour la mise en oeuvre des processus transactionn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F90D-68DF-4987-B5A2-409BB397AA2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’interface X/Open X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68360" y="1528920"/>
            <a:ext cx="822960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rface XA est un standard pour interfacer un gestionnaire de ressource et un gestionnaire d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gestionnaire de transaction gère une ou plusieurs transactions pour le compte d’un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transaction peut exploiter des ressources gérées par plusieurs gestionnaires de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rface XA définit comment le gestionnaire de transactions et les gestionnaires des ressources interagissent ensemble pour exécuter le protocole 2PC qui permet une terminaison atomique de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03B-FF9A-4B20-A912-471C8144BBF9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’interface X/Open X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archi-dtp-v1"/>
          <p:cNvPicPr/>
          <p:nvPr/>
        </p:nvPicPr>
        <p:blipFill>
          <a:blip r:embed="rId1"/>
          <a:stretch/>
        </p:blipFill>
        <p:spPr>
          <a:xfrm>
            <a:off x="2927520" y="1268280"/>
            <a:ext cx="3373200" cy="2517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XA-interface"/>
          <p:cNvPicPr/>
          <p:nvPr/>
        </p:nvPicPr>
        <p:blipFill>
          <a:blip r:embed="rId2"/>
          <a:stretch/>
        </p:blipFill>
        <p:spPr>
          <a:xfrm>
            <a:off x="2266920" y="4221000"/>
            <a:ext cx="4897440" cy="2016360"/>
          </a:xfrm>
          <a:prstGeom prst="rect">
            <a:avLst/>
          </a:prstGeom>
          <a:ln w="0">
            <a:noFill/>
          </a:ln>
        </p:spPr>
      </p:pic>
      <p:sp>
        <p:nvSpPr>
          <p:cNvPr id="22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DC52-64BB-4D5A-94B6-9FBB6D7D581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Interopérabilité dans un contexte intra-entreprise :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’approche </a:t>
            </a: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CORBA</a:t>
            </a: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odule OTS (Object Transaction  Service)   de Corba met en œuvre le protocole 2P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compatible avec l’interface 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2A9C-50B3-4CBD-A051-B3EA164D270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TS Corb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39"/>
          <p:cNvGraphicFramePr/>
          <p:nvPr/>
        </p:nvGraphicFramePr>
        <p:xfrm>
          <a:off x="1692360" y="1773360"/>
          <a:ext cx="561636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6163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C89-49C1-478E-AF4B-B5462165044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TS Corb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4"/>
          <p:cNvGraphicFramePr/>
          <p:nvPr/>
        </p:nvGraphicFramePr>
        <p:xfrm>
          <a:off x="1692360" y="1773360"/>
          <a:ext cx="5418000" cy="39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73360"/>
                    <a:ext cx="54180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ED73-8F63-4495-A799-4EA15D90D901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protocole de terminaison à deux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2PC"/>
          <p:cNvPicPr/>
          <p:nvPr/>
        </p:nvPicPr>
        <p:blipFill>
          <a:blip r:embed="rId1"/>
          <a:stretch/>
        </p:blipFill>
        <p:spPr>
          <a:xfrm>
            <a:off x="900000" y="2060640"/>
            <a:ext cx="7559640" cy="3673440"/>
          </a:xfrm>
          <a:prstGeom prst="rect">
            <a:avLst/>
          </a:prstGeom>
          <a:ln w="0">
            <a:noFill/>
          </a:ln>
        </p:spPr>
      </p:pic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033-D9C6-45B3-95FE-4D263D8FA2B9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eropérabilité dans un contexte métier inter-entreprise.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approch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ervices Web 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peut plus utiliser simplement l’interface X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esoin d’une interfac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A est très spécifique au protocole 2PC ce qui est insuffisant dans le contexte des processus métiers (besoin des idées de compensation, alternativ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isation de l’interface X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écentralisée (plusieurs gestionnaires transactionn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idérer des protocoles transactionnels plus sophistiqués que 2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77BE-82EB-4544-B4C3-267661B27A6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niveau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interactions d’activation et d’enregistrement, qui sont indépendantes du protocole de coordination (protocole transaction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interactions transactionnelles qui sont indépendantes des protocoles transactionnels mis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inction d’un niveau « Coordination » et d’un niveau « transaction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ux approches concurrent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S-Coordination et WS-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présentent globalement les mêmes concepts : les entités de base sont les coordinateurs et les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s les deux se basent sur la notion de contex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rrélation des messages d’activation et d’enregistrement (proche du concept de contexte dans COR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s les messages SOAP échangés entre les participants incluent dans leurs entêtes les contextes de coordination approp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AC11-23A3-4360-8F37-8F8961BA92D0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5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ordination « transactionnelle » de services Web :</a:t>
            </a:r>
            <a:br>
              <a:rPr sz="36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niveau coordinateur et le niveau protocole transac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generalisation_xa"/>
          <p:cNvPicPr/>
          <p:nvPr/>
        </p:nvPicPr>
        <p:blipFill>
          <a:blip r:embed="rId1"/>
          <a:stretch/>
        </p:blipFill>
        <p:spPr>
          <a:xfrm>
            <a:off x="324000" y="2952720"/>
            <a:ext cx="8351640" cy="2563920"/>
          </a:xfrm>
          <a:prstGeom prst="rect">
            <a:avLst/>
          </a:prstGeom>
          <a:ln w="0">
            <a:noFill/>
          </a:ln>
        </p:spPr>
      </p:pic>
      <p:sp>
        <p:nvSpPr>
          <p:cNvPr id="25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24BF-D60F-4704-B757-9E09F346D96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cessus transacti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fini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1E12-4F56-4049-82CC-A3F47628275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S-Coordination et WS-CF distinguent trois formes d’interactions entre un coordinateur et s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vation: un participant demande à un coordinateur de créer un nouveau contexte d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ci se produit quand un participant initie une instance d’un type de coordination (transaction atomique par exe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572-E821-4831-8729-1E337B5FBCF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registrement: un participant s’enregistre à un protocole de coordin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ôle qu’il va jouer au sein du proto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rt sur lequel il va recevoir les messages de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eraction: ceci correspond aux messages de coordination spécifique à un protocole transactionnel partic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EE5C-955A-459A-B7ED-478130776A30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" descr="WS-Coordination-sce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249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cénario d’interaction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vec WS-Coord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F9C-A6B2-415D-8743-3E839EE73553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contexte des services Web, WS-Transaction et WS-TXM deux propositions bâties respectivement sur WS-Coordination et WS-CF définissent des protocoles  transac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s définissent des variantes des modèles transactionnels ava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3481-0A8F-48D9-AAD8-CDF14991B55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S-Transaction  hérite de WS-Coordination la distinction entre &lt;&lt; Protocole de Coordination &gt;&gt; et &lt;&lt; Type de Coordination &gt;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protocole de coordination est un ensemble de règles génériques contrôlant les conversations entre un coordinateur et s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PC est un exemple de protocole d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1A1F-B544-4CD3-AA7B-6E11C9F1F82C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type de coordination comprend un ensemble de protocoles de coordination logiquement liés les uns aux 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exemple une transaction atomique est un type de protocole qui regroupe le protocole 2PC et le protocole de notification du résult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instance d’un type de coordination peut impliquer l’exécution de plusieurs instances d’un même protocole  ou de plusieurs protoc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78FA-C0DD-4F1E-BDFF-F9A8205DF8F8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ination « transactionnelle » des services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S-Transaction  distingue deux types de protoco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transactions atomiques: WS-Atomic Trans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ctivités métiers: WS-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92E-6B2D-4CC1-B97A-E7EEE36E1E9F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emple de protocole Web ad-hoc :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protocole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Tentative Hold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s de bas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servation (du coté demandeur et du côté fournisseur) est non contraignante et sans blocage des ressources (« j’envisage d’utiliser la ressource … mais je ne me décide pas maintenant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met une forme de conscience de groupe entre les fournisseurs et les demandeurs sur le niveau de concurrence d’accès aux res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s n’est pas vraiment un protocole pour maintenir la cohérence : doit être combiné à un protocole transactionnel (de WS-Transaction par exemple) pour réserver effectivement d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7B81-23E0-4A07-B817-6E7EF2AF8CF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cénario  d’utilisation du protocole « Tentative hold 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de l’organisation d’un voyage en lig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lusieurs demandes de réservation de vol et d’hôtels pourraient être autorisées (l’agence pourrait évaluer les différentes altern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c’est le premier qui valide sa demande ferme (par exemple en payant) qui ga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rsque l’agence modifie un choix non validé, elle en informe l’hôtel ou la compagnie aérienne, qui en informe elle-même les concurrents qui peuvent réagi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43F-31DE-45B3-B1BB-B3C8F8B5213E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dées de « processus » et de « transaction » sont intimement l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 rapport aux transactions classiques, il est nécessaire de « programmer » la logique transactionnelle des proce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existe des propositions dans le cadre des services Web, mais peu mises en pr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rtainement un des facteurs les plus bloquant pour la mises en œuvre des processus interentre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97A9-88F1-4970-8FFD-77ECFF38B06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cohérence transactionne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harger les programmeurs des problèmes liés aux pannes matérielles, aux erreurs logicielles, à la concurrence d’accès aux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capsuler les programmes dans des transactions po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r  les accès concurrents aux donné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specter les contraintes d’intég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cupérer un état cohérent en cas de problème logiciel ou maté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server les données en cas de panne matéri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en œuvre : le modèle des transactions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E8D-2BC3-4CAE-9618-78CF57E28C92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ALO 96] ALONSO G., AGRAWAL D., ABBADI A. E., KAMATH M., GÜNTHÖR R., MOHAN C., « Advanced Transaction Models in Workflow Contexts », Proceedings of the Twelfth International Conference on Data Engineering, Nouvelle Orléans, Etats-Unis, IEEE Computer Society, p. 574-581,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ALO 05] ALONSO G., « Transactional Business Processes », Process-Aware Information Systems book, Springer-Verlag, Heidelberg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ARJ 06] ARJUNA, FUJITSU, IONA, ORACLE, SUN, Web Services Composite Application Framework (WS-CAF), www.arjuna.com/standards/ws-caf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BHI 05a] BHIRI S., Approche transactionnelle pour assurer des compositions fiables de services Web, thèse, Université Henri Poincaré - Nancy 1, LORIA, 16 mai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BHI 05b] BHIRI S., PERRIN O., GODART C., « Ensuring required failure atomicity of composite Web services », Proceedings of the 14th international conference on World Wide Web, WWW 2005, Chiba, Japon, ACM, mai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ELM 90] ELMAGARMID A., LEU Y., LITWIN W., RUSINKIEWICZ M., « A multidatabase transaction model for InterBase », Proceedings of the sixteenth international conference on Very large databases, Morgan Kaufmann Publishers, San Francisco, 19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GAR 87] GARCIA-MOLINA H., SALEM K., « Sagas », Proceedings of the ACM Special Interest Group on Management of Data 1987 Annual Conference, San Francisco, Californie, ACM Press, mai 198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GAR 91] GARCIA-MOLINA H., GAWLICK D., KLEIN J., KLEISSNER K., SALEM K., « Modeling Long-Running Activities as Nested Sagas », IEEE Data Eng. Bull., vol. 14, n° 1, p. 14-18, 199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E6DB-8437-4FCE-A8BD-91AF5B1D4424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GRA 78] GRAY J., « Notes on Data Base Operating Systems », Advanced Course : Operating Systems, Springer-Verlag, Londres, p. 393-481,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GRA 93] GRAY J., REUTER A., Transaction Processing : Concepts and Techniques, Morgan Kaufmann, San Francisco, 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LEY 95] LEYMANN F., « Supporting Business Transactions Via Partial Backward Recovery In Workflow Management Systems », btw, p. 51-70, 199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AS 07a] OASIS, Web Services Atomic Transaction (WS-AT) Version 1.1, docs.oasis-open- org/ws-tx/wstx-wsat-1.1-spec/wstx-wsat-1.1-spec.html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AS 07b] OASIS, Web Services Business Activity (WS-BA) Version 1.1, docs.oasis-open- org/ws-tx/wstx-wsba-1.1-spec/wstx-wsba-1.1-spec.html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AS 07c] OASIS, Web Services Coordination (WS-Coordination) Version 1.1, docs.oasisopen. org/ws-tx/wstx-wscoor-1.1-spec-os/wstx-wscoor-1.1-spec-os.html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AS 07d] OASIS, Web Services Transaction (WS-TX) Version 1.1,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asis-open.org/-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committees/tc_home.php ?wg_abbrev=ws-tx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G 94] OG, OPEN GROUP, Distributed Transaction Specifications : the XA interface, rapport, www.opengroup.org/onlinepubs/009680699/toc.pdf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OMG 07] OMG, OBJECT MANAGEMENT GROUP, CORBA Transaction Service, www.omg.org/technology/documents/formal/transaction_service.htm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SHE 93] SHETH A. P., RUSINKIEWICZ M., « On Transactional Workflows », Data Engineering Bulletin, vol. 16, n° 2, p. 37-40, 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[W3C 01] W3C, Tentative Hold Protocol, www.w3.org/TR/tenthold-1/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4D1-3FA6-4C7C-97D5-63B7944E0604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 modèle des transactions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52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Transaction ACID est un ensemble d’opérations de lecture/écriture dans une BD qui respectent les propriétés suivant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it toutes les opérations s’exécutent, soit aucune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mic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transaction seule, qui prend la  BD dans état cohérent, la rend dans un état cohérent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hér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le cas d’une exécution concurrente, toute transaction a le même effet que si elle s’exécutait seule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données sauvegardées ne peuvent pas être modifiées qu’en exécutant de nouvelles transactions (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rabil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73C9-56FE-4E32-A95C-A6F594430CED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ise en oeuvre du modèle ACID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contexte centralis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transaction est dit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entralisé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i elle agit sur une seule base de do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fficultés de la mise en oeuvre: assurer les propriétés d’atomicité et d’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urer l’atomicit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Défaire » les modifications qui ont été faites en cas de problème en cours d’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ssurer l’isolation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server la transaction des mises à jour des autres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cher les mises à jour de la transaction aux autr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79F4-6A0D-4C59-83A2-6E09BA5543BB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ise en oeuvre du modèle ACID</a:t>
            </a:r>
            <a:br>
              <a:rPr sz="40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 protocole de verrouillage à deux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 transaction qui veut modifier une donnée doit poser un verrou de type « exclusif (X)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ute transaction qui veut lire une donnée doit poser un verrou de type « partagé (P)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 la donnée possède un verrou incompatible, alors la transaction demandeuse est mise en attente jusqu’à ce que la donnée soit libérée (voir table de compatibilité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transaction qui a acquis un verrou ne peut plus en acquérir d’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9067-42D3-4080-8A6A-F6915F87DD75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7:32:53Z</dcterms:created>
  <dc:creator>User</dc:creator>
  <dc:description/>
  <dc:language>en-US</dc:language>
  <cp:lastModifiedBy>Claude Godart</cp:lastModifiedBy>
  <dcterms:modified xsi:type="dcterms:W3CDTF">2014-04-28T14:17:46Z</dcterms:modified>
  <cp:revision>202</cp:revision>
  <dc:subject/>
  <dc:title>Les Procédés Transactionnels</dc:title>
</cp:coreProperties>
</file>