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26.png" ContentType="image/png"/>
  <Override PartName="/ppt/media/image21.jpeg" ContentType="image/jpeg"/>
  <Override PartName="/ppt/media/image16.png" ContentType="image/png"/>
  <Override PartName="/ppt/media/image22.jpeg" ContentType="image/jpeg"/>
  <Override PartName="/ppt/media/image15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24.jpeg" ContentType="image/jpeg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B3BA-BB92-44EE-A940-E56A01762F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8817-284F-4C0D-A7BE-039D99BD81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6A2A-396D-4368-A721-1F7712A502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23760" y="4354560"/>
            <a:ext cx="50104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00F3-5A64-4DE6-B131-31DE9DEEAE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5C80-122E-40FE-89FB-2BE6148F95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E14B-3E8E-4291-9495-CF0CA7FFE4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350C-942C-49C6-8428-A6F63D75E1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D64E-FDCD-4F8D-A4BE-04DD72224E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0848-C033-43F6-A87E-A712552470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5808-DC1A-4103-910F-647CF11B3F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DF9E-0CB6-42CE-8181-DCB2E7CF65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039E-816A-46F6-BFF6-DFC48AF170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3A5B-5D4E-45EE-9A03-3894EDAEC5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7353-FCCF-4B5C-B618-A260A0096B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192A-5EF9-4198-81A6-9ECF7936F7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F9BA-C09C-4125-8C2E-1D2AC7BC35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5C7A-0931-428C-9CE8-B7CF38A956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23760" y="4354560"/>
            <a:ext cx="50104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87C4-1D0F-4E8D-84B6-05CD39AE45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23760" y="4354560"/>
            <a:ext cx="50104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2F7E-00A1-422A-B966-77945BA807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23760" y="4354560"/>
            <a:ext cx="50104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476A-0784-4556-85F4-667FFDA454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23760" y="4354560"/>
            <a:ext cx="50104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1235-2B84-4699-AA92-C2FFE5E011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5058-0F3C-4FB9-B74A-8DCE922A78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3760" y="4354560"/>
            <a:ext cx="50104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our éliminer ces dépendance on proposer de les détecter et de les marquer en utilisant l’axiome que deux activité sont en concurrences ssi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7C01-209C-43CF-A184-87F4BB507E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23760" y="4354560"/>
            <a:ext cx="50104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e comportement concurrentiel engendre un autre problème dans lequel on observe des dépendances incomplète. Par exemple observons l’instance 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777A-F966-4944-9310-E51FD54682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23760" y="4354560"/>
            <a:ext cx="50104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8D9C-73FA-4DD8-B733-D8C99FB293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23760" y="4354560"/>
            <a:ext cx="50104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ette fenêtre de consid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r pas seulement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FAD8-3CEC-4A00-8A43-F4530E84DD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23760" y="4354560"/>
            <a:ext cx="50104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9F08-77A2-4DAA-BF77-4043977BDD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23760" y="4354560"/>
            <a:ext cx="50104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17A3-A01B-4E2C-952C-239760A58E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0DF9-E3FC-4C37-9DA3-A449FB7C21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23760" y="4354560"/>
            <a:ext cx="50104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C5FE-F550-4224-9741-162EEFE240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23760" y="4354560"/>
            <a:ext cx="50104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tte structure est a la fois indépendante de tout SGWF particulier mais compatible avec les sortie de SG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B2E3-665C-44FD-851E-D103C393F0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23760" y="4354560"/>
            <a:ext cx="50104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tte structure est a la fois indépendante de tout SGWF particulier mais compatible avec les sortie de SG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1E15-4A63-40B5-B0FB-2D1854FF28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23760" y="4354560"/>
            <a:ext cx="50104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tte structure est a la fois indépendante de tout SGWF particulier mais compatible avec les sortie de SG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9636-A65D-48AD-BEB2-A4FCEB59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787-53ED-416A-998C-0E103DD8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204-0FBB-48FD-8179-953CEE6C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028-0161-4FCC-BD7A-1FC0E065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318-34CB-4A73-86C5-CB4296DB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494-6FD6-4975-B0D3-D506D9FF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82C-E82E-4707-9C27-D98A1B24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48E-DB04-48F5-96B4-9E9E078A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E2B-5E61-461D-B2DE-C0B06079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1CE-B123-4A02-BD06-94D6EE75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879-721D-4E2E-92E9-67368B1D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F3A-F9F5-4E34-9F36-F9D37A8C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86BF-3A18-4FE7-97A8-4B3B6D7DB06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laude.godart@univ-lorraine.loria.f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Claude.godart@univ-lorraine.loria.f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480" y="2130120"/>
            <a:ext cx="8975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procédés métiers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ception, modélisation et systè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20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ude God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iversité de Lorraine - Es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ude.godart@univ-lorraine.loria.f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1F46-3577-4875-9D64-E951191841A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203480" y="1125360"/>
            <a:ext cx="740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-36360" y="1125360"/>
            <a:ext cx="907416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Un seuil minimale sur la qualité et la quantité d’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Qualité de l’information (i.e. structure minimal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Absence de bruit (traces d’exécution incorrectes ou inachevé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Événement atomique (i.e. absence d’états, et de temps d’exécu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Quantité de l’information (i.e. nombre d’instances différentes)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00"/>
                </a:solidFill>
                <a:latin typeface="Tahoma"/>
              </a:rPr>
              <a:t>Nombre minimale égale à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Ajouter n instances pour un choix parmi n activités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c00ff"/>
                </a:solidFill>
                <a:latin typeface="Tahoma"/>
              </a:rPr>
              <a:t>Ajouter </a:t>
            </a:r>
            <a:r>
              <a:rPr b="0" lang="fr-FR" sz="1400" spc="-1" strike="noStrike">
                <a:solidFill>
                  <a:srgbClr val="cc00ff"/>
                </a:solidFill>
                <a:latin typeface="Symbol"/>
                <a:ea typeface="Symbol"/>
              </a:rPr>
              <a:t></a:t>
            </a:r>
            <a:r>
              <a:rPr b="0" lang="fr-FR" sz="1400" spc="-1" strike="noStrike">
                <a:solidFill>
                  <a:srgbClr val="cc00ff"/>
                </a:solidFill>
                <a:latin typeface="Tahoma"/>
              </a:rPr>
              <a:t> (ji+ i -1) -1 pour un parallélisme entre n flux contenant chacun ji activités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Prouvé  suffisant pour la découverte du flot de contrô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50920" y="189000"/>
            <a:ext cx="8762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onditions minimales sur les traces d'exéc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08000" y="4076640"/>
            <a:ext cx="4319640" cy="1368000"/>
            <a:chOff x="108000" y="4076640"/>
            <a:chExt cx="4319640" cy="1368000"/>
          </a:xfrm>
        </p:grpSpPr>
        <p:graphicFrame>
          <p:nvGraphicFramePr>
            <p:cNvPr id="102" name="Object 6"/>
            <p:cNvGraphicFramePr/>
            <p:nvPr/>
          </p:nvGraphicFramePr>
          <p:xfrm>
            <a:off x="605160" y="4805640"/>
            <a:ext cx="247320" cy="35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5160" y="4805640"/>
                      <a:ext cx="2473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Object 7"/>
            <p:cNvGraphicFramePr/>
            <p:nvPr/>
          </p:nvGraphicFramePr>
          <p:xfrm>
            <a:off x="3036960" y="4349520"/>
            <a:ext cx="197280" cy="398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36960" y="4349520"/>
                      <a:ext cx="197280" cy="39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Object 8"/>
            <p:cNvGraphicFramePr/>
            <p:nvPr/>
          </p:nvGraphicFramePr>
          <p:xfrm>
            <a:off x="1432080" y="4349520"/>
            <a:ext cx="215280" cy="405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32080" y="4349520"/>
                      <a:ext cx="215280" cy="40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Object 9"/>
            <p:cNvGraphicFramePr/>
            <p:nvPr/>
          </p:nvGraphicFramePr>
          <p:xfrm>
            <a:off x="3780720" y="4713120"/>
            <a:ext cx="208440" cy="366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9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80720" y="4713120"/>
                      <a:ext cx="208440" cy="36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AutoShape 10"/>
            <p:cNvSpPr/>
            <p:nvPr/>
          </p:nvSpPr>
          <p:spPr>
            <a:xfrm>
              <a:off x="108000" y="4853880"/>
              <a:ext cx="297720" cy="2739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S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1"/>
            <p:cNvSpPr/>
            <p:nvPr/>
          </p:nvSpPr>
          <p:spPr>
            <a:xfrm>
              <a:off x="1051200" y="4441680"/>
              <a:ext cx="297360" cy="2739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V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2"/>
            <p:cNvSpPr/>
            <p:nvPr/>
          </p:nvSpPr>
          <p:spPr>
            <a:xfrm>
              <a:off x="1845000" y="4076640"/>
              <a:ext cx="297720" cy="2728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3"/>
            <p:cNvSpPr/>
            <p:nvPr/>
          </p:nvSpPr>
          <p:spPr>
            <a:xfrm>
              <a:off x="2242080" y="5171760"/>
              <a:ext cx="297720" cy="2728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V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4"/>
            <p:cNvSpPr/>
            <p:nvPr/>
          </p:nvSpPr>
          <p:spPr>
            <a:xfrm>
              <a:off x="2590200" y="4076640"/>
              <a:ext cx="297360" cy="2728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MJ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5"/>
            <p:cNvSpPr/>
            <p:nvPr/>
          </p:nvSpPr>
          <p:spPr>
            <a:xfrm>
              <a:off x="2192760" y="4414320"/>
              <a:ext cx="297720" cy="2728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6"/>
            <p:cNvSpPr/>
            <p:nvPr/>
          </p:nvSpPr>
          <p:spPr>
            <a:xfrm>
              <a:off x="1796040" y="4716000"/>
              <a:ext cx="297720" cy="2728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7"/>
            <p:cNvSpPr/>
            <p:nvPr/>
          </p:nvSpPr>
          <p:spPr>
            <a:xfrm>
              <a:off x="3334680" y="4410000"/>
              <a:ext cx="297720" cy="2728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8"/>
            <p:cNvSpPr/>
            <p:nvPr/>
          </p:nvSpPr>
          <p:spPr>
            <a:xfrm>
              <a:off x="4129920" y="4763160"/>
              <a:ext cx="297720" cy="2739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AutoShape 19"/>
            <p:cNvCxnSpPr>
              <a:stCxn id="110" idx="3"/>
            </p:cNvCxnSpPr>
            <p:nvPr/>
          </p:nvCxnSpPr>
          <p:spPr>
            <a:xfrm flipV="1">
              <a:off x="405360" y="4984200"/>
              <a:ext cx="199800" cy="6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AutoShape 20"/>
            <p:cNvCxnSpPr>
              <a:endCxn id="111" idx="1"/>
            </p:cNvCxnSpPr>
            <p:nvPr/>
          </p:nvCxnSpPr>
          <p:spPr>
            <a:xfrm flipV="1">
              <a:off x="852120" y="4578120"/>
              <a:ext cx="199080" cy="406440"/>
            </a:xfrm>
            <a:prstGeom prst="bentConnector3">
              <a:avLst>
                <a:gd name="adj1" fmla="val 496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AutoShape 21"/>
            <p:cNvCxnSpPr>
              <a:endCxn id="113" idx="1"/>
            </p:cNvCxnSpPr>
            <p:nvPr/>
          </p:nvCxnSpPr>
          <p:spPr>
            <a:xfrm>
              <a:off x="852120" y="4984200"/>
              <a:ext cx="1389960" cy="323640"/>
            </a:xfrm>
            <a:prstGeom prst="bentConnector3">
              <a:avLst>
                <a:gd name="adj1" fmla="val 715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AutoShape 22"/>
            <p:cNvCxnSpPr>
              <a:stCxn id="111" idx="3"/>
            </p:cNvCxnSpPr>
            <p:nvPr/>
          </p:nvCxnSpPr>
          <p:spPr>
            <a:xfrm flipV="1">
              <a:off x="1348560" y="4552200"/>
              <a:ext cx="83520" cy="26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AutoShape 23"/>
            <p:cNvCxnSpPr>
              <a:endCxn id="112" idx="1"/>
            </p:cNvCxnSpPr>
            <p:nvPr/>
          </p:nvCxnSpPr>
          <p:spPr>
            <a:xfrm flipV="1">
              <a:off x="1647720" y="4212720"/>
              <a:ext cx="198000" cy="340200"/>
            </a:xfrm>
            <a:prstGeom prst="bentConnector3">
              <a:avLst>
                <a:gd name="adj1" fmla="val 397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AutoShape 24"/>
            <p:cNvCxnSpPr>
              <a:endCxn id="116" idx="1"/>
            </p:cNvCxnSpPr>
            <p:nvPr/>
          </p:nvCxnSpPr>
          <p:spPr>
            <a:xfrm>
              <a:off x="1647720" y="4552920"/>
              <a:ext cx="149040" cy="299520"/>
            </a:xfrm>
            <a:prstGeom prst="bentConnector3">
              <a:avLst>
                <a:gd name="adj1" fmla="val 5520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AutoShape 25"/>
            <p:cNvCxnSpPr>
              <a:endCxn id="115" idx="1"/>
            </p:cNvCxnSpPr>
            <p:nvPr/>
          </p:nvCxnSpPr>
          <p:spPr>
            <a:xfrm flipV="1">
              <a:off x="1647720" y="4549680"/>
              <a:ext cx="545760" cy="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AutoShape 26"/>
            <p:cNvCxnSpPr>
              <a:stCxn id="112" idx="3"/>
              <a:endCxn id="114" idx="1"/>
            </p:cNvCxnSpPr>
            <p:nvPr/>
          </p:nvCxnSpPr>
          <p:spPr>
            <a:xfrm>
              <a:off x="2143080" y="4213080"/>
              <a:ext cx="447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AutoShape 27"/>
            <p:cNvCxnSpPr>
              <a:stCxn id="114" idx="3"/>
            </p:cNvCxnSpPr>
            <p:nvPr/>
          </p:nvCxnSpPr>
          <p:spPr>
            <a:xfrm>
              <a:off x="2887560" y="4213080"/>
              <a:ext cx="149760" cy="335880"/>
            </a:xfrm>
            <a:prstGeom prst="bentConnector3">
              <a:avLst>
                <a:gd name="adj1" fmla="val 498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AutoShape 28"/>
            <p:cNvCxnSpPr>
              <a:stCxn id="116" idx="3"/>
            </p:cNvCxnSpPr>
            <p:nvPr/>
          </p:nvCxnSpPr>
          <p:spPr>
            <a:xfrm flipV="1">
              <a:off x="2093760" y="4548240"/>
              <a:ext cx="943920" cy="303840"/>
            </a:xfrm>
            <a:prstGeom prst="bentConnector3">
              <a:avLst>
                <a:gd name="adj1" fmla="val 9244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AutoShape 29"/>
            <p:cNvCxnSpPr>
              <a:endCxn id="117" idx="1"/>
            </p:cNvCxnSpPr>
            <p:nvPr/>
          </p:nvCxnSpPr>
          <p:spPr>
            <a:xfrm flipV="1">
              <a:off x="3234600" y="4546440"/>
              <a:ext cx="1008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AutoShape 30"/>
            <p:cNvCxnSpPr>
              <a:stCxn id="117" idx="3"/>
            </p:cNvCxnSpPr>
            <p:nvPr/>
          </p:nvCxnSpPr>
          <p:spPr>
            <a:xfrm>
              <a:off x="3632400" y="4546440"/>
              <a:ext cx="148680" cy="349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AutoShape 31"/>
            <p:cNvCxnSpPr>
              <a:stCxn id="118" idx="1"/>
              <a:endCxn id="118" idx="1"/>
            </p:cNvCxnSpPr>
            <p:nvPr/>
          </p:nvCxnSpPr>
          <p:spPr>
            <a:xfrm>
              <a:off x="4129560" y="489996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AutoShape 32"/>
            <p:cNvCxnSpPr>
              <a:endCxn id="118" idx="1"/>
            </p:cNvCxnSpPr>
            <p:nvPr/>
          </p:nvCxnSpPr>
          <p:spPr>
            <a:xfrm>
              <a:off x="3989160" y="4895640"/>
              <a:ext cx="141120" cy="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AutoShape 33"/>
            <p:cNvCxnSpPr>
              <a:stCxn id="115" idx="3"/>
            </p:cNvCxnSpPr>
            <p:nvPr/>
          </p:nvCxnSpPr>
          <p:spPr>
            <a:xfrm flipV="1">
              <a:off x="2490480" y="4548240"/>
              <a:ext cx="5464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AutoShape 34"/>
            <p:cNvCxnSpPr>
              <a:stCxn id="113" idx="3"/>
            </p:cNvCxnSpPr>
            <p:nvPr/>
          </p:nvCxnSpPr>
          <p:spPr>
            <a:xfrm flipV="1">
              <a:off x="2539440" y="4895640"/>
              <a:ext cx="1241640" cy="412560"/>
            </a:xfrm>
            <a:prstGeom prst="bentConnector3">
              <a:avLst>
                <a:gd name="adj1" fmla="val 940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aphicFrame>
        <p:nvGraphicFramePr>
          <p:cNvPr id="135" name=""/>
          <p:cNvGraphicFramePr/>
          <p:nvPr/>
        </p:nvGraphicFramePr>
        <p:xfrm>
          <a:off x="6156360" y="3500280"/>
          <a:ext cx="2951280" cy="2773440"/>
        </p:xfrm>
        <a:graphic>
          <a:graphicData uri="http://schemas.openxmlformats.org/drawingml/2006/table">
            <a:tbl>
              <a:tblPr/>
              <a:tblGrid>
                <a:gridCol w="357120"/>
                <a:gridCol w="25941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Inst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ER VD MJR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AE VD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RP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ER  MJR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 ER  MJR VD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AE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RP VD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D VSC  RP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RP  RD V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Rectangle 89"/>
          <p:cNvSpPr/>
          <p:nvPr/>
        </p:nvSpPr>
        <p:spPr>
          <a:xfrm>
            <a:off x="4211640" y="4653000"/>
            <a:ext cx="2592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00"/>
                </a:solidFill>
                <a:latin typeface="Tahoma"/>
              </a:rPr>
              <a:t>1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fr-FR" sz="1400" spc="-1" strike="noStrike">
                <a:solidFill>
                  <a:srgbClr val="cc00ff"/>
                </a:solidFill>
                <a:latin typeface="Tahoma"/>
              </a:rPr>
              <a:t>1*(4+1)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=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llipse 1"/>
          <p:cNvSpPr/>
          <p:nvPr/>
        </p:nvSpPr>
        <p:spPr>
          <a:xfrm>
            <a:off x="406440" y="3068640"/>
            <a:ext cx="66866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D4E2-EA3C-410F-A299-BAC8195942E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e «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 algorithme » 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C865-D0F3-4DDF-BAE5-AE14C792B8D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it T un ensemble d’activité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une trace d’une instance d’exécution de workflow et W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un log de work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it a,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&gt; 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 ssi il y a une tra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{1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-2} tels qu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 et t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 et t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 ssi a &gt; 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 et not (b &gt; 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 ssi a &gt; 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 et b &gt; 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#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 ssi not(a  &gt; 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) et not(b  &gt; 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)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 algorithme : relations d’ord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3755-1987-444C-8304-6ABA7DF1975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 algorithme 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57200" y="1676520"/>
            <a:ext cx="190008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1 : task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2 : task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3 : task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3 : task 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1 : task 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1 : task 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2 : task 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4 : task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2 : task 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2 : task 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5 : task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4 : task 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1 : task 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3 : task 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3 : task 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4 : task 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5 : task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5 : task 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4 : task 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954160" y="1447920"/>
            <a:ext cx="4665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= { A B C D, A C B D, A E D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919240" y="2133720"/>
            <a:ext cx="1336680" cy="320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395960" y="2133720"/>
            <a:ext cx="1284120" cy="268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5803920" y="2133720"/>
            <a:ext cx="1054080" cy="168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8960" y="2133720"/>
            <a:ext cx="1266840" cy="52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 flipV="1">
            <a:off x="3481560" y="5029200"/>
            <a:ext cx="1477800" cy="1295280"/>
          </a:xfrm>
          <a:custGeom>
            <a:avLst/>
            <a:gdLst>
              <a:gd name="textAreaLeft" fmla="*/ 850320 w 1477800"/>
              <a:gd name="textAreaRight" fmla="*/ 1247040 w 1477800"/>
              <a:gd name="textAreaTop" fmla="*/ 174960 h 1295280"/>
              <a:gd name="textAreaBottom" fmla="*/ 55476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970520" y="4824360"/>
            <a:ext cx="17589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log 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 s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relation ne peut pas être étend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7350120" y="2895480"/>
            <a:ext cx="703440" cy="1981440"/>
          </a:xfrm>
          <a:prstGeom prst="downArrow">
            <a:avLst>
              <a:gd name="adj1" fmla="val 50000"/>
              <a:gd name="adj2" fmla="val 7042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6858000" y="4800600"/>
            <a:ext cx="19620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 (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#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6EB3-68E0-4D7C-9E3C-D2DEF6116B7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3"/>
          <p:cNvGraphicFramePr/>
          <p:nvPr/>
        </p:nvGraphicFramePr>
        <p:xfrm>
          <a:off x="371520" y="1676520"/>
          <a:ext cx="8612280" cy="20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1676520"/>
                    <a:ext cx="861228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4"/>
          <p:cNvSpPr/>
          <p:nvPr/>
        </p:nvSpPr>
        <p:spPr>
          <a:xfrm>
            <a:off x="3376440" y="4038480"/>
            <a:ext cx="4994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= { A B C D, A C B D}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st com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955800" y="4108320"/>
            <a:ext cx="1336680" cy="242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503440" y="4619520"/>
            <a:ext cx="1278000" cy="182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909960" y="5349960"/>
            <a:ext cx="1090800" cy="168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105520" y="5715000"/>
            <a:ext cx="1266840" cy="52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: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 algorithme 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DD06-259F-46C3-A350-9EB54D582B6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3376440" y="4038480"/>
            <a:ext cx="4994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= { A B D, A C D}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st com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39560" y="4460760"/>
            <a:ext cx="1336680" cy="16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&gt;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963800" y="4314960"/>
            <a:ext cx="1301760" cy="182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3348000" y="5410080"/>
            <a:ext cx="1511280" cy="52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:auc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932360" y="5415120"/>
            <a:ext cx="1727280" cy="52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: le r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8"/>
          <p:cNvGraphicFramePr/>
          <p:nvPr/>
        </p:nvGraphicFramePr>
        <p:xfrm>
          <a:off x="108000" y="1600200"/>
          <a:ext cx="8928000" cy="22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00200"/>
                    <a:ext cx="892800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 algorithme 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E324-C1F2-42C7-B117-C19698309B4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 algorithme – Princip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 rot="5400000">
            <a:off x="3721680" y="3034440"/>
            <a:ext cx="936360" cy="716040"/>
          </a:xfrm>
          <a:prstGeom prst="leftRightArrow">
            <a:avLst>
              <a:gd name="adj1" fmla="val 50000"/>
              <a:gd name="adj2" fmla="val 366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3494160" y="1773360"/>
            <a:ext cx="12888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nl-NL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33ED-2133-4D1F-A8A6-213FAFC0DAF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3371760" y="4422600"/>
            <a:ext cx="5184720" cy="13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Object 3"/>
          <p:cNvGraphicFramePr/>
          <p:nvPr/>
        </p:nvGraphicFramePr>
        <p:xfrm>
          <a:off x="611280" y="4716360"/>
          <a:ext cx="3287520" cy="71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4716360"/>
                    <a:ext cx="32875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0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 algorithme – Princip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419480" y="1792440"/>
            <a:ext cx="53715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nl-NL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y, x</a:t>
            </a:r>
            <a:r>
              <a:rPr b="0" lang="nl-NL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z, and y#z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611280" y="4365720"/>
          <a:ext cx="3097080" cy="18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365720"/>
                    <a:ext cx="3097080" cy="18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F0F2-495E-4B52-A285-18997A4CDA6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4211640" y="4365720"/>
            <a:ext cx="2523960" cy="18288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4"/>
          <p:cNvSpPr/>
          <p:nvPr/>
        </p:nvSpPr>
        <p:spPr>
          <a:xfrm rot="5400000">
            <a:off x="3721680" y="3034440"/>
            <a:ext cx="936360" cy="716040"/>
          </a:xfrm>
          <a:prstGeom prst="leftRightArrow">
            <a:avLst>
              <a:gd name="adj1" fmla="val 50000"/>
              <a:gd name="adj2" fmla="val 366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 algorithme – Princip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889280" y="1657440"/>
            <a:ext cx="53715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nl-NL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z, y</a:t>
            </a:r>
            <a:r>
              <a:rPr b="0" lang="nl-NL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z, and x#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841320" y="4005360"/>
          <a:ext cx="3449520" cy="18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4005360"/>
                    <a:ext cx="344952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5AFC-38FE-4F6E-AB04-CEB4ADEEFFA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076720" y="4076640"/>
            <a:ext cx="2571840" cy="17622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4"/>
          <p:cNvSpPr/>
          <p:nvPr/>
        </p:nvSpPr>
        <p:spPr>
          <a:xfrm rot="5400000">
            <a:off x="3721680" y="3034440"/>
            <a:ext cx="936360" cy="716040"/>
          </a:xfrm>
          <a:prstGeom prst="leftRightArrow">
            <a:avLst>
              <a:gd name="adj1" fmla="val 50000"/>
              <a:gd name="adj2" fmla="val 366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770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 algorithme – Princip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744560" y="1612800"/>
            <a:ext cx="53503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nl-NL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y, x</a:t>
            </a:r>
            <a:r>
              <a:rPr b="0" lang="nl-NL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z, and y||z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5"/>
          <p:cNvGraphicFramePr/>
          <p:nvPr/>
        </p:nvGraphicFramePr>
        <p:xfrm>
          <a:off x="1042920" y="4149720"/>
          <a:ext cx="316872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49720"/>
                    <a:ext cx="316872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6DF5-FC55-4BFB-B3AB-67A43D8DA89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3"/>
          <a:stretch/>
        </p:blipFill>
        <p:spPr>
          <a:xfrm>
            <a:off x="4859280" y="4098960"/>
            <a:ext cx="2476440" cy="17334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4"/>
          <p:cNvSpPr/>
          <p:nvPr/>
        </p:nvSpPr>
        <p:spPr>
          <a:xfrm rot="5400000">
            <a:off x="3721680" y="3034440"/>
            <a:ext cx="936360" cy="716040"/>
          </a:xfrm>
          <a:prstGeom prst="leftRightArrow">
            <a:avLst>
              <a:gd name="adj1" fmla="val 50000"/>
              <a:gd name="adj2" fmla="val 366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rganisation du 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pts et n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élisation des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alyse qualitative des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alyse quantitative des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stèmes de gestion de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cessus transacti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couverte de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 algorithme – Princip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430280" y="1708200"/>
            <a:ext cx="53503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nl-NL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z, y</a:t>
            </a:r>
            <a:r>
              <a:rPr b="0" lang="nl-NL" sz="4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z, and x||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5"/>
          <p:cNvGraphicFramePr/>
          <p:nvPr/>
        </p:nvGraphicFramePr>
        <p:xfrm>
          <a:off x="876240" y="4268880"/>
          <a:ext cx="2927520" cy="18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4268880"/>
                    <a:ext cx="292752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0B89-800A-473D-8560-2DCA70E43E4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3"/>
          <a:stretch/>
        </p:blipFill>
        <p:spPr>
          <a:xfrm>
            <a:off x="4616280" y="4221000"/>
            <a:ext cx="2590920" cy="17622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4"/>
          <p:cNvSpPr/>
          <p:nvPr/>
        </p:nvSpPr>
        <p:spPr>
          <a:xfrm rot="5400000">
            <a:off x="3721680" y="3034440"/>
            <a:ext cx="936360" cy="716040"/>
          </a:xfrm>
          <a:prstGeom prst="leftRightArrow">
            <a:avLst>
              <a:gd name="adj1" fmla="val 50000"/>
              <a:gd name="adj2" fmla="val 366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algorithme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Règl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e construction d’un Rd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2280" y="1773360"/>
            <a:ext cx="8839440" cy="43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46960" indent="-246960">
              <a:spcBef>
                <a:spcPts val="524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it W un log de workflow sur l’ensemble 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{ t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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 et t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}, (ensemble des activité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{ t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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 et t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} (activités initia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{ t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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 et t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as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} (activtés fina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= { (A,B)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 A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B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,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a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  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1,a2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 , a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 a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1,b2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b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} (relations causa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 { (A,B)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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 A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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A,B) = (A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}  (ensemble minimal de relations causa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{ p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(A,B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 (A,B)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i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o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}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{ (a,p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(A,B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 (A,B)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a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 }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{ (p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(A,B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b)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 (A,B)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b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 }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 (i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t)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 t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}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 (t,o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 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t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W) = (P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F</a:t>
            </a:r>
            <a:r>
              <a:rPr b="0" lang="en-US" sz="21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28B8-81F0-46B3-8405-626499ABAE2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 algorithme : exe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mble des traces d’execu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4684-FC00-4868-8755-305BC4D6B04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algorithme : exe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152280" y="1341360"/>
            <a:ext cx="8839440" cy="475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272520" indent="-272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520" indent="-272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520" indent="-272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520" indent="-272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, (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520" indent="-272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,  (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520" indent="-272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 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 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520" indent="-272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{(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, (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, (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, (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, (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, (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,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, (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7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520" indent="-272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) = (P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F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2C6C-31BF-44B3-B083-27D6050452F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algorithme : exe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23F2-F33B-4D08-B4EC-A1254E048C3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Image 1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89308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tterns m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4E5E-8CDC-46D0-B7C8-CE4C1978406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203480" y="1125360"/>
            <a:ext cx="740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4920" y="1484280"/>
            <a:ext cx="9074160" cy="14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our chaque activité A dans les traces d’exécu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e nombre d'occurrences global de cette activité (dénotée #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es dépendances directes aux activités précédentes Bi (dénoté P(A\B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50920" y="260280"/>
            <a:ext cx="8762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nstruction de la table de dépendance statistique (T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36520" y="3110040"/>
          <a:ext cx="2519280" cy="3322440"/>
        </p:xfrm>
        <a:graphic>
          <a:graphicData uri="http://schemas.openxmlformats.org/drawingml/2006/table">
            <a:tbl>
              <a:tblPr/>
              <a:tblGrid>
                <a:gridCol w="304920"/>
                <a:gridCol w="22143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Inst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ER VD MJR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AE VD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RP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ER  MJR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 ER  MJR VD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AE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RP VD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D VSC  RP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RP  RD V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218120" y="3379680"/>
          <a:ext cx="48625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434880"/>
                <a:gridCol w="431640"/>
                <a:gridCol w="432000"/>
                <a:gridCol w="433440"/>
                <a:gridCol w="431640"/>
                <a:gridCol w="431640"/>
                <a:gridCol w="432000"/>
                <a:gridCol w="431640"/>
                <a:gridCol w="5400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ST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MJ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A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S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STP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SC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E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MJ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AE=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P=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S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AutoShape 182"/>
          <p:cNvSpPr/>
          <p:nvPr/>
        </p:nvSpPr>
        <p:spPr>
          <a:xfrm>
            <a:off x="2924280" y="4314960"/>
            <a:ext cx="1152360" cy="457200"/>
          </a:xfrm>
          <a:prstGeom prst="rightArrow">
            <a:avLst>
              <a:gd name="adj1" fmla="val 50000"/>
              <a:gd name="adj2" fmla="val 630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rc 183"/>
          <p:cNvSpPr/>
          <p:nvPr/>
        </p:nvSpPr>
        <p:spPr>
          <a:xfrm rot="16200000">
            <a:off x="4394160" y="3565080"/>
            <a:ext cx="533160" cy="30456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fill="none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</a:path>
              <a:path stroke="0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  <a:lnTo>
                  <a:pt x="0" y="15922"/>
                </a:lnTo>
                <a:lnTo>
                  <a:pt x="14596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1"/>
          <p:cNvSpPr/>
          <p:nvPr/>
        </p:nvSpPr>
        <p:spPr>
          <a:xfrm>
            <a:off x="6477120" y="5805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FD27-4D06-42C3-BBDD-AC063CED3A0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203480" y="1125360"/>
            <a:ext cx="740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4920" y="1484280"/>
            <a:ext cx="9074160" cy="14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our chaque activité A dans les traces d’exécu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e nombre d'occurrences global de cette activité (dénotée #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es dépendances directes aux activités précédentes Bi (dénoté P(A\B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250920" y="333360"/>
            <a:ext cx="8762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nstruction de la table de dépendance statistique (T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44360" y="3213000"/>
          <a:ext cx="2665440" cy="3318120"/>
        </p:xfrm>
        <a:graphic>
          <a:graphicData uri="http://schemas.openxmlformats.org/drawingml/2006/table">
            <a:tbl>
              <a:tblPr/>
              <a:tblGrid>
                <a:gridCol w="322200"/>
                <a:gridCol w="234324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Inst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ER VD MJR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AE VD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VD R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ER  MJR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 ER  MJR VD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AE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VSC  R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D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D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VSC  R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VSC  R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RD V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105440" y="3581280"/>
          <a:ext cx="4862520" cy="2286000"/>
        </p:xfrm>
        <a:graphic>
          <a:graphicData uri="http://schemas.openxmlformats.org/drawingml/2006/table">
            <a:tbl>
              <a:tblPr/>
              <a:tblGrid>
                <a:gridCol w="863280"/>
                <a:gridCol w="435240"/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  <a:gridCol w="5400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ST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MJ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A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S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STP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SC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E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MJ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AE=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P=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0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0.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L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AutoShape 182"/>
          <p:cNvSpPr/>
          <p:nvPr/>
        </p:nvSpPr>
        <p:spPr>
          <a:xfrm>
            <a:off x="2884320" y="4495680"/>
            <a:ext cx="1152720" cy="457200"/>
          </a:xfrm>
          <a:prstGeom prst="rightArrow">
            <a:avLst>
              <a:gd name="adj1" fmla="val 50000"/>
              <a:gd name="adj2" fmla="val 630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183"/>
          <p:cNvSpPr/>
          <p:nvPr/>
        </p:nvSpPr>
        <p:spPr>
          <a:xfrm rot="16200000">
            <a:off x="4281480" y="3766680"/>
            <a:ext cx="533160" cy="30456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fill="none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</a:path>
              <a:path stroke="0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  <a:lnTo>
                  <a:pt x="0" y="15922"/>
                </a:lnTo>
                <a:lnTo>
                  <a:pt x="14596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BD7C-3750-4623-9FAA-07E73F0E01C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203480" y="1125360"/>
            <a:ext cx="740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250920" y="333360"/>
            <a:ext cx="8762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Élimination des dépendances erro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64960" y="3290760"/>
          <a:ext cx="2519640" cy="3322800"/>
        </p:xfrm>
        <a:graphic>
          <a:graphicData uri="http://schemas.openxmlformats.org/drawingml/2006/table">
            <a:tbl>
              <a:tblPr/>
              <a:tblGrid>
                <a:gridCol w="304920"/>
                <a:gridCol w="22147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Inst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ER VD MJR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AE VD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VD R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VD ER  MJR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 ER  MJR VD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AE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RP V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D VSC  RP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RP  RD V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135320" y="3755880"/>
          <a:ext cx="48625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434880"/>
                <a:gridCol w="432000"/>
                <a:gridCol w="431640"/>
                <a:gridCol w="433440"/>
                <a:gridCol w="432000"/>
                <a:gridCol w="431640"/>
                <a:gridCol w="432000"/>
                <a:gridCol w="431640"/>
                <a:gridCol w="5396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ST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MJ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A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S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STP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SC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E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MJ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AE=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P=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L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AutoShape 181"/>
          <p:cNvSpPr/>
          <p:nvPr/>
        </p:nvSpPr>
        <p:spPr>
          <a:xfrm>
            <a:off x="2867040" y="4653000"/>
            <a:ext cx="1152360" cy="457200"/>
          </a:xfrm>
          <a:prstGeom prst="rightArrow">
            <a:avLst>
              <a:gd name="adj1" fmla="val 50000"/>
              <a:gd name="adj2" fmla="val 630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rc 182"/>
          <p:cNvSpPr/>
          <p:nvPr/>
        </p:nvSpPr>
        <p:spPr>
          <a:xfrm rot="16200000">
            <a:off x="4294080" y="391320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fill="none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</a:path>
              <a:path stroke="0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  <a:lnTo>
                  <a:pt x="0" y="15922"/>
                </a:lnTo>
                <a:lnTo>
                  <a:pt x="14596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83"/>
          <p:cNvGrpSpPr/>
          <p:nvPr/>
        </p:nvGrpSpPr>
        <p:grpSpPr>
          <a:xfrm>
            <a:off x="431640" y="1308240"/>
            <a:ext cx="4897080" cy="1871640"/>
            <a:chOff x="431640" y="1308240"/>
            <a:chExt cx="4897080" cy="1871640"/>
          </a:xfrm>
        </p:grpSpPr>
        <p:graphicFrame>
          <p:nvGraphicFramePr>
            <p:cNvPr id="248" name="Object 184"/>
            <p:cNvGraphicFramePr/>
            <p:nvPr/>
          </p:nvGraphicFramePr>
          <p:xfrm>
            <a:off x="995040" y="2305080"/>
            <a:ext cx="280440" cy="48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9" name="Object 18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5040" y="2305080"/>
                      <a:ext cx="280440" cy="48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0" name="Object 185"/>
            <p:cNvGraphicFramePr/>
            <p:nvPr/>
          </p:nvGraphicFramePr>
          <p:xfrm>
            <a:off x="3752280" y="1681560"/>
            <a:ext cx="223920" cy="544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1" name="Object 18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52280" y="1681560"/>
                      <a:ext cx="22392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2" name="Object 186"/>
            <p:cNvGraphicFramePr/>
            <p:nvPr/>
          </p:nvGraphicFramePr>
          <p:xfrm>
            <a:off x="1932840" y="1681560"/>
            <a:ext cx="244080" cy="555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3" name="Object 18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32840" y="1681560"/>
                      <a:ext cx="244080" cy="55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4" name="Object 187"/>
            <p:cNvGraphicFramePr/>
            <p:nvPr/>
          </p:nvGraphicFramePr>
          <p:xfrm>
            <a:off x="4595760" y="2179080"/>
            <a:ext cx="236160" cy="500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Object 18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95760" y="2179080"/>
                      <a:ext cx="236160" cy="50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6" name="AutoShape 188"/>
            <p:cNvSpPr/>
            <p:nvPr/>
          </p:nvSpPr>
          <p:spPr>
            <a:xfrm>
              <a:off x="431640" y="2371320"/>
              <a:ext cx="337320" cy="37476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4760"/>
                <a:gd name="textAreaBottom" fmla="*/ 358560 h 374760"/>
              </a:gdLst>
              <a:ahLst/>
              <a:rect l="textAreaLeft" t="textAreaTop" r="textAreaRight" b="textAreaBottom"/>
              <a:pathLst>
                <a:path w="21600" h="23995">
                  <a:moveTo>
                    <a:pt x="3600" y="0"/>
                  </a:moveTo>
                  <a:arcTo wR="3600" hR="3600" stAng="16200000" swAng="-5400000"/>
                  <a:lnTo>
                    <a:pt x="0" y="20395"/>
                  </a:lnTo>
                  <a:arcTo wR="3600" hR="3600" stAng="10800000" swAng="-5400000"/>
                  <a:lnTo>
                    <a:pt x="18000" y="23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S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89"/>
            <p:cNvSpPr/>
            <p:nvPr/>
          </p:nvSpPr>
          <p:spPr>
            <a:xfrm>
              <a:off x="1501200" y="1807560"/>
              <a:ext cx="337320" cy="37476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4760"/>
                <a:gd name="textAreaBottom" fmla="*/ 358560 h 374760"/>
              </a:gdLst>
              <a:ahLst/>
              <a:rect l="textAreaLeft" t="textAreaTop" r="textAreaRight" b="textAreaBottom"/>
              <a:pathLst>
                <a:path w="21600" h="23995">
                  <a:moveTo>
                    <a:pt x="3600" y="0"/>
                  </a:moveTo>
                  <a:arcTo wR="3600" hR="3600" stAng="16200000" swAng="-5400000"/>
                  <a:lnTo>
                    <a:pt x="0" y="20395"/>
                  </a:lnTo>
                  <a:arcTo wR="3600" hR="3600" stAng="10800000" swAng="-5400000"/>
                  <a:lnTo>
                    <a:pt x="18000" y="23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V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190"/>
            <p:cNvSpPr/>
            <p:nvPr/>
          </p:nvSpPr>
          <p:spPr>
            <a:xfrm>
              <a:off x="2401200" y="1308240"/>
              <a:ext cx="337320" cy="37332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3320"/>
                <a:gd name="textAreaBottom" fmla="*/ 357120 h 373320"/>
              </a:gdLst>
              <a:ahLst/>
              <a:rect l="textAreaLeft" t="textAreaTop" r="textAreaRight" b="textAreaBottom"/>
              <a:pathLst>
                <a:path w="21600" h="23903">
                  <a:moveTo>
                    <a:pt x="3600" y="0"/>
                  </a:moveTo>
                  <a:arcTo wR="3600" hR="3600" stAng="16200000" swAng="-5400000"/>
                  <a:lnTo>
                    <a:pt x="0" y="20303"/>
                  </a:lnTo>
                  <a:arcTo wR="3600" hR="3600" stAng="10800000" swAng="-5400000"/>
                  <a:lnTo>
                    <a:pt x="18000" y="239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191"/>
            <p:cNvSpPr/>
            <p:nvPr/>
          </p:nvSpPr>
          <p:spPr>
            <a:xfrm>
              <a:off x="2851200" y="2806200"/>
              <a:ext cx="337320" cy="37368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3680"/>
                <a:gd name="textAreaBottom" fmla="*/ 357480 h 373680"/>
              </a:gdLst>
              <a:ahLst/>
              <a:rect l="textAreaLeft" t="textAreaTop" r="textAreaRight" b="textAreaBottom"/>
              <a:pathLst>
                <a:path w="21600" h="23926">
                  <a:moveTo>
                    <a:pt x="3600" y="0"/>
                  </a:moveTo>
                  <a:arcTo wR="3600" hR="3600" stAng="16200000" swAng="-5400000"/>
                  <a:lnTo>
                    <a:pt x="0" y="20326"/>
                  </a:lnTo>
                  <a:arcTo wR="3600" hR="3600" stAng="10800000" swAng="-5400000"/>
                  <a:lnTo>
                    <a:pt x="18000" y="23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V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192"/>
            <p:cNvSpPr/>
            <p:nvPr/>
          </p:nvSpPr>
          <p:spPr>
            <a:xfrm>
              <a:off x="3245760" y="1308240"/>
              <a:ext cx="337320" cy="37332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3320"/>
                <a:gd name="textAreaBottom" fmla="*/ 357120 h 373320"/>
              </a:gdLst>
              <a:ahLst/>
              <a:rect l="textAreaLeft" t="textAreaTop" r="textAreaRight" b="textAreaBottom"/>
              <a:pathLst>
                <a:path w="21600" h="23903">
                  <a:moveTo>
                    <a:pt x="3600" y="0"/>
                  </a:moveTo>
                  <a:arcTo wR="3600" hR="3600" stAng="16200000" swAng="-5400000"/>
                  <a:lnTo>
                    <a:pt x="0" y="20303"/>
                  </a:lnTo>
                  <a:arcTo wR="3600" hR="3600" stAng="10800000" swAng="-5400000"/>
                  <a:lnTo>
                    <a:pt x="18000" y="239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MJ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193"/>
            <p:cNvSpPr/>
            <p:nvPr/>
          </p:nvSpPr>
          <p:spPr>
            <a:xfrm>
              <a:off x="2795400" y="1770120"/>
              <a:ext cx="337320" cy="37368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3680"/>
                <a:gd name="textAreaBottom" fmla="*/ 357480 h 373680"/>
              </a:gdLst>
              <a:ahLst/>
              <a:rect l="textAreaLeft" t="textAreaTop" r="textAreaRight" b="textAreaBottom"/>
              <a:pathLst>
                <a:path w="21600" h="23926">
                  <a:moveTo>
                    <a:pt x="3600" y="0"/>
                  </a:moveTo>
                  <a:arcTo wR="3600" hR="3600" stAng="16200000" swAng="-5400000"/>
                  <a:lnTo>
                    <a:pt x="0" y="20326"/>
                  </a:lnTo>
                  <a:arcTo wR="3600" hR="3600" stAng="10800000" swAng="-5400000"/>
                  <a:lnTo>
                    <a:pt x="18000" y="23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94"/>
            <p:cNvSpPr/>
            <p:nvPr/>
          </p:nvSpPr>
          <p:spPr>
            <a:xfrm>
              <a:off x="2345400" y="2182680"/>
              <a:ext cx="337320" cy="37332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3320"/>
                <a:gd name="textAreaBottom" fmla="*/ 357120 h 373320"/>
              </a:gdLst>
              <a:ahLst/>
              <a:rect l="textAreaLeft" t="textAreaTop" r="textAreaRight" b="textAreaBottom"/>
              <a:pathLst>
                <a:path w="21600" h="23903">
                  <a:moveTo>
                    <a:pt x="3600" y="0"/>
                  </a:moveTo>
                  <a:arcTo wR="3600" hR="3600" stAng="16200000" swAng="-5400000"/>
                  <a:lnTo>
                    <a:pt x="0" y="20303"/>
                  </a:lnTo>
                  <a:arcTo wR="3600" hR="3600" stAng="10800000" swAng="-5400000"/>
                  <a:lnTo>
                    <a:pt x="18000" y="239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95"/>
            <p:cNvSpPr/>
            <p:nvPr/>
          </p:nvSpPr>
          <p:spPr>
            <a:xfrm>
              <a:off x="4089960" y="1764000"/>
              <a:ext cx="337320" cy="37368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3680"/>
                <a:gd name="textAreaBottom" fmla="*/ 357480 h 373680"/>
              </a:gdLst>
              <a:ahLst/>
              <a:rect l="textAreaLeft" t="textAreaTop" r="textAreaRight" b="textAreaBottom"/>
              <a:pathLst>
                <a:path w="21600" h="23926">
                  <a:moveTo>
                    <a:pt x="3600" y="0"/>
                  </a:moveTo>
                  <a:arcTo wR="3600" hR="3600" stAng="16200000" swAng="-5400000"/>
                  <a:lnTo>
                    <a:pt x="0" y="20326"/>
                  </a:lnTo>
                  <a:arcTo wR="3600" hR="3600" stAng="10800000" swAng="-5400000"/>
                  <a:lnTo>
                    <a:pt x="18000" y="23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96"/>
            <p:cNvSpPr/>
            <p:nvPr/>
          </p:nvSpPr>
          <p:spPr>
            <a:xfrm>
              <a:off x="4991400" y="2247480"/>
              <a:ext cx="337320" cy="37476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4760"/>
                <a:gd name="textAreaBottom" fmla="*/ 358560 h 374760"/>
              </a:gdLst>
              <a:ahLst/>
              <a:rect l="textAreaLeft" t="textAreaTop" r="textAreaRight" b="textAreaBottom"/>
              <a:pathLst>
                <a:path w="21600" h="23995">
                  <a:moveTo>
                    <a:pt x="3600" y="0"/>
                  </a:moveTo>
                  <a:arcTo wR="3600" hR="3600" stAng="16200000" swAng="-5400000"/>
                  <a:lnTo>
                    <a:pt x="0" y="20395"/>
                  </a:lnTo>
                  <a:arcTo wR="3600" hR="3600" stAng="10800000" swAng="-5400000"/>
                  <a:lnTo>
                    <a:pt x="18000" y="23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AutoShape 197"/>
            <p:cNvCxnSpPr>
              <a:stCxn id="256" idx="3"/>
            </p:cNvCxnSpPr>
            <p:nvPr/>
          </p:nvCxnSpPr>
          <p:spPr>
            <a:xfrm flipV="1">
              <a:off x="768600" y="2549520"/>
              <a:ext cx="226440" cy="9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AutoShape 198"/>
            <p:cNvCxnSpPr>
              <a:endCxn id="257" idx="1"/>
            </p:cNvCxnSpPr>
            <p:nvPr/>
          </p:nvCxnSpPr>
          <p:spPr>
            <a:xfrm flipV="1">
              <a:off x="1275480" y="1994760"/>
              <a:ext cx="225720" cy="555840"/>
            </a:xfrm>
            <a:prstGeom prst="bentConnector3">
              <a:avLst>
                <a:gd name="adj1" fmla="val 496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AutoShape 199"/>
            <p:cNvCxnSpPr>
              <a:endCxn id="259" idx="1"/>
            </p:cNvCxnSpPr>
            <p:nvPr/>
          </p:nvCxnSpPr>
          <p:spPr>
            <a:xfrm>
              <a:off x="1275480" y="2550240"/>
              <a:ext cx="1575720" cy="442800"/>
            </a:xfrm>
            <a:prstGeom prst="bentConnector3">
              <a:avLst>
                <a:gd name="adj1" fmla="val 71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AutoShape 200"/>
            <p:cNvCxnSpPr>
              <a:stCxn id="257" idx="3"/>
            </p:cNvCxnSpPr>
            <p:nvPr/>
          </p:nvCxnSpPr>
          <p:spPr>
            <a:xfrm flipV="1">
              <a:off x="1838520" y="1959480"/>
              <a:ext cx="95040" cy="3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AutoShape 201"/>
            <p:cNvCxnSpPr>
              <a:endCxn id="258" idx="1"/>
            </p:cNvCxnSpPr>
            <p:nvPr/>
          </p:nvCxnSpPr>
          <p:spPr>
            <a:xfrm flipV="1">
              <a:off x="2177280" y="1494720"/>
              <a:ext cx="224640" cy="464760"/>
            </a:xfrm>
            <a:prstGeom prst="bentConnector3">
              <a:avLst>
                <a:gd name="adj1" fmla="val 3964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AutoShape 202"/>
            <p:cNvCxnSpPr>
              <a:endCxn id="262" idx="1"/>
            </p:cNvCxnSpPr>
            <p:nvPr/>
          </p:nvCxnSpPr>
          <p:spPr>
            <a:xfrm>
              <a:off x="2176920" y="1959840"/>
              <a:ext cx="168840" cy="409680"/>
            </a:xfrm>
            <a:prstGeom prst="bentConnector3">
              <a:avLst>
                <a:gd name="adj1" fmla="val 553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AutoShape 203"/>
            <p:cNvCxnSpPr>
              <a:endCxn id="261" idx="1"/>
            </p:cNvCxnSpPr>
            <p:nvPr/>
          </p:nvCxnSpPr>
          <p:spPr>
            <a:xfrm flipV="1">
              <a:off x="2176920" y="1955520"/>
              <a:ext cx="61848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AutoShape 204"/>
            <p:cNvCxnSpPr>
              <a:stCxn id="258" idx="3"/>
              <a:endCxn id="260" idx="1"/>
            </p:cNvCxnSpPr>
            <p:nvPr/>
          </p:nvCxnSpPr>
          <p:spPr>
            <a:xfrm>
              <a:off x="2738880" y="1495080"/>
              <a:ext cx="50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AutoShape 205"/>
            <p:cNvCxnSpPr>
              <a:stCxn id="260" idx="3"/>
            </p:cNvCxnSpPr>
            <p:nvPr/>
          </p:nvCxnSpPr>
          <p:spPr>
            <a:xfrm>
              <a:off x="3583080" y="1495080"/>
              <a:ext cx="169920" cy="459000"/>
            </a:xfrm>
            <a:prstGeom prst="bentConnector3">
              <a:avLst>
                <a:gd name="adj1" fmla="val 498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" name="AutoShape 206"/>
            <p:cNvCxnSpPr>
              <a:stCxn id="262" idx="3"/>
            </p:cNvCxnSpPr>
            <p:nvPr/>
          </p:nvCxnSpPr>
          <p:spPr>
            <a:xfrm flipV="1">
              <a:off x="2683080" y="1953360"/>
              <a:ext cx="1069920" cy="415440"/>
            </a:xfrm>
            <a:prstGeom prst="bentConnector3">
              <a:avLst>
                <a:gd name="adj1" fmla="val 9242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AutoShape 207"/>
            <p:cNvCxnSpPr>
              <a:endCxn id="263" idx="1"/>
            </p:cNvCxnSpPr>
            <p:nvPr/>
          </p:nvCxnSpPr>
          <p:spPr>
            <a:xfrm flipV="1">
              <a:off x="3976200" y="1951200"/>
              <a:ext cx="114120" cy="2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6" name="AutoShape 208"/>
            <p:cNvCxnSpPr>
              <a:stCxn id="263" idx="3"/>
            </p:cNvCxnSpPr>
            <p:nvPr/>
          </p:nvCxnSpPr>
          <p:spPr>
            <a:xfrm>
              <a:off x="4427640" y="1951560"/>
              <a:ext cx="168480" cy="478080"/>
            </a:xfrm>
            <a:prstGeom prst="bentConnector3">
              <a:avLst>
                <a:gd name="adj1" fmla="val 498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7" name="AutoShape 209"/>
            <p:cNvCxnSpPr>
              <a:stCxn id="264" idx="1"/>
              <a:endCxn id="264" idx="1"/>
            </p:cNvCxnSpPr>
            <p:nvPr/>
          </p:nvCxnSpPr>
          <p:spPr>
            <a:xfrm>
              <a:off x="4991040" y="24343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AutoShape 210"/>
            <p:cNvCxnSpPr>
              <a:endCxn id="264" idx="1"/>
            </p:cNvCxnSpPr>
            <p:nvPr/>
          </p:nvCxnSpPr>
          <p:spPr>
            <a:xfrm>
              <a:off x="4831920" y="2428920"/>
              <a:ext cx="159840" cy="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9" name="AutoShape 211"/>
            <p:cNvCxnSpPr>
              <a:stCxn id="261" idx="3"/>
            </p:cNvCxnSpPr>
            <p:nvPr/>
          </p:nvCxnSpPr>
          <p:spPr>
            <a:xfrm flipV="1">
              <a:off x="3133080" y="1953360"/>
              <a:ext cx="619920" cy="2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AutoShape 212"/>
            <p:cNvCxnSpPr>
              <a:stCxn id="259" idx="3"/>
            </p:cNvCxnSpPr>
            <p:nvPr/>
          </p:nvCxnSpPr>
          <p:spPr>
            <a:xfrm flipV="1">
              <a:off x="3188880" y="2428200"/>
              <a:ext cx="1407600" cy="564120"/>
            </a:xfrm>
            <a:prstGeom prst="bentConnector3">
              <a:avLst>
                <a:gd name="adj1" fmla="val 940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81" name="Rectangle 213"/>
          <p:cNvSpPr/>
          <p:nvPr/>
        </p:nvSpPr>
        <p:spPr>
          <a:xfrm>
            <a:off x="5970960" y="1995480"/>
            <a:ext cx="234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P(RP\VD)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&lt;&gt; 0.25 </a:t>
            </a:r>
            <a:r>
              <a:rPr b="1" i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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P(VD\RP)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&lt;&gt; 0.11</a:t>
            </a:r>
            <a:r>
              <a:rPr b="1" i="1" lang="en-US" sz="1800" spc="-1" strike="noStrike">
                <a:solidFill>
                  <a:srgbClr val="00007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14"/>
          <p:cNvSpPr/>
          <p:nvPr/>
        </p:nvSpPr>
        <p:spPr>
          <a:xfrm flipH="1" flipV="1">
            <a:off x="2484360" y="2707920"/>
            <a:ext cx="216000" cy="2890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15"/>
          <p:cNvSpPr/>
          <p:nvPr/>
        </p:nvSpPr>
        <p:spPr>
          <a:xfrm>
            <a:off x="2268360" y="2852640"/>
            <a:ext cx="216000" cy="2890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7F7A-0A4C-4737-97FB-07D8DCDD5A4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1203480" y="1125360"/>
            <a:ext cx="740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201600" y="333360"/>
            <a:ext cx="8763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Élimination des dépendances erro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124160" y="3581280"/>
          <a:ext cx="48625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435240"/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  <a:gridCol w="5396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ST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MJ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A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S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STP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SC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E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MJ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AE=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P=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L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AutoShape 127"/>
          <p:cNvSpPr/>
          <p:nvPr/>
        </p:nvSpPr>
        <p:spPr>
          <a:xfrm>
            <a:off x="2924280" y="4483080"/>
            <a:ext cx="1152360" cy="457200"/>
          </a:xfrm>
          <a:prstGeom prst="rightArrow">
            <a:avLst>
              <a:gd name="adj1" fmla="val 50000"/>
              <a:gd name="adj2" fmla="val 630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128"/>
          <p:cNvSpPr/>
          <p:nvPr/>
        </p:nvSpPr>
        <p:spPr>
          <a:xfrm rot="16200000">
            <a:off x="4368960" y="3758760"/>
            <a:ext cx="533160" cy="30492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fill="none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</a:path>
              <a:path stroke="0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  <a:lnTo>
                  <a:pt x="0" y="15922"/>
                </a:lnTo>
                <a:lnTo>
                  <a:pt x="14596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129"/>
          <p:cNvGrpSpPr/>
          <p:nvPr/>
        </p:nvGrpSpPr>
        <p:grpSpPr>
          <a:xfrm>
            <a:off x="1835280" y="1160640"/>
            <a:ext cx="4897080" cy="1871640"/>
            <a:chOff x="1835280" y="1160640"/>
            <a:chExt cx="4897080" cy="1871640"/>
          </a:xfrm>
        </p:grpSpPr>
        <p:graphicFrame>
          <p:nvGraphicFramePr>
            <p:cNvPr id="291" name="Object 130"/>
            <p:cNvGraphicFramePr/>
            <p:nvPr/>
          </p:nvGraphicFramePr>
          <p:xfrm>
            <a:off x="2398680" y="2157480"/>
            <a:ext cx="280440" cy="48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13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98680" y="2157480"/>
                      <a:ext cx="280440" cy="48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Object 131"/>
            <p:cNvGraphicFramePr/>
            <p:nvPr/>
          </p:nvGraphicFramePr>
          <p:xfrm>
            <a:off x="5155920" y="1533960"/>
            <a:ext cx="223920" cy="544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4" name="Object 1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55920" y="1533960"/>
                      <a:ext cx="22392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132"/>
            <p:cNvGraphicFramePr/>
            <p:nvPr/>
          </p:nvGraphicFramePr>
          <p:xfrm>
            <a:off x="3336480" y="1533960"/>
            <a:ext cx="244080" cy="555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6" name="Object 13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36480" y="1533960"/>
                      <a:ext cx="244080" cy="55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Object 133"/>
            <p:cNvGraphicFramePr/>
            <p:nvPr/>
          </p:nvGraphicFramePr>
          <p:xfrm>
            <a:off x="5999400" y="2031480"/>
            <a:ext cx="236160" cy="500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98" name="Object 13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99400" y="2031480"/>
                      <a:ext cx="236160" cy="50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AutoShape 134"/>
            <p:cNvSpPr/>
            <p:nvPr/>
          </p:nvSpPr>
          <p:spPr>
            <a:xfrm>
              <a:off x="1835280" y="2223720"/>
              <a:ext cx="337320" cy="37476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4760"/>
                <a:gd name="textAreaBottom" fmla="*/ 358560 h 374760"/>
              </a:gdLst>
              <a:ahLst/>
              <a:rect l="textAreaLeft" t="textAreaTop" r="textAreaRight" b="textAreaBottom"/>
              <a:pathLst>
                <a:path w="21600" h="23995">
                  <a:moveTo>
                    <a:pt x="3600" y="0"/>
                  </a:moveTo>
                  <a:arcTo wR="3600" hR="3600" stAng="16200000" swAng="-5400000"/>
                  <a:lnTo>
                    <a:pt x="0" y="20395"/>
                  </a:lnTo>
                  <a:arcTo wR="3600" hR="3600" stAng="10800000" swAng="-5400000"/>
                  <a:lnTo>
                    <a:pt x="18000" y="23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S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35"/>
            <p:cNvSpPr/>
            <p:nvPr/>
          </p:nvSpPr>
          <p:spPr>
            <a:xfrm>
              <a:off x="2904840" y="1659960"/>
              <a:ext cx="337320" cy="37476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4760"/>
                <a:gd name="textAreaBottom" fmla="*/ 358560 h 374760"/>
              </a:gdLst>
              <a:ahLst/>
              <a:rect l="textAreaLeft" t="textAreaTop" r="textAreaRight" b="textAreaBottom"/>
              <a:pathLst>
                <a:path w="21600" h="23995">
                  <a:moveTo>
                    <a:pt x="3600" y="0"/>
                  </a:moveTo>
                  <a:arcTo wR="3600" hR="3600" stAng="16200000" swAng="-5400000"/>
                  <a:lnTo>
                    <a:pt x="0" y="20395"/>
                  </a:lnTo>
                  <a:arcTo wR="3600" hR="3600" stAng="10800000" swAng="-5400000"/>
                  <a:lnTo>
                    <a:pt x="18000" y="23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V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136"/>
            <p:cNvSpPr/>
            <p:nvPr/>
          </p:nvSpPr>
          <p:spPr>
            <a:xfrm>
              <a:off x="3804840" y="1160640"/>
              <a:ext cx="337320" cy="37332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3320"/>
                <a:gd name="textAreaBottom" fmla="*/ 357120 h 373320"/>
              </a:gdLst>
              <a:ahLst/>
              <a:rect l="textAreaLeft" t="textAreaTop" r="textAreaRight" b="textAreaBottom"/>
              <a:pathLst>
                <a:path w="21600" h="23903">
                  <a:moveTo>
                    <a:pt x="3600" y="0"/>
                  </a:moveTo>
                  <a:arcTo wR="3600" hR="3600" stAng="16200000" swAng="-5400000"/>
                  <a:lnTo>
                    <a:pt x="0" y="20303"/>
                  </a:lnTo>
                  <a:arcTo wR="3600" hR="3600" stAng="10800000" swAng="-5400000"/>
                  <a:lnTo>
                    <a:pt x="18000" y="239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137"/>
            <p:cNvSpPr/>
            <p:nvPr/>
          </p:nvSpPr>
          <p:spPr>
            <a:xfrm>
              <a:off x="4254840" y="2658600"/>
              <a:ext cx="337320" cy="37368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3680"/>
                <a:gd name="textAreaBottom" fmla="*/ 357480 h 373680"/>
              </a:gdLst>
              <a:ahLst/>
              <a:rect l="textAreaLeft" t="textAreaTop" r="textAreaRight" b="textAreaBottom"/>
              <a:pathLst>
                <a:path w="21600" h="23926">
                  <a:moveTo>
                    <a:pt x="3600" y="0"/>
                  </a:moveTo>
                  <a:arcTo wR="3600" hR="3600" stAng="16200000" swAng="-5400000"/>
                  <a:lnTo>
                    <a:pt x="0" y="20326"/>
                  </a:lnTo>
                  <a:arcTo wR="3600" hR="3600" stAng="10800000" swAng="-5400000"/>
                  <a:lnTo>
                    <a:pt x="18000" y="23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V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138"/>
            <p:cNvSpPr/>
            <p:nvPr/>
          </p:nvSpPr>
          <p:spPr>
            <a:xfrm>
              <a:off x="4649400" y="1160640"/>
              <a:ext cx="337320" cy="37332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3320"/>
                <a:gd name="textAreaBottom" fmla="*/ 357120 h 373320"/>
              </a:gdLst>
              <a:ahLst/>
              <a:rect l="textAreaLeft" t="textAreaTop" r="textAreaRight" b="textAreaBottom"/>
              <a:pathLst>
                <a:path w="21600" h="23903">
                  <a:moveTo>
                    <a:pt x="3600" y="0"/>
                  </a:moveTo>
                  <a:arcTo wR="3600" hR="3600" stAng="16200000" swAng="-5400000"/>
                  <a:lnTo>
                    <a:pt x="0" y="20303"/>
                  </a:lnTo>
                  <a:arcTo wR="3600" hR="3600" stAng="10800000" swAng="-5400000"/>
                  <a:lnTo>
                    <a:pt x="18000" y="239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MJ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139"/>
            <p:cNvSpPr/>
            <p:nvPr/>
          </p:nvSpPr>
          <p:spPr>
            <a:xfrm>
              <a:off x="4199040" y="1622520"/>
              <a:ext cx="337320" cy="37368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3680"/>
                <a:gd name="textAreaBottom" fmla="*/ 357480 h 373680"/>
              </a:gdLst>
              <a:ahLst/>
              <a:rect l="textAreaLeft" t="textAreaTop" r="textAreaRight" b="textAreaBottom"/>
              <a:pathLst>
                <a:path w="21600" h="23926">
                  <a:moveTo>
                    <a:pt x="3600" y="0"/>
                  </a:moveTo>
                  <a:arcTo wR="3600" hR="3600" stAng="16200000" swAng="-5400000"/>
                  <a:lnTo>
                    <a:pt x="0" y="20326"/>
                  </a:lnTo>
                  <a:arcTo wR="3600" hR="3600" stAng="10800000" swAng="-5400000"/>
                  <a:lnTo>
                    <a:pt x="18000" y="23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140"/>
            <p:cNvSpPr/>
            <p:nvPr/>
          </p:nvSpPr>
          <p:spPr>
            <a:xfrm>
              <a:off x="3749040" y="2035080"/>
              <a:ext cx="337320" cy="37332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3320"/>
                <a:gd name="textAreaBottom" fmla="*/ 357120 h 373320"/>
              </a:gdLst>
              <a:ahLst/>
              <a:rect l="textAreaLeft" t="textAreaTop" r="textAreaRight" b="textAreaBottom"/>
              <a:pathLst>
                <a:path w="21600" h="23903">
                  <a:moveTo>
                    <a:pt x="3600" y="0"/>
                  </a:moveTo>
                  <a:arcTo wR="3600" hR="3600" stAng="16200000" swAng="-5400000"/>
                  <a:lnTo>
                    <a:pt x="0" y="20303"/>
                  </a:lnTo>
                  <a:arcTo wR="3600" hR="3600" stAng="10800000" swAng="-5400000"/>
                  <a:lnTo>
                    <a:pt x="18000" y="239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41"/>
            <p:cNvSpPr/>
            <p:nvPr/>
          </p:nvSpPr>
          <p:spPr>
            <a:xfrm>
              <a:off x="5493600" y="1616400"/>
              <a:ext cx="337320" cy="37368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3680"/>
                <a:gd name="textAreaBottom" fmla="*/ 357480 h 373680"/>
              </a:gdLst>
              <a:ahLst/>
              <a:rect l="textAreaLeft" t="textAreaTop" r="textAreaRight" b="textAreaBottom"/>
              <a:pathLst>
                <a:path w="21600" h="23926">
                  <a:moveTo>
                    <a:pt x="3600" y="0"/>
                  </a:moveTo>
                  <a:arcTo wR="3600" hR="3600" stAng="16200000" swAng="-5400000"/>
                  <a:lnTo>
                    <a:pt x="0" y="20326"/>
                  </a:lnTo>
                  <a:arcTo wR="3600" hR="3600" stAng="10800000" swAng="-5400000"/>
                  <a:lnTo>
                    <a:pt x="18000" y="23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142"/>
            <p:cNvSpPr/>
            <p:nvPr/>
          </p:nvSpPr>
          <p:spPr>
            <a:xfrm>
              <a:off x="6395040" y="2099880"/>
              <a:ext cx="337320" cy="374760"/>
            </a:xfrm>
            <a:custGeom>
              <a:avLst/>
              <a:gdLst>
                <a:gd name="textAreaLeft" fmla="*/ 16200 w 337320"/>
                <a:gd name="textAreaRight" fmla="*/ 321120 w 337320"/>
                <a:gd name="textAreaTop" fmla="*/ 16200 h 374760"/>
                <a:gd name="textAreaBottom" fmla="*/ 358560 h 374760"/>
              </a:gdLst>
              <a:ahLst/>
              <a:rect l="textAreaLeft" t="textAreaTop" r="textAreaRight" b="textAreaBottom"/>
              <a:pathLst>
                <a:path w="21600" h="23995">
                  <a:moveTo>
                    <a:pt x="3600" y="0"/>
                  </a:moveTo>
                  <a:arcTo wR="3600" hR="3600" stAng="16200000" swAng="-5400000"/>
                  <a:lnTo>
                    <a:pt x="0" y="20395"/>
                  </a:lnTo>
                  <a:arcTo wR="3600" hR="3600" stAng="10800000" swAng="-5400000"/>
                  <a:lnTo>
                    <a:pt x="18000" y="23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8" name="AutoShape 143"/>
            <p:cNvCxnSpPr>
              <a:stCxn id="299" idx="3"/>
            </p:cNvCxnSpPr>
            <p:nvPr/>
          </p:nvCxnSpPr>
          <p:spPr>
            <a:xfrm flipV="1">
              <a:off x="2172240" y="2401920"/>
              <a:ext cx="226440" cy="9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AutoShape 144"/>
            <p:cNvCxnSpPr>
              <a:endCxn id="300" idx="1"/>
            </p:cNvCxnSpPr>
            <p:nvPr/>
          </p:nvCxnSpPr>
          <p:spPr>
            <a:xfrm flipV="1">
              <a:off x="2679120" y="1847160"/>
              <a:ext cx="225720" cy="555840"/>
            </a:xfrm>
            <a:prstGeom prst="bentConnector3">
              <a:avLst>
                <a:gd name="adj1" fmla="val 496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AutoShape 145"/>
            <p:cNvCxnSpPr>
              <a:endCxn id="302" idx="1"/>
            </p:cNvCxnSpPr>
            <p:nvPr/>
          </p:nvCxnSpPr>
          <p:spPr>
            <a:xfrm>
              <a:off x="2679120" y="2402640"/>
              <a:ext cx="1575720" cy="442800"/>
            </a:xfrm>
            <a:prstGeom prst="bentConnector3">
              <a:avLst>
                <a:gd name="adj1" fmla="val 71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AutoShape 146"/>
            <p:cNvCxnSpPr>
              <a:stCxn id="300" idx="3"/>
            </p:cNvCxnSpPr>
            <p:nvPr/>
          </p:nvCxnSpPr>
          <p:spPr>
            <a:xfrm flipV="1">
              <a:off x="3242160" y="1811880"/>
              <a:ext cx="95040" cy="3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AutoShape 147"/>
            <p:cNvCxnSpPr>
              <a:endCxn id="301" idx="1"/>
            </p:cNvCxnSpPr>
            <p:nvPr/>
          </p:nvCxnSpPr>
          <p:spPr>
            <a:xfrm flipV="1">
              <a:off x="3580920" y="1347120"/>
              <a:ext cx="224640" cy="464760"/>
            </a:xfrm>
            <a:prstGeom prst="bentConnector3">
              <a:avLst>
                <a:gd name="adj1" fmla="val 3964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AutoShape 148"/>
            <p:cNvCxnSpPr>
              <a:endCxn id="305" idx="1"/>
            </p:cNvCxnSpPr>
            <p:nvPr/>
          </p:nvCxnSpPr>
          <p:spPr>
            <a:xfrm>
              <a:off x="3580560" y="1812240"/>
              <a:ext cx="168840" cy="409680"/>
            </a:xfrm>
            <a:prstGeom prst="bentConnector3">
              <a:avLst>
                <a:gd name="adj1" fmla="val 553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AutoShape 149"/>
            <p:cNvCxnSpPr>
              <a:endCxn id="304" idx="1"/>
            </p:cNvCxnSpPr>
            <p:nvPr/>
          </p:nvCxnSpPr>
          <p:spPr>
            <a:xfrm flipV="1">
              <a:off x="3580560" y="1807920"/>
              <a:ext cx="61848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AutoShape 150"/>
            <p:cNvCxnSpPr>
              <a:stCxn id="301" idx="3"/>
              <a:endCxn id="303" idx="1"/>
            </p:cNvCxnSpPr>
            <p:nvPr/>
          </p:nvCxnSpPr>
          <p:spPr>
            <a:xfrm>
              <a:off x="4142520" y="1347480"/>
              <a:ext cx="50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6" name="AutoShape 151"/>
            <p:cNvCxnSpPr>
              <a:stCxn id="303" idx="3"/>
            </p:cNvCxnSpPr>
            <p:nvPr/>
          </p:nvCxnSpPr>
          <p:spPr>
            <a:xfrm>
              <a:off x="4986720" y="1347480"/>
              <a:ext cx="169920" cy="459000"/>
            </a:xfrm>
            <a:prstGeom prst="bentConnector3">
              <a:avLst>
                <a:gd name="adj1" fmla="val 498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7" name="AutoShape 152"/>
            <p:cNvCxnSpPr>
              <a:stCxn id="305" idx="3"/>
            </p:cNvCxnSpPr>
            <p:nvPr/>
          </p:nvCxnSpPr>
          <p:spPr>
            <a:xfrm flipV="1">
              <a:off x="4086720" y="1805760"/>
              <a:ext cx="1069920" cy="415440"/>
            </a:xfrm>
            <a:prstGeom prst="bentConnector3">
              <a:avLst>
                <a:gd name="adj1" fmla="val 9242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AutoShape 153"/>
            <p:cNvCxnSpPr>
              <a:endCxn id="306" idx="1"/>
            </p:cNvCxnSpPr>
            <p:nvPr/>
          </p:nvCxnSpPr>
          <p:spPr>
            <a:xfrm flipV="1">
              <a:off x="5379840" y="1803600"/>
              <a:ext cx="114120" cy="2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" name="AutoShape 154"/>
            <p:cNvCxnSpPr>
              <a:stCxn id="306" idx="3"/>
            </p:cNvCxnSpPr>
            <p:nvPr/>
          </p:nvCxnSpPr>
          <p:spPr>
            <a:xfrm>
              <a:off x="5831280" y="1803960"/>
              <a:ext cx="168480" cy="478080"/>
            </a:xfrm>
            <a:prstGeom prst="bentConnector3">
              <a:avLst>
                <a:gd name="adj1" fmla="val 498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AutoShape 155"/>
            <p:cNvCxnSpPr>
              <a:stCxn id="307" idx="1"/>
              <a:endCxn id="307" idx="1"/>
            </p:cNvCxnSpPr>
            <p:nvPr/>
          </p:nvCxnSpPr>
          <p:spPr>
            <a:xfrm>
              <a:off x="6394680" y="2286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" name="AutoShape 156"/>
            <p:cNvCxnSpPr>
              <a:endCxn id="307" idx="1"/>
            </p:cNvCxnSpPr>
            <p:nvPr/>
          </p:nvCxnSpPr>
          <p:spPr>
            <a:xfrm>
              <a:off x="6235560" y="2281320"/>
              <a:ext cx="159840" cy="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2" name="AutoShape 157"/>
            <p:cNvCxnSpPr>
              <a:stCxn id="304" idx="3"/>
            </p:cNvCxnSpPr>
            <p:nvPr/>
          </p:nvCxnSpPr>
          <p:spPr>
            <a:xfrm flipV="1">
              <a:off x="4536720" y="1805760"/>
              <a:ext cx="619920" cy="2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3" name="AutoShape 158"/>
            <p:cNvCxnSpPr>
              <a:stCxn id="302" idx="3"/>
            </p:cNvCxnSpPr>
            <p:nvPr/>
          </p:nvCxnSpPr>
          <p:spPr>
            <a:xfrm flipV="1">
              <a:off x="4592520" y="2280600"/>
              <a:ext cx="1407600" cy="564120"/>
            </a:xfrm>
            <a:prstGeom prst="bentConnector3">
              <a:avLst>
                <a:gd name="adj1" fmla="val 940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24" name="Line 159"/>
          <p:cNvSpPr/>
          <p:nvPr/>
        </p:nvSpPr>
        <p:spPr>
          <a:xfrm flipH="1" flipV="1">
            <a:off x="4066920" y="2312640"/>
            <a:ext cx="215640" cy="2890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60"/>
          <p:cNvSpPr/>
          <p:nvPr/>
        </p:nvSpPr>
        <p:spPr>
          <a:xfrm>
            <a:off x="4041720" y="2384280"/>
            <a:ext cx="216000" cy="2890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43080" y="3213000"/>
          <a:ext cx="2519280" cy="3322800"/>
        </p:xfrm>
        <a:graphic>
          <a:graphicData uri="http://schemas.openxmlformats.org/drawingml/2006/table">
            <a:tbl>
              <a:tblPr/>
              <a:tblGrid>
                <a:gridCol w="304560"/>
                <a:gridCol w="22147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Inst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R VD MJ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E VD  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VSC  VD R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VSC  VD 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MJR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 ER 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JR VD 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VSC  VD A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RP VD 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VD VS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RP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RP 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RD V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Line 215"/>
          <p:cNvSpPr/>
          <p:nvPr/>
        </p:nvSpPr>
        <p:spPr>
          <a:xfrm flipH="1" flipV="1">
            <a:off x="3203640" y="2023920"/>
            <a:ext cx="1008000" cy="7207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16"/>
          <p:cNvSpPr/>
          <p:nvPr/>
        </p:nvSpPr>
        <p:spPr>
          <a:xfrm flipH="1" flipV="1">
            <a:off x="3995640" y="1592280"/>
            <a:ext cx="432000" cy="10080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17"/>
          <p:cNvSpPr/>
          <p:nvPr/>
        </p:nvSpPr>
        <p:spPr>
          <a:xfrm flipH="1" flipV="1">
            <a:off x="4500720" y="2023560"/>
            <a:ext cx="71280" cy="57636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18"/>
          <p:cNvSpPr/>
          <p:nvPr/>
        </p:nvSpPr>
        <p:spPr>
          <a:xfrm flipV="1">
            <a:off x="4643280" y="1591920"/>
            <a:ext cx="216000" cy="10796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19"/>
          <p:cNvSpPr/>
          <p:nvPr/>
        </p:nvSpPr>
        <p:spPr>
          <a:xfrm flipV="1">
            <a:off x="4643280" y="2036880"/>
            <a:ext cx="936720" cy="92376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20"/>
          <p:cNvSpPr/>
          <p:nvPr/>
        </p:nvSpPr>
        <p:spPr>
          <a:xfrm>
            <a:off x="3203640" y="2097000"/>
            <a:ext cx="1008000" cy="719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21"/>
          <p:cNvSpPr/>
          <p:nvPr/>
        </p:nvSpPr>
        <p:spPr>
          <a:xfrm>
            <a:off x="3924360" y="1663560"/>
            <a:ext cx="431640" cy="9367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22"/>
          <p:cNvSpPr/>
          <p:nvPr/>
        </p:nvSpPr>
        <p:spPr>
          <a:xfrm>
            <a:off x="4427640" y="2097000"/>
            <a:ext cx="73080" cy="503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23"/>
          <p:cNvSpPr/>
          <p:nvPr/>
        </p:nvSpPr>
        <p:spPr>
          <a:xfrm flipH="1">
            <a:off x="4592160" y="1592280"/>
            <a:ext cx="195480" cy="10796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24"/>
          <p:cNvSpPr/>
          <p:nvPr/>
        </p:nvSpPr>
        <p:spPr>
          <a:xfrm flipH="1">
            <a:off x="4642920" y="2095560"/>
            <a:ext cx="1008360" cy="9367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E379-C58C-499A-8D58-5397CB8D4BF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771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hapitre 6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écouverte de la logique des proces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18B4-9D44-4FEE-BA1A-412CCE44651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71640" y="3886200"/>
            <a:ext cx="7200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ude God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iversité de lorraine. Es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ude.godart@univ-lorraine.loria.f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1203480" y="1125360"/>
            <a:ext cx="740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0880" y="189000"/>
            <a:ext cx="8763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Élimination des dépendances erro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4091040" y="3141720"/>
          <a:ext cx="48625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434880"/>
                <a:gridCol w="431640"/>
                <a:gridCol w="432000"/>
                <a:gridCol w="433440"/>
                <a:gridCol w="431640"/>
                <a:gridCol w="432000"/>
                <a:gridCol w="431640"/>
                <a:gridCol w="432000"/>
                <a:gridCol w="5396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ST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MJ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A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STP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SC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E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MJ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AE=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P=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L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AutoShape 127"/>
          <p:cNvSpPr/>
          <p:nvPr/>
        </p:nvSpPr>
        <p:spPr>
          <a:xfrm>
            <a:off x="2824200" y="4056120"/>
            <a:ext cx="1152360" cy="457200"/>
          </a:xfrm>
          <a:prstGeom prst="rightArrow">
            <a:avLst>
              <a:gd name="adj1" fmla="val 50000"/>
              <a:gd name="adj2" fmla="val 630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rc 128"/>
          <p:cNvSpPr/>
          <p:nvPr/>
        </p:nvSpPr>
        <p:spPr>
          <a:xfrm rot="16200000">
            <a:off x="4249440" y="329868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fill="none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</a:path>
              <a:path stroke="0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  <a:lnTo>
                  <a:pt x="0" y="15922"/>
                </a:lnTo>
                <a:lnTo>
                  <a:pt x="14596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29"/>
          <p:cNvSpPr/>
          <p:nvPr/>
        </p:nvSpPr>
        <p:spPr>
          <a:xfrm>
            <a:off x="220680" y="1227240"/>
            <a:ext cx="1252440" cy="583920"/>
          </a:xfrm>
          <a:custGeom>
            <a:avLst/>
            <a:gdLst>
              <a:gd name="textAreaLeft" fmla="*/ 167760 w 1252440"/>
              <a:gd name="textAreaRight" fmla="*/ 1084680 w 1252440"/>
              <a:gd name="textAreaTop" fmla="*/ 104400 h 583920"/>
              <a:gd name="textAreaBottom" fmla="*/ 42120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34" stAng="-5400000" swAng="-5400000"/>
                <a:lnTo>
                  <a:pt x="0" y="11707"/>
                </a:lnTo>
                <a:arcTo wR="21600" hR="7734" stAng="10800000" swAng="-3511037"/>
                <a:lnTo>
                  <a:pt x="16974" y="21421"/>
                </a:lnTo>
                <a:lnTo>
                  <a:pt x="21600" y="17454"/>
                </a:lnTo>
                <a:lnTo>
                  <a:pt x="16974" y="13128"/>
                </a:lnTo>
                <a:lnTo>
                  <a:pt x="16974" y="15288"/>
                </a:lnTo>
                <a:arcTo wR="21600" hR="7734" stAng="7288963" swAng="3184881"/>
                <a:lnTo>
                  <a:pt x="725" y="9720"/>
                </a:lnTo>
                <a:arcTo wR="21600" hR="7734" stAng="-10473844" swAng="5073844"/>
                <a:close/>
              </a:path>
              <a:path fill="darkenLess" w="21600" h="21600">
                <a:moveTo>
                  <a:pt x="21600" y="0"/>
                </a:moveTo>
                <a:arcTo wR="21600" hR="7734" stAng="-5400000" swAng="-5400000"/>
                <a:lnTo>
                  <a:pt x="0" y="7734"/>
                </a:lnTo>
                <a:arcTo wR="21600" hR="7734" stAng="10800000" swAng="-326156"/>
                <a:lnTo>
                  <a:pt x="725" y="9720"/>
                </a:lnTo>
                <a:arcTo wR="21600" hR="7734" stAng="-10473844" swAng="5073844"/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30"/>
          <p:cNvSpPr/>
          <p:nvPr/>
        </p:nvSpPr>
        <p:spPr>
          <a:xfrm>
            <a:off x="1473120" y="981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ux activités A et B sont concurrentes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ahoma"/>
              </a:rPr>
              <a:t>ssi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les entrées P(A\B) et P(B\A) dans TDS sont non nu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12760" y="2622600"/>
          <a:ext cx="2519280" cy="3322440"/>
        </p:xfrm>
        <a:graphic>
          <a:graphicData uri="http://schemas.openxmlformats.org/drawingml/2006/table">
            <a:tbl>
              <a:tblPr/>
              <a:tblGrid>
                <a:gridCol w="304920"/>
                <a:gridCol w="22143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Inst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R VD MJ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E VD  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VSC  VD R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VSC  VD E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MJR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 ER 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MJR VD 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VSC  VD A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RP VD 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VD VS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RP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RP  </a:t>
                      </a:r>
                      <a:r>
                        <a:rPr b="0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RD V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7C44-DA8A-48AF-9C38-AC7B0453C9F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1203480" y="1125360"/>
            <a:ext cx="740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404640" y="189000"/>
            <a:ext cx="8763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couverte des dépendances indirec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79280" y="3290760"/>
          <a:ext cx="2519640" cy="3322800"/>
        </p:xfrm>
        <a:graphic>
          <a:graphicData uri="http://schemas.openxmlformats.org/drawingml/2006/table">
            <a:tbl>
              <a:tblPr/>
              <a:tblGrid>
                <a:gridCol w="304920"/>
                <a:gridCol w="22147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Inst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V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J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AE VD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RP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 MJ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 MJ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D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AE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RP VD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D VSC  RP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RP  RD V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AutoShape 58"/>
          <p:cNvSpPr/>
          <p:nvPr/>
        </p:nvSpPr>
        <p:spPr>
          <a:xfrm>
            <a:off x="2835360" y="4724280"/>
            <a:ext cx="1152360" cy="457200"/>
          </a:xfrm>
          <a:prstGeom prst="rightArrow">
            <a:avLst>
              <a:gd name="adj1" fmla="val 50000"/>
              <a:gd name="adj2" fmla="val 630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rc 59"/>
          <p:cNvSpPr/>
          <p:nvPr/>
        </p:nvSpPr>
        <p:spPr>
          <a:xfrm rot="16200000">
            <a:off x="4260600" y="39463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fill="none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</a:path>
              <a:path stroke="0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  <a:lnTo>
                  <a:pt x="0" y="15922"/>
                </a:lnTo>
                <a:lnTo>
                  <a:pt x="14596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60"/>
          <p:cNvGrpSpPr/>
          <p:nvPr/>
        </p:nvGrpSpPr>
        <p:grpSpPr>
          <a:xfrm>
            <a:off x="1893960" y="1015920"/>
            <a:ext cx="5111280" cy="2087280"/>
            <a:chOff x="1893960" y="1015920"/>
            <a:chExt cx="5111280" cy="2087280"/>
          </a:xfrm>
        </p:grpSpPr>
        <p:graphicFrame>
          <p:nvGraphicFramePr>
            <p:cNvPr id="353" name="Object 61"/>
            <p:cNvGraphicFramePr/>
            <p:nvPr/>
          </p:nvGraphicFramePr>
          <p:xfrm>
            <a:off x="2482200" y="2127960"/>
            <a:ext cx="292680" cy="54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4" name="Object 6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82200" y="2127960"/>
                      <a:ext cx="29268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5" name="Object 62"/>
            <p:cNvGraphicFramePr/>
            <p:nvPr/>
          </p:nvGraphicFramePr>
          <p:xfrm>
            <a:off x="5360040" y="1432440"/>
            <a:ext cx="233640" cy="60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6" name="Object 6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60040" y="1432440"/>
                      <a:ext cx="233640" cy="60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7" name="Object 63"/>
            <p:cNvGraphicFramePr/>
            <p:nvPr/>
          </p:nvGraphicFramePr>
          <p:xfrm>
            <a:off x="3460680" y="1432440"/>
            <a:ext cx="254880" cy="619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8" name="Object 6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60680" y="1432440"/>
                      <a:ext cx="25488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9" name="Object 64"/>
            <p:cNvGraphicFramePr/>
            <p:nvPr/>
          </p:nvGraphicFramePr>
          <p:xfrm>
            <a:off x="6240240" y="1987200"/>
            <a:ext cx="246600" cy="558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0" name="Object 6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40240" y="1987200"/>
                      <a:ext cx="24660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1" name="AutoShape 65"/>
            <p:cNvSpPr/>
            <p:nvPr/>
          </p:nvSpPr>
          <p:spPr>
            <a:xfrm>
              <a:off x="1893960" y="2201400"/>
              <a:ext cx="352080" cy="41796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7960"/>
                <a:gd name="textAreaBottom" fmla="*/ 401040 h 417960"/>
              </a:gdLst>
              <a:ahLst/>
              <a:rect l="textAreaLeft" t="textAreaTop" r="textAreaRight" b="textAreaBottom"/>
              <a:pathLst>
                <a:path w="21600" h="25638">
                  <a:moveTo>
                    <a:pt x="3600" y="0"/>
                  </a:moveTo>
                  <a:arcTo wR="3600" hR="3600" stAng="16200000" swAng="-5400000"/>
                  <a:lnTo>
                    <a:pt x="0" y="22038"/>
                  </a:lnTo>
                  <a:arcTo wR="3600" hR="3600" stAng="10800000" swAng="-5400000"/>
                  <a:lnTo>
                    <a:pt x="18000" y="256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S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66"/>
            <p:cNvSpPr/>
            <p:nvPr/>
          </p:nvSpPr>
          <p:spPr>
            <a:xfrm>
              <a:off x="3010320" y="1572840"/>
              <a:ext cx="352080" cy="41796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7960"/>
                <a:gd name="textAreaBottom" fmla="*/ 401040 h 417960"/>
              </a:gdLst>
              <a:ahLst/>
              <a:rect l="textAreaLeft" t="textAreaTop" r="textAreaRight" b="textAreaBottom"/>
              <a:pathLst>
                <a:path w="21600" h="25638">
                  <a:moveTo>
                    <a:pt x="3600" y="0"/>
                  </a:moveTo>
                  <a:arcTo wR="3600" hR="3600" stAng="16200000" swAng="-5400000"/>
                  <a:lnTo>
                    <a:pt x="0" y="22038"/>
                  </a:lnTo>
                  <a:arcTo wR="3600" hR="3600" stAng="10800000" swAng="-5400000"/>
                  <a:lnTo>
                    <a:pt x="18000" y="256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V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67"/>
            <p:cNvSpPr/>
            <p:nvPr/>
          </p:nvSpPr>
          <p:spPr>
            <a:xfrm>
              <a:off x="3949560" y="1015920"/>
              <a:ext cx="352080" cy="41652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6520"/>
                <a:gd name="textAreaBottom" fmla="*/ 399600 h 416520"/>
              </a:gdLst>
              <a:ahLst/>
              <a:rect l="textAreaLeft" t="textAreaTop" r="textAreaRight" b="textAreaBottom"/>
              <a:pathLst>
                <a:path w="21600" h="25549">
                  <a:moveTo>
                    <a:pt x="3600" y="0"/>
                  </a:moveTo>
                  <a:arcTo wR="3600" hR="3600" stAng="16200000" swAng="-5400000"/>
                  <a:lnTo>
                    <a:pt x="0" y="21949"/>
                  </a:lnTo>
                  <a:arcTo wR="3600" hR="3600" stAng="10800000" swAng="-5400000"/>
                  <a:lnTo>
                    <a:pt x="18000" y="255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68"/>
            <p:cNvSpPr/>
            <p:nvPr/>
          </p:nvSpPr>
          <p:spPr>
            <a:xfrm>
              <a:off x="4419360" y="2686680"/>
              <a:ext cx="352080" cy="41652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6520"/>
                <a:gd name="textAreaBottom" fmla="*/ 399600 h 416520"/>
              </a:gdLst>
              <a:ahLst/>
              <a:rect l="textAreaLeft" t="textAreaTop" r="textAreaRight" b="textAreaBottom"/>
              <a:pathLst>
                <a:path w="21600" h="25549">
                  <a:moveTo>
                    <a:pt x="3600" y="0"/>
                  </a:moveTo>
                  <a:arcTo wR="3600" hR="3600" stAng="16200000" swAng="-5400000"/>
                  <a:lnTo>
                    <a:pt x="0" y="21949"/>
                  </a:lnTo>
                  <a:arcTo wR="3600" hR="3600" stAng="10800000" swAng="-5400000"/>
                  <a:lnTo>
                    <a:pt x="18000" y="255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V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69"/>
            <p:cNvSpPr/>
            <p:nvPr/>
          </p:nvSpPr>
          <p:spPr>
            <a:xfrm>
              <a:off x="4831200" y="1015920"/>
              <a:ext cx="352080" cy="41652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6520"/>
                <a:gd name="textAreaBottom" fmla="*/ 399600 h 416520"/>
              </a:gdLst>
              <a:ahLst/>
              <a:rect l="textAreaLeft" t="textAreaTop" r="textAreaRight" b="textAreaBottom"/>
              <a:pathLst>
                <a:path w="21600" h="25549">
                  <a:moveTo>
                    <a:pt x="3600" y="0"/>
                  </a:moveTo>
                  <a:arcTo wR="3600" hR="3600" stAng="16200000" swAng="-5400000"/>
                  <a:lnTo>
                    <a:pt x="0" y="21949"/>
                  </a:lnTo>
                  <a:arcTo wR="3600" hR="3600" stAng="10800000" swAng="-5400000"/>
                  <a:lnTo>
                    <a:pt x="18000" y="255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MJ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70"/>
            <p:cNvSpPr/>
            <p:nvPr/>
          </p:nvSpPr>
          <p:spPr>
            <a:xfrm>
              <a:off x="4361040" y="1531080"/>
              <a:ext cx="352080" cy="41652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6520"/>
                <a:gd name="textAreaBottom" fmla="*/ 399600 h 416520"/>
              </a:gdLst>
              <a:ahLst/>
              <a:rect l="textAreaLeft" t="textAreaTop" r="textAreaRight" b="textAreaBottom"/>
              <a:pathLst>
                <a:path w="21600" h="25549">
                  <a:moveTo>
                    <a:pt x="3600" y="0"/>
                  </a:moveTo>
                  <a:arcTo wR="3600" hR="3600" stAng="16200000" swAng="-5400000"/>
                  <a:lnTo>
                    <a:pt x="0" y="21949"/>
                  </a:lnTo>
                  <a:arcTo wR="3600" hR="3600" stAng="10800000" swAng="-5400000"/>
                  <a:lnTo>
                    <a:pt x="18000" y="255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71"/>
            <p:cNvSpPr/>
            <p:nvPr/>
          </p:nvSpPr>
          <p:spPr>
            <a:xfrm>
              <a:off x="3891600" y="1991160"/>
              <a:ext cx="352080" cy="41652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6520"/>
                <a:gd name="textAreaBottom" fmla="*/ 399600 h 416520"/>
              </a:gdLst>
              <a:ahLst/>
              <a:rect l="textAreaLeft" t="textAreaTop" r="textAreaRight" b="textAreaBottom"/>
              <a:pathLst>
                <a:path w="21600" h="25549">
                  <a:moveTo>
                    <a:pt x="3600" y="0"/>
                  </a:moveTo>
                  <a:arcTo wR="3600" hR="3600" stAng="16200000" swAng="-5400000"/>
                  <a:lnTo>
                    <a:pt x="0" y="21949"/>
                  </a:lnTo>
                  <a:arcTo wR="3600" hR="3600" stAng="10800000" swAng="-5400000"/>
                  <a:lnTo>
                    <a:pt x="18000" y="255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72"/>
            <p:cNvSpPr/>
            <p:nvPr/>
          </p:nvSpPr>
          <p:spPr>
            <a:xfrm>
              <a:off x="5712480" y="1524240"/>
              <a:ext cx="352080" cy="41652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6520"/>
                <a:gd name="textAreaBottom" fmla="*/ 399600 h 416520"/>
              </a:gdLst>
              <a:ahLst/>
              <a:rect l="textAreaLeft" t="textAreaTop" r="textAreaRight" b="textAreaBottom"/>
              <a:pathLst>
                <a:path w="21600" h="25549">
                  <a:moveTo>
                    <a:pt x="3600" y="0"/>
                  </a:moveTo>
                  <a:arcTo wR="3600" hR="3600" stAng="16200000" swAng="-5400000"/>
                  <a:lnTo>
                    <a:pt x="0" y="21949"/>
                  </a:lnTo>
                  <a:arcTo wR="3600" hR="3600" stAng="10800000" swAng="-5400000"/>
                  <a:lnTo>
                    <a:pt x="18000" y="255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73"/>
            <p:cNvSpPr/>
            <p:nvPr/>
          </p:nvSpPr>
          <p:spPr>
            <a:xfrm>
              <a:off x="6653160" y="2063520"/>
              <a:ext cx="352080" cy="41796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7960"/>
                <a:gd name="textAreaBottom" fmla="*/ 401040 h 417960"/>
              </a:gdLst>
              <a:ahLst/>
              <a:rect l="textAreaLeft" t="textAreaTop" r="textAreaRight" b="textAreaBottom"/>
              <a:pathLst>
                <a:path w="21600" h="25638">
                  <a:moveTo>
                    <a:pt x="3600" y="0"/>
                  </a:moveTo>
                  <a:arcTo wR="3600" hR="3600" stAng="16200000" swAng="-5400000"/>
                  <a:lnTo>
                    <a:pt x="0" y="22038"/>
                  </a:lnTo>
                  <a:arcTo wR="3600" hR="3600" stAng="10800000" swAng="-5400000"/>
                  <a:lnTo>
                    <a:pt x="18000" y="256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AutoShape 74"/>
            <p:cNvCxnSpPr>
              <a:stCxn id="361" idx="3"/>
            </p:cNvCxnSpPr>
            <p:nvPr/>
          </p:nvCxnSpPr>
          <p:spPr>
            <a:xfrm flipV="1">
              <a:off x="2245680" y="2400480"/>
              <a:ext cx="236520" cy="9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1" name="AutoShape 75"/>
            <p:cNvCxnSpPr>
              <a:endCxn id="362" idx="1"/>
            </p:cNvCxnSpPr>
            <p:nvPr/>
          </p:nvCxnSpPr>
          <p:spPr>
            <a:xfrm flipV="1">
              <a:off x="2774520" y="1781640"/>
              <a:ext cx="235800" cy="619920"/>
            </a:xfrm>
            <a:prstGeom prst="bentConnector3">
              <a:avLst>
                <a:gd name="adj1" fmla="val 4969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AutoShape 76"/>
            <p:cNvCxnSpPr>
              <a:endCxn id="364" idx="1"/>
            </p:cNvCxnSpPr>
            <p:nvPr/>
          </p:nvCxnSpPr>
          <p:spPr>
            <a:xfrm>
              <a:off x="2774520" y="2400840"/>
              <a:ext cx="1644840" cy="493560"/>
            </a:xfrm>
            <a:prstGeom prst="bentConnector3">
              <a:avLst>
                <a:gd name="adj1" fmla="val 71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AutoShape 77"/>
            <p:cNvCxnSpPr>
              <a:stCxn id="362" idx="3"/>
            </p:cNvCxnSpPr>
            <p:nvPr/>
          </p:nvCxnSpPr>
          <p:spPr>
            <a:xfrm flipV="1">
              <a:off x="3362040" y="1742040"/>
              <a:ext cx="99000" cy="3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4" name="AutoShape 78"/>
            <p:cNvCxnSpPr>
              <a:endCxn id="363" idx="1"/>
            </p:cNvCxnSpPr>
            <p:nvPr/>
          </p:nvCxnSpPr>
          <p:spPr>
            <a:xfrm flipV="1">
              <a:off x="3715560" y="1224360"/>
              <a:ext cx="234360" cy="518400"/>
            </a:xfrm>
            <a:prstGeom prst="bentConnector3">
              <a:avLst>
                <a:gd name="adj1" fmla="val 396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5" name="AutoShape 79"/>
            <p:cNvCxnSpPr>
              <a:endCxn id="367" idx="1"/>
            </p:cNvCxnSpPr>
            <p:nvPr/>
          </p:nvCxnSpPr>
          <p:spPr>
            <a:xfrm>
              <a:off x="3715560" y="1742400"/>
              <a:ext cx="175680" cy="456840"/>
            </a:xfrm>
            <a:prstGeom prst="bentConnector3">
              <a:avLst>
                <a:gd name="adj1" fmla="val 554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AutoShape 80"/>
            <p:cNvCxnSpPr>
              <a:endCxn id="366" idx="1"/>
            </p:cNvCxnSpPr>
            <p:nvPr/>
          </p:nvCxnSpPr>
          <p:spPr>
            <a:xfrm flipV="1">
              <a:off x="3715920" y="1738800"/>
              <a:ext cx="6458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7" name="AutoShape 81"/>
            <p:cNvCxnSpPr>
              <a:stCxn id="363" idx="3"/>
              <a:endCxn id="365" idx="1"/>
            </p:cNvCxnSpPr>
            <p:nvPr/>
          </p:nvCxnSpPr>
          <p:spPr>
            <a:xfrm>
              <a:off x="4301640" y="1224360"/>
              <a:ext cx="529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82"/>
            <p:cNvCxnSpPr>
              <a:stCxn id="365" idx="3"/>
            </p:cNvCxnSpPr>
            <p:nvPr/>
          </p:nvCxnSpPr>
          <p:spPr>
            <a:xfrm>
              <a:off x="5183280" y="1224720"/>
              <a:ext cx="177120" cy="511920"/>
            </a:xfrm>
            <a:prstGeom prst="bentConnector3">
              <a:avLst>
                <a:gd name="adj1" fmla="val 4989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83"/>
            <p:cNvCxnSpPr>
              <a:stCxn id="367" idx="3"/>
            </p:cNvCxnSpPr>
            <p:nvPr/>
          </p:nvCxnSpPr>
          <p:spPr>
            <a:xfrm flipV="1">
              <a:off x="4243680" y="1735200"/>
              <a:ext cx="1116720" cy="463320"/>
            </a:xfrm>
            <a:prstGeom prst="bentConnector3">
              <a:avLst>
                <a:gd name="adj1" fmla="val 9242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84"/>
            <p:cNvCxnSpPr>
              <a:endCxn id="368" idx="1"/>
            </p:cNvCxnSpPr>
            <p:nvPr/>
          </p:nvCxnSpPr>
          <p:spPr>
            <a:xfrm flipV="1">
              <a:off x="5593320" y="1732680"/>
              <a:ext cx="119160" cy="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85"/>
            <p:cNvCxnSpPr>
              <a:stCxn id="368" idx="3"/>
            </p:cNvCxnSpPr>
            <p:nvPr/>
          </p:nvCxnSpPr>
          <p:spPr>
            <a:xfrm>
              <a:off x="6064560" y="1733040"/>
              <a:ext cx="175680" cy="533160"/>
            </a:xfrm>
            <a:prstGeom prst="bentConnector3">
              <a:avLst>
                <a:gd name="adj1" fmla="val 4989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AutoShape 86"/>
            <p:cNvCxnSpPr>
              <a:stCxn id="369" idx="1"/>
              <a:endCxn id="369" idx="1"/>
            </p:cNvCxnSpPr>
            <p:nvPr/>
          </p:nvCxnSpPr>
          <p:spPr>
            <a:xfrm>
              <a:off x="6652800" y="227196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3" name="AutoShape 87"/>
            <p:cNvCxnSpPr>
              <a:endCxn id="369" idx="1"/>
            </p:cNvCxnSpPr>
            <p:nvPr/>
          </p:nvCxnSpPr>
          <p:spPr>
            <a:xfrm>
              <a:off x="6486480" y="2265840"/>
              <a:ext cx="16668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88"/>
            <p:cNvCxnSpPr>
              <a:stCxn id="366" idx="3"/>
            </p:cNvCxnSpPr>
            <p:nvPr/>
          </p:nvCxnSpPr>
          <p:spPr>
            <a:xfrm flipV="1">
              <a:off x="4713120" y="1735200"/>
              <a:ext cx="646920" cy="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89"/>
            <p:cNvCxnSpPr>
              <a:stCxn id="364" idx="3"/>
            </p:cNvCxnSpPr>
            <p:nvPr/>
          </p:nvCxnSpPr>
          <p:spPr>
            <a:xfrm flipV="1">
              <a:off x="4771440" y="2265480"/>
              <a:ext cx="1469160" cy="628560"/>
            </a:xfrm>
            <a:prstGeom prst="bentConnector3">
              <a:avLst>
                <a:gd name="adj1" fmla="val 9406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86" name="AutoShape 90"/>
          <p:cNvSpPr/>
          <p:nvPr/>
        </p:nvSpPr>
        <p:spPr>
          <a:xfrm>
            <a:off x="2973240" y="942840"/>
            <a:ext cx="3168720" cy="2305080"/>
          </a:xfrm>
          <a:prstGeom prst="roundRect">
            <a:avLst>
              <a:gd name="adj" fmla="val 16667"/>
            </a:avLst>
          </a:prstGeom>
          <a:solidFill>
            <a:srgbClr val="333399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6600"/>
                </a:solidFill>
                <a:latin typeface="Arial"/>
              </a:rPr>
              <a:t>Comport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6600"/>
                </a:solidFill>
                <a:latin typeface="Arial"/>
              </a:rPr>
              <a:t>concurre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91"/>
          <p:cNvSpPr/>
          <p:nvPr/>
        </p:nvSpPr>
        <p:spPr>
          <a:xfrm>
            <a:off x="3549600" y="942840"/>
            <a:ext cx="1944720" cy="576360"/>
          </a:xfrm>
          <a:prstGeom prst="roundRect">
            <a:avLst>
              <a:gd name="adj" fmla="val 16667"/>
            </a:avLst>
          </a:prstGeom>
          <a:solidFill>
            <a:srgbClr val="00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4102200" y="3789360"/>
          <a:ext cx="48625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434880"/>
                <a:gridCol w="431640"/>
                <a:gridCol w="432000"/>
                <a:gridCol w="433440"/>
                <a:gridCol w="431640"/>
                <a:gridCol w="432000"/>
                <a:gridCol w="431640"/>
                <a:gridCol w="431640"/>
                <a:gridCol w="5400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ST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MJ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A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STP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SC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E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MJ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AE=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P=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L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2422-74F8-488B-AA10-559EDC1DCE7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203480" y="1125360"/>
            <a:ext cx="740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250920" y="236520"/>
            <a:ext cx="8762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couverte des dépendances indirec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79280" y="3290760"/>
          <a:ext cx="2519640" cy="3322800"/>
        </p:xfrm>
        <a:graphic>
          <a:graphicData uri="http://schemas.openxmlformats.org/drawingml/2006/table">
            <a:tbl>
              <a:tblPr/>
              <a:tblGrid>
                <a:gridCol w="304920"/>
                <a:gridCol w="22147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Inst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ER VD MJR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AE VD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RP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ER  MJR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 ER  MJR VD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AE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RP VD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D VSC  RP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RP  RD V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AutoShape 58"/>
          <p:cNvSpPr/>
          <p:nvPr/>
        </p:nvSpPr>
        <p:spPr>
          <a:xfrm>
            <a:off x="2811600" y="4724280"/>
            <a:ext cx="1152360" cy="457200"/>
          </a:xfrm>
          <a:prstGeom prst="rightArrow">
            <a:avLst>
              <a:gd name="adj1" fmla="val 50000"/>
              <a:gd name="adj2" fmla="val 630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rc 59"/>
          <p:cNvSpPr/>
          <p:nvPr/>
        </p:nvSpPr>
        <p:spPr>
          <a:xfrm rot="16200000">
            <a:off x="4298760" y="39668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fill="none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</a:path>
              <a:path stroke="0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  <a:lnTo>
                  <a:pt x="0" y="15922"/>
                </a:lnTo>
                <a:lnTo>
                  <a:pt x="14596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60"/>
          <p:cNvGrpSpPr/>
          <p:nvPr/>
        </p:nvGrpSpPr>
        <p:grpSpPr>
          <a:xfrm>
            <a:off x="1908000" y="1044720"/>
            <a:ext cx="5111640" cy="2086920"/>
            <a:chOff x="1908000" y="1044720"/>
            <a:chExt cx="5111640" cy="2086920"/>
          </a:xfrm>
        </p:grpSpPr>
        <p:graphicFrame>
          <p:nvGraphicFramePr>
            <p:cNvPr id="396" name="Object 61"/>
            <p:cNvGraphicFramePr/>
            <p:nvPr/>
          </p:nvGraphicFramePr>
          <p:xfrm>
            <a:off x="2496240" y="2156400"/>
            <a:ext cx="292680" cy="542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7" name="Object 6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96240" y="2156400"/>
                      <a:ext cx="292680" cy="54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8" name="Object 62"/>
            <p:cNvGraphicFramePr/>
            <p:nvPr/>
          </p:nvGraphicFramePr>
          <p:xfrm>
            <a:off x="5374080" y="1460880"/>
            <a:ext cx="233640" cy="60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9" name="Object 6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74080" y="1460880"/>
                      <a:ext cx="233640" cy="60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0" name="Object 63"/>
            <p:cNvGraphicFramePr/>
            <p:nvPr/>
          </p:nvGraphicFramePr>
          <p:xfrm>
            <a:off x="3475080" y="1460880"/>
            <a:ext cx="254880" cy="618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1" name="Object 6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75080" y="1460880"/>
                      <a:ext cx="254880" cy="61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2" name="Object 64"/>
            <p:cNvGraphicFramePr/>
            <p:nvPr/>
          </p:nvGraphicFramePr>
          <p:xfrm>
            <a:off x="6254640" y="2015640"/>
            <a:ext cx="246600" cy="558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3" name="Object 6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54640" y="2015640"/>
                      <a:ext cx="246600" cy="55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AutoShape 65"/>
            <p:cNvSpPr/>
            <p:nvPr/>
          </p:nvSpPr>
          <p:spPr>
            <a:xfrm>
              <a:off x="1908000" y="2230200"/>
              <a:ext cx="352080" cy="41760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7600"/>
                <a:gd name="textAreaBottom" fmla="*/ 400680 h 417600"/>
              </a:gdLst>
              <a:ahLst/>
              <a:rect l="textAreaLeft" t="textAreaTop" r="textAreaRight" b="textAreaBottom"/>
              <a:pathLst>
                <a:path w="21600" h="25616">
                  <a:moveTo>
                    <a:pt x="3600" y="0"/>
                  </a:moveTo>
                  <a:arcTo wR="3600" hR="3600" stAng="16200000" swAng="-5400000"/>
                  <a:lnTo>
                    <a:pt x="0" y="22016"/>
                  </a:lnTo>
                  <a:arcTo wR="3600" hR="3600" stAng="10800000" swAng="-5400000"/>
                  <a:lnTo>
                    <a:pt x="18000" y="256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S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66"/>
            <p:cNvSpPr/>
            <p:nvPr/>
          </p:nvSpPr>
          <p:spPr>
            <a:xfrm>
              <a:off x="3024360" y="1601640"/>
              <a:ext cx="352080" cy="41796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7960"/>
                <a:gd name="textAreaBottom" fmla="*/ 401040 h 417960"/>
              </a:gdLst>
              <a:ahLst/>
              <a:rect l="textAreaLeft" t="textAreaTop" r="textAreaRight" b="textAreaBottom"/>
              <a:pathLst>
                <a:path w="21600" h="25638">
                  <a:moveTo>
                    <a:pt x="3600" y="0"/>
                  </a:moveTo>
                  <a:arcTo wR="3600" hR="3600" stAng="16200000" swAng="-5400000"/>
                  <a:lnTo>
                    <a:pt x="0" y="22038"/>
                  </a:lnTo>
                  <a:arcTo wR="3600" hR="3600" stAng="10800000" swAng="-5400000"/>
                  <a:lnTo>
                    <a:pt x="18000" y="256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V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67"/>
            <p:cNvSpPr/>
            <p:nvPr/>
          </p:nvSpPr>
          <p:spPr>
            <a:xfrm>
              <a:off x="3963600" y="1044720"/>
              <a:ext cx="352080" cy="41616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6160"/>
                <a:gd name="textAreaBottom" fmla="*/ 399240 h 416160"/>
              </a:gdLst>
              <a:ahLst/>
              <a:rect l="textAreaLeft" t="textAreaTop" r="textAreaRight" b="textAreaBottom"/>
              <a:pathLst>
                <a:path w="21600" h="25527">
                  <a:moveTo>
                    <a:pt x="3600" y="0"/>
                  </a:moveTo>
                  <a:arcTo wR="3600" hR="3600" stAng="16200000" swAng="-5400000"/>
                  <a:lnTo>
                    <a:pt x="0" y="21927"/>
                  </a:lnTo>
                  <a:arcTo wR="3600" hR="3600" stAng="10800000" swAng="-5400000"/>
                  <a:lnTo>
                    <a:pt x="18000" y="255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68"/>
            <p:cNvSpPr/>
            <p:nvPr/>
          </p:nvSpPr>
          <p:spPr>
            <a:xfrm>
              <a:off x="4433400" y="2715120"/>
              <a:ext cx="352080" cy="41652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6520"/>
                <a:gd name="textAreaBottom" fmla="*/ 399600 h 416520"/>
              </a:gdLst>
              <a:ahLst/>
              <a:rect l="textAreaLeft" t="textAreaTop" r="textAreaRight" b="textAreaBottom"/>
              <a:pathLst>
                <a:path w="21600" h="25549">
                  <a:moveTo>
                    <a:pt x="3600" y="0"/>
                  </a:moveTo>
                  <a:arcTo wR="3600" hR="3600" stAng="16200000" swAng="-5400000"/>
                  <a:lnTo>
                    <a:pt x="0" y="21949"/>
                  </a:lnTo>
                  <a:arcTo wR="3600" hR="3600" stAng="10800000" swAng="-5400000"/>
                  <a:lnTo>
                    <a:pt x="18000" y="255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V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69"/>
            <p:cNvSpPr/>
            <p:nvPr/>
          </p:nvSpPr>
          <p:spPr>
            <a:xfrm>
              <a:off x="4845240" y="1044720"/>
              <a:ext cx="352080" cy="41616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6160"/>
                <a:gd name="textAreaBottom" fmla="*/ 399240 h 416160"/>
              </a:gdLst>
              <a:ahLst/>
              <a:rect l="textAreaLeft" t="textAreaTop" r="textAreaRight" b="textAreaBottom"/>
              <a:pathLst>
                <a:path w="21600" h="25527">
                  <a:moveTo>
                    <a:pt x="3600" y="0"/>
                  </a:moveTo>
                  <a:arcTo wR="3600" hR="3600" stAng="16200000" swAng="-5400000"/>
                  <a:lnTo>
                    <a:pt x="0" y="21927"/>
                  </a:lnTo>
                  <a:arcTo wR="3600" hR="3600" stAng="10800000" swAng="-5400000"/>
                  <a:lnTo>
                    <a:pt x="18000" y="255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MJ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70"/>
            <p:cNvSpPr/>
            <p:nvPr/>
          </p:nvSpPr>
          <p:spPr>
            <a:xfrm>
              <a:off x="4375440" y="1559520"/>
              <a:ext cx="352080" cy="41652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6520"/>
                <a:gd name="textAreaBottom" fmla="*/ 399600 h 416520"/>
              </a:gdLst>
              <a:ahLst/>
              <a:rect l="textAreaLeft" t="textAreaTop" r="textAreaRight" b="textAreaBottom"/>
              <a:pathLst>
                <a:path w="21600" h="25549">
                  <a:moveTo>
                    <a:pt x="3600" y="0"/>
                  </a:moveTo>
                  <a:arcTo wR="3600" hR="3600" stAng="16200000" swAng="-5400000"/>
                  <a:lnTo>
                    <a:pt x="0" y="21949"/>
                  </a:lnTo>
                  <a:arcTo wR="3600" hR="3600" stAng="10800000" swAng="-5400000"/>
                  <a:lnTo>
                    <a:pt x="18000" y="255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71"/>
            <p:cNvSpPr/>
            <p:nvPr/>
          </p:nvSpPr>
          <p:spPr>
            <a:xfrm>
              <a:off x="3905640" y="2019960"/>
              <a:ext cx="352080" cy="41616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6160"/>
                <a:gd name="textAreaBottom" fmla="*/ 399240 h 416160"/>
              </a:gdLst>
              <a:ahLst/>
              <a:rect l="textAreaLeft" t="textAreaTop" r="textAreaRight" b="textAreaBottom"/>
              <a:pathLst>
                <a:path w="21600" h="25527">
                  <a:moveTo>
                    <a:pt x="3600" y="0"/>
                  </a:moveTo>
                  <a:arcTo wR="3600" hR="3600" stAng="16200000" swAng="-5400000"/>
                  <a:lnTo>
                    <a:pt x="0" y="21927"/>
                  </a:lnTo>
                  <a:arcTo wR="3600" hR="3600" stAng="10800000" swAng="-5400000"/>
                  <a:lnTo>
                    <a:pt x="18000" y="255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72"/>
            <p:cNvSpPr/>
            <p:nvPr/>
          </p:nvSpPr>
          <p:spPr>
            <a:xfrm>
              <a:off x="5726520" y="1553040"/>
              <a:ext cx="352080" cy="41652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6520"/>
                <a:gd name="textAreaBottom" fmla="*/ 399600 h 416520"/>
              </a:gdLst>
              <a:ahLst/>
              <a:rect l="textAreaLeft" t="textAreaTop" r="textAreaRight" b="textAreaBottom"/>
              <a:pathLst>
                <a:path w="21600" h="25549">
                  <a:moveTo>
                    <a:pt x="3600" y="0"/>
                  </a:moveTo>
                  <a:arcTo wR="3600" hR="3600" stAng="16200000" swAng="-5400000"/>
                  <a:lnTo>
                    <a:pt x="0" y="21949"/>
                  </a:lnTo>
                  <a:arcTo wR="3600" hR="3600" stAng="10800000" swAng="-5400000"/>
                  <a:lnTo>
                    <a:pt x="18000" y="255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73"/>
            <p:cNvSpPr/>
            <p:nvPr/>
          </p:nvSpPr>
          <p:spPr>
            <a:xfrm>
              <a:off x="6667560" y="2091960"/>
              <a:ext cx="352080" cy="417600"/>
            </a:xfrm>
            <a:custGeom>
              <a:avLst/>
              <a:gdLst>
                <a:gd name="textAreaLeft" fmla="*/ 16920 w 352080"/>
                <a:gd name="textAreaRight" fmla="*/ 335160 w 352080"/>
                <a:gd name="textAreaTop" fmla="*/ 16920 h 417600"/>
                <a:gd name="textAreaBottom" fmla="*/ 400680 h 417600"/>
              </a:gdLst>
              <a:ahLst/>
              <a:rect l="textAreaLeft" t="textAreaTop" r="textAreaRight" b="textAreaBottom"/>
              <a:pathLst>
                <a:path w="21600" h="25616">
                  <a:moveTo>
                    <a:pt x="3600" y="0"/>
                  </a:moveTo>
                  <a:arcTo wR="3600" hR="3600" stAng="16200000" swAng="-5400000"/>
                  <a:lnTo>
                    <a:pt x="0" y="22016"/>
                  </a:lnTo>
                  <a:arcTo wR="3600" hR="3600" stAng="10800000" swAng="-5400000"/>
                  <a:lnTo>
                    <a:pt x="18000" y="2561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3" name="AutoShape 74"/>
            <p:cNvCxnSpPr>
              <a:stCxn id="404" idx="3"/>
            </p:cNvCxnSpPr>
            <p:nvPr/>
          </p:nvCxnSpPr>
          <p:spPr>
            <a:xfrm flipV="1">
              <a:off x="2259720" y="2429280"/>
              <a:ext cx="236520" cy="9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4" name="AutoShape 75"/>
            <p:cNvCxnSpPr>
              <a:endCxn id="405" idx="1"/>
            </p:cNvCxnSpPr>
            <p:nvPr/>
          </p:nvCxnSpPr>
          <p:spPr>
            <a:xfrm flipV="1">
              <a:off x="2788920" y="1810080"/>
              <a:ext cx="235800" cy="619560"/>
            </a:xfrm>
            <a:prstGeom prst="bentConnector3">
              <a:avLst>
                <a:gd name="adj1" fmla="val 4969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5" name="AutoShape 76"/>
            <p:cNvCxnSpPr>
              <a:endCxn id="407" idx="1"/>
            </p:cNvCxnSpPr>
            <p:nvPr/>
          </p:nvCxnSpPr>
          <p:spPr>
            <a:xfrm>
              <a:off x="2788920" y="2429640"/>
              <a:ext cx="1644840" cy="493560"/>
            </a:xfrm>
            <a:prstGeom prst="bentConnector3">
              <a:avLst>
                <a:gd name="adj1" fmla="val 71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AutoShape 77"/>
            <p:cNvCxnSpPr>
              <a:stCxn id="405" idx="3"/>
            </p:cNvCxnSpPr>
            <p:nvPr/>
          </p:nvCxnSpPr>
          <p:spPr>
            <a:xfrm flipV="1">
              <a:off x="3376080" y="1770480"/>
              <a:ext cx="99000" cy="3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7" name="AutoShape 78"/>
            <p:cNvCxnSpPr>
              <a:endCxn id="406" idx="1"/>
            </p:cNvCxnSpPr>
            <p:nvPr/>
          </p:nvCxnSpPr>
          <p:spPr>
            <a:xfrm flipV="1">
              <a:off x="3729600" y="1253160"/>
              <a:ext cx="234360" cy="518400"/>
            </a:xfrm>
            <a:prstGeom prst="bentConnector3">
              <a:avLst>
                <a:gd name="adj1" fmla="val 396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8" name="AutoShape 79"/>
            <p:cNvCxnSpPr>
              <a:endCxn id="410" idx="1"/>
            </p:cNvCxnSpPr>
            <p:nvPr/>
          </p:nvCxnSpPr>
          <p:spPr>
            <a:xfrm>
              <a:off x="3729600" y="1771200"/>
              <a:ext cx="175680" cy="456480"/>
            </a:xfrm>
            <a:prstGeom prst="bentConnector3">
              <a:avLst>
                <a:gd name="adj1" fmla="val 554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9" name="AutoShape 80"/>
            <p:cNvCxnSpPr>
              <a:endCxn id="409" idx="1"/>
            </p:cNvCxnSpPr>
            <p:nvPr/>
          </p:nvCxnSpPr>
          <p:spPr>
            <a:xfrm flipV="1">
              <a:off x="3729960" y="1767600"/>
              <a:ext cx="64584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0" name="AutoShape 81"/>
            <p:cNvCxnSpPr>
              <a:stCxn id="406" idx="3"/>
              <a:endCxn id="408" idx="1"/>
            </p:cNvCxnSpPr>
            <p:nvPr/>
          </p:nvCxnSpPr>
          <p:spPr>
            <a:xfrm>
              <a:off x="4315680" y="1253160"/>
              <a:ext cx="529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1" name="AutoShape 82"/>
            <p:cNvCxnSpPr>
              <a:stCxn id="408" idx="3"/>
            </p:cNvCxnSpPr>
            <p:nvPr/>
          </p:nvCxnSpPr>
          <p:spPr>
            <a:xfrm>
              <a:off x="5197680" y="1253520"/>
              <a:ext cx="177120" cy="511920"/>
            </a:xfrm>
            <a:prstGeom prst="bentConnector3">
              <a:avLst>
                <a:gd name="adj1" fmla="val 4989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2" name="AutoShape 83"/>
            <p:cNvCxnSpPr>
              <a:stCxn id="410" idx="3"/>
            </p:cNvCxnSpPr>
            <p:nvPr/>
          </p:nvCxnSpPr>
          <p:spPr>
            <a:xfrm flipV="1">
              <a:off x="4258080" y="1764000"/>
              <a:ext cx="1116720" cy="463320"/>
            </a:xfrm>
            <a:prstGeom prst="bentConnector3">
              <a:avLst>
                <a:gd name="adj1" fmla="val 9242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3" name="AutoShape 84"/>
            <p:cNvCxnSpPr>
              <a:endCxn id="411" idx="1"/>
            </p:cNvCxnSpPr>
            <p:nvPr/>
          </p:nvCxnSpPr>
          <p:spPr>
            <a:xfrm flipV="1">
              <a:off x="5607720" y="1761480"/>
              <a:ext cx="119160" cy="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4" name="AutoShape 85"/>
            <p:cNvCxnSpPr>
              <a:stCxn id="411" idx="3"/>
            </p:cNvCxnSpPr>
            <p:nvPr/>
          </p:nvCxnSpPr>
          <p:spPr>
            <a:xfrm>
              <a:off x="6078600" y="1762200"/>
              <a:ext cx="175680" cy="532800"/>
            </a:xfrm>
            <a:prstGeom prst="bentConnector3">
              <a:avLst>
                <a:gd name="adj1" fmla="val 4989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5" name="AutoShape 86"/>
            <p:cNvCxnSpPr>
              <a:stCxn id="412" idx="1"/>
              <a:endCxn id="412" idx="1"/>
            </p:cNvCxnSpPr>
            <p:nvPr/>
          </p:nvCxnSpPr>
          <p:spPr>
            <a:xfrm>
              <a:off x="6667200" y="230076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6" name="AutoShape 87"/>
            <p:cNvCxnSpPr>
              <a:endCxn id="412" idx="1"/>
            </p:cNvCxnSpPr>
            <p:nvPr/>
          </p:nvCxnSpPr>
          <p:spPr>
            <a:xfrm>
              <a:off x="6500880" y="2294640"/>
              <a:ext cx="166680" cy="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7" name="AutoShape 88"/>
            <p:cNvCxnSpPr>
              <a:stCxn id="409" idx="3"/>
            </p:cNvCxnSpPr>
            <p:nvPr/>
          </p:nvCxnSpPr>
          <p:spPr>
            <a:xfrm flipV="1">
              <a:off x="4727520" y="1764000"/>
              <a:ext cx="646920" cy="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AutoShape 89"/>
            <p:cNvCxnSpPr>
              <a:stCxn id="407" idx="3"/>
            </p:cNvCxnSpPr>
            <p:nvPr/>
          </p:nvCxnSpPr>
          <p:spPr>
            <a:xfrm flipV="1">
              <a:off x="4785480" y="2294280"/>
              <a:ext cx="1469160" cy="628560"/>
            </a:xfrm>
            <a:prstGeom prst="bentConnector3">
              <a:avLst>
                <a:gd name="adj1" fmla="val 9406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29" name="AutoShape 90"/>
          <p:cNvSpPr/>
          <p:nvPr/>
        </p:nvSpPr>
        <p:spPr>
          <a:xfrm>
            <a:off x="2987640" y="971640"/>
            <a:ext cx="3168720" cy="2305080"/>
          </a:xfrm>
          <a:prstGeom prst="roundRect">
            <a:avLst>
              <a:gd name="adj" fmla="val 16667"/>
            </a:avLst>
          </a:prstGeom>
          <a:solidFill>
            <a:srgbClr val="333399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6600"/>
                </a:solidFill>
                <a:latin typeface="Arial"/>
              </a:rPr>
              <a:t>Comport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6600"/>
                </a:solidFill>
                <a:latin typeface="Arial"/>
              </a:rPr>
              <a:t>concurre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140360" y="3809880"/>
          <a:ext cx="4862520" cy="2286000"/>
        </p:xfrm>
        <a:graphic>
          <a:graphicData uri="http://schemas.openxmlformats.org/drawingml/2006/table">
            <a:tbl>
              <a:tblPr/>
              <a:tblGrid>
                <a:gridCol w="863280"/>
                <a:gridCol w="435240"/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  <a:gridCol w="5400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ST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MJ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A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STP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SC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E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MJ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AE=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P=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L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FBB0-6986-47AE-8521-C1E1207C4E8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1203480" y="1125360"/>
            <a:ext cx="740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250920" y="333360"/>
            <a:ext cx="8762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couverte des dépendances indirec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enêtre de con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4119480" y="3807000"/>
          <a:ext cx="48625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434880"/>
                <a:gridCol w="432000"/>
                <a:gridCol w="431640"/>
                <a:gridCol w="433440"/>
                <a:gridCol w="432000"/>
                <a:gridCol w="431640"/>
                <a:gridCol w="431640"/>
                <a:gridCol w="432000"/>
                <a:gridCol w="5396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ST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MJ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A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STP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SC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E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MJ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AE=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P=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L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AutoShape 127"/>
          <p:cNvSpPr/>
          <p:nvPr/>
        </p:nvSpPr>
        <p:spPr>
          <a:xfrm>
            <a:off x="2843280" y="4724280"/>
            <a:ext cx="1152360" cy="457200"/>
          </a:xfrm>
          <a:prstGeom prst="rightArrow">
            <a:avLst>
              <a:gd name="adj1" fmla="val 50000"/>
              <a:gd name="adj2" fmla="val 630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rc 128"/>
          <p:cNvSpPr/>
          <p:nvPr/>
        </p:nvSpPr>
        <p:spPr>
          <a:xfrm rot="16200000">
            <a:off x="4324320" y="394668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fill="none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</a:path>
              <a:path stroke="0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  <a:lnTo>
                  <a:pt x="0" y="15922"/>
                </a:lnTo>
                <a:lnTo>
                  <a:pt x="14596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30"/>
          <p:cNvSpPr/>
          <p:nvPr/>
        </p:nvSpPr>
        <p:spPr>
          <a:xfrm>
            <a:off x="1203480" y="1628640"/>
            <a:ext cx="794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ous ne considérons pas seulement les activités qui </a:t>
            </a: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précédent directement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mais toutes les activités </a:t>
            </a: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couvertes par la fenêtre de concurrence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yant une dépendance statistique non nu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ongueur de la fenêtre de concurrence = 2 + nombre d’activités en con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179280" y="3290760"/>
          <a:ext cx="2519640" cy="3322800"/>
        </p:xfrm>
        <a:graphic>
          <a:graphicData uri="http://schemas.openxmlformats.org/drawingml/2006/table">
            <a:tbl>
              <a:tblPr/>
              <a:tblGrid>
                <a:gridCol w="304920"/>
                <a:gridCol w="22147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Inst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VD MJ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AE VD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RP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D ER  MJ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C ER  MJ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D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AE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RP VD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D VSC  RP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RP  RD V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Rectangle 185"/>
          <p:cNvSpPr/>
          <p:nvPr/>
        </p:nvSpPr>
        <p:spPr>
          <a:xfrm>
            <a:off x="5999040" y="319896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onc TFC[MJR]=3</a:t>
            </a:r>
            <a:r>
              <a:rPr b="1" i="1" lang="en-US" sz="1800" spc="-1" strike="noStrike">
                <a:solidFill>
                  <a:srgbClr val="00007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295C-D8E8-494E-8B49-15B49EE49A7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29"/>
          <p:cNvSpPr/>
          <p:nvPr/>
        </p:nvSpPr>
        <p:spPr>
          <a:xfrm>
            <a:off x="250920" y="1187280"/>
            <a:ext cx="1252440" cy="584280"/>
          </a:xfrm>
          <a:custGeom>
            <a:avLst/>
            <a:gdLst>
              <a:gd name="textAreaLeft" fmla="*/ 167760 w 1252440"/>
              <a:gd name="textAreaRight" fmla="*/ 1084680 w 1252440"/>
              <a:gd name="textAreaTop" fmla="*/ 104400 h 584280"/>
              <a:gd name="textAreaBottom" fmla="*/ 42120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34" stAng="-5400000" swAng="-5400000"/>
                <a:lnTo>
                  <a:pt x="0" y="11707"/>
                </a:lnTo>
                <a:arcTo wR="21600" hR="7734" stAng="10800000" swAng="-3511037"/>
                <a:lnTo>
                  <a:pt x="16974" y="21421"/>
                </a:lnTo>
                <a:lnTo>
                  <a:pt x="21600" y="17454"/>
                </a:lnTo>
                <a:lnTo>
                  <a:pt x="16974" y="13128"/>
                </a:lnTo>
                <a:lnTo>
                  <a:pt x="16974" y="15288"/>
                </a:lnTo>
                <a:arcTo wR="21600" hR="7734" stAng="7288963" swAng="3184881"/>
                <a:lnTo>
                  <a:pt x="725" y="9720"/>
                </a:lnTo>
                <a:arcTo wR="21600" hR="7734" stAng="-10473844" swAng="5073844"/>
                <a:close/>
              </a:path>
              <a:path fill="darkenLess" w="21600" h="21600">
                <a:moveTo>
                  <a:pt x="21600" y="0"/>
                </a:moveTo>
                <a:arcTo wR="21600" hR="7734" stAng="-5400000" swAng="-5400000"/>
                <a:lnTo>
                  <a:pt x="0" y="7734"/>
                </a:lnTo>
                <a:arcTo wR="21600" hR="7734" stAng="10800000" swAng="-326156"/>
                <a:lnTo>
                  <a:pt x="725" y="9720"/>
                </a:lnTo>
                <a:arcTo wR="21600" hR="7734" stAng="-10473844" swAng="5073844"/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1203480" y="1125360"/>
            <a:ext cx="740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250920" y="333360"/>
            <a:ext cx="8762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tterns mining : Découverte des dépendances indirec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enêtre de con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040280" y="3463920"/>
          <a:ext cx="48625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434880"/>
                <a:gridCol w="431640"/>
                <a:gridCol w="432000"/>
                <a:gridCol w="433440"/>
                <a:gridCol w="431640"/>
                <a:gridCol w="432000"/>
                <a:gridCol w="431640"/>
                <a:gridCol w="431640"/>
                <a:gridCol w="5400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ST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MJ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A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STP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SC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E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MJ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AE=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P=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L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AutoShape 127"/>
          <p:cNvSpPr/>
          <p:nvPr/>
        </p:nvSpPr>
        <p:spPr>
          <a:xfrm>
            <a:off x="2752560" y="4389480"/>
            <a:ext cx="1152720" cy="457200"/>
          </a:xfrm>
          <a:prstGeom prst="rightArrow">
            <a:avLst>
              <a:gd name="adj1" fmla="val 50000"/>
              <a:gd name="adj2" fmla="val 630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rc 128"/>
          <p:cNvSpPr/>
          <p:nvPr/>
        </p:nvSpPr>
        <p:spPr>
          <a:xfrm rot="16200000">
            <a:off x="4198680" y="362088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fill="none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</a:path>
              <a:path stroke="0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  <a:lnTo>
                  <a:pt x="0" y="15922"/>
                </a:lnTo>
                <a:lnTo>
                  <a:pt x="14596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30"/>
          <p:cNvSpPr/>
          <p:nvPr/>
        </p:nvSpPr>
        <p:spPr>
          <a:xfrm>
            <a:off x="1727280" y="170028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ous ne considérons pas seulement les activités qui </a:t>
            </a: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précédent directement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mais toutes les activités </a:t>
            </a: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couvertes par la fenêtre de concurrence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yant une dépendance statistique non nu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79280" y="2997360"/>
          <a:ext cx="2519640" cy="3322440"/>
        </p:xfrm>
        <a:graphic>
          <a:graphicData uri="http://schemas.openxmlformats.org/drawingml/2006/table">
            <a:tbl>
              <a:tblPr/>
              <a:tblGrid>
                <a:gridCol w="304920"/>
                <a:gridCol w="221472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Insta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ER VD MJR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AE VD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RP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ER  MJR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ER  MJR VD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VD AE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RP VD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D VSC  RP  R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VSC  RP  RD VD 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0756-4652-4D87-B25F-B1D274133D6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29"/>
          <p:cNvSpPr/>
          <p:nvPr/>
        </p:nvSpPr>
        <p:spPr>
          <a:xfrm>
            <a:off x="324000" y="1811160"/>
            <a:ext cx="1252440" cy="584280"/>
          </a:xfrm>
          <a:custGeom>
            <a:avLst/>
            <a:gdLst>
              <a:gd name="textAreaLeft" fmla="*/ 167760 w 1252440"/>
              <a:gd name="textAreaRight" fmla="*/ 1084680 w 1252440"/>
              <a:gd name="textAreaTop" fmla="*/ 104400 h 584280"/>
              <a:gd name="textAreaBottom" fmla="*/ 42120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34" stAng="-5400000" swAng="-5400000"/>
                <a:lnTo>
                  <a:pt x="0" y="11707"/>
                </a:lnTo>
                <a:arcTo wR="21600" hR="7734" stAng="10800000" swAng="-3511037"/>
                <a:lnTo>
                  <a:pt x="16974" y="21421"/>
                </a:lnTo>
                <a:lnTo>
                  <a:pt x="21600" y="17454"/>
                </a:lnTo>
                <a:lnTo>
                  <a:pt x="16974" y="13128"/>
                </a:lnTo>
                <a:lnTo>
                  <a:pt x="16974" y="15288"/>
                </a:lnTo>
                <a:arcTo wR="21600" hR="7734" stAng="7288963" swAng="3184881"/>
                <a:lnTo>
                  <a:pt x="725" y="9720"/>
                </a:lnTo>
                <a:arcTo wR="21600" hR="7734" stAng="-10473844" swAng="5073844"/>
                <a:close/>
              </a:path>
              <a:path fill="darkenLess" w="21600" h="21600">
                <a:moveTo>
                  <a:pt x="21600" y="0"/>
                </a:moveTo>
                <a:arcTo wR="21600" hR="7734" stAng="-5400000" swAng="-5400000"/>
                <a:lnTo>
                  <a:pt x="0" y="7734"/>
                </a:lnTo>
                <a:arcTo wR="21600" hR="7734" stAng="10800000" swAng="-326156"/>
                <a:lnTo>
                  <a:pt x="725" y="9720"/>
                </a:lnTo>
                <a:arcTo wR="21600" hR="7734" stAng="-10473844" swAng="5073844"/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couverte de patrons de flots de contrô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8E69-8EFB-42BC-A469-81A80CD65F1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tron de sé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Espace réservé du contenu 4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6480360" cy="2879640"/>
          </a:xfrm>
          <a:prstGeom prst="rect">
            <a:avLst/>
          </a:prstGeom>
          <a:ln w="0">
            <a:noFill/>
          </a:ln>
        </p:spPr>
      </p:pic>
      <p:sp>
        <p:nvSpPr>
          <p:cNvPr id="4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53D6-5E4D-4ABF-83B7-BDA3501DF76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couverte des patrons de branch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Espace réservé du contenu 4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408720" cy="5472360"/>
          </a:xfrm>
          <a:prstGeom prst="rect">
            <a:avLst/>
          </a:prstGeom>
          <a:ln w="0">
            <a:noFill/>
          </a:ln>
        </p:spPr>
      </p:pic>
      <p:sp>
        <p:nvSpPr>
          <p:cNvPr id="459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FBAA-6533-400E-8BD7-03613409FE8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couverte des patrons de jo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Espace réservé du contenu 4" descr=""/>
          <p:cNvPicPr/>
          <p:nvPr/>
        </p:nvPicPr>
        <p:blipFill>
          <a:blip r:embed="rId1"/>
          <a:stretch/>
        </p:blipFill>
        <p:spPr>
          <a:xfrm>
            <a:off x="1187280" y="1417680"/>
            <a:ext cx="7345440" cy="5440320"/>
          </a:xfrm>
          <a:prstGeom prst="rect">
            <a:avLst/>
          </a:prstGeom>
          <a:ln w="0">
            <a:noFill/>
          </a:ln>
        </p:spPr>
      </p:pic>
      <p:sp>
        <p:nvSpPr>
          <p:cNvPr id="46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EF90-9204-45EB-8140-6C997B6C5F3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380880" y="404640"/>
            <a:ext cx="8763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tterns mining : Découverte des patrons de work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3924360" cy="14191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4953240" cy="45342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5" descr=""/>
          <p:cNvPicPr/>
          <p:nvPr/>
        </p:nvPicPr>
        <p:blipFill>
          <a:blip r:embed="rId3"/>
          <a:stretch/>
        </p:blipFill>
        <p:spPr>
          <a:xfrm>
            <a:off x="2340000" y="1197000"/>
            <a:ext cx="5114880" cy="4381560"/>
          </a:xfrm>
          <a:prstGeom prst="rect">
            <a:avLst/>
          </a:prstGeom>
          <a:ln w="0">
            <a:noFill/>
          </a:ln>
        </p:spPr>
      </p:pic>
      <p:sp>
        <p:nvSpPr>
          <p:cNvPr id="467" name="AutoShape 6"/>
          <p:cNvSpPr/>
          <p:nvPr/>
        </p:nvSpPr>
        <p:spPr>
          <a:xfrm>
            <a:off x="2411280" y="1557360"/>
            <a:ext cx="4897440" cy="1150920"/>
          </a:xfrm>
          <a:prstGeom prst="roundRect">
            <a:avLst>
              <a:gd name="adj" fmla="val 16667"/>
            </a:avLst>
          </a:prstGeom>
          <a:solidFill>
            <a:srgbClr val="ff66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F380-6577-4B41-BF5A-C3ED894360C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5"/>
          <p:cNvGraphicFramePr/>
          <p:nvPr/>
        </p:nvGraphicFramePr>
        <p:xfrm>
          <a:off x="5981760" y="914400"/>
          <a:ext cx="26524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1760" y="914400"/>
                    <a:ext cx="26524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ée de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j0215727"/>
          <p:cNvPicPr/>
          <p:nvPr/>
        </p:nvPicPr>
        <p:blipFill>
          <a:blip r:embed="rId3"/>
          <a:stretch/>
        </p:blipFill>
        <p:spPr>
          <a:xfrm>
            <a:off x="685800" y="2514600"/>
            <a:ext cx="2819520" cy="26780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4"/>
          <p:cNvSpPr/>
          <p:nvPr/>
        </p:nvSpPr>
        <p:spPr>
          <a:xfrm>
            <a:off x="3657600" y="2362320"/>
            <a:ext cx="1905120" cy="2895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ouve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1"/>
          <p:cNvSpPr/>
          <p:nvPr/>
        </p:nvSpPr>
        <p:spPr>
          <a:xfrm>
            <a:off x="1051560" y="1449360"/>
            <a:ext cx="2146680" cy="642600"/>
          </a:xfrm>
          <a:prstGeom prst="rect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ces d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RP, billetteri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Connecteur droit avec flèche 3"/>
          <p:cNvCxnSpPr>
            <a:stCxn id="62" idx="2"/>
            <a:endCxn id="60" idx="0"/>
          </p:cNvCxnSpPr>
          <p:nvPr/>
        </p:nvCxnSpPr>
        <p:spPr>
          <a:xfrm flipH="1">
            <a:off x="2095560" y="2095560"/>
            <a:ext cx="30600" cy="41976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AA7C-59A9-4EEA-81F2-AF60823E57B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1203480" y="1125360"/>
            <a:ext cx="740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250920" y="404640"/>
            <a:ext cx="8762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tterns mining : Découverte des patrons de work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rc 4"/>
          <p:cNvSpPr/>
          <p:nvPr/>
        </p:nvSpPr>
        <p:spPr>
          <a:xfrm rot="16200000">
            <a:off x="2153880" y="159840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fill="none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</a:path>
              <a:path stroke="0" w="21600" h="15922">
                <a:moveTo>
                  <a:pt x="14596" y="0"/>
                </a:moveTo>
                <a:cubicBezTo>
                  <a:pt x="19036" y="4070"/>
                  <a:pt x="21574" y="9809"/>
                  <a:pt x="21599" y="15833"/>
                </a:cubicBezTo>
                <a:lnTo>
                  <a:pt x="0" y="15922"/>
                </a:lnTo>
                <a:lnTo>
                  <a:pt x="14596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5"/>
          <p:cNvGrpSpPr/>
          <p:nvPr/>
        </p:nvGrpSpPr>
        <p:grpSpPr>
          <a:xfrm>
            <a:off x="1403280" y="4292640"/>
            <a:ext cx="6264000" cy="1871640"/>
            <a:chOff x="1403280" y="4292640"/>
            <a:chExt cx="6264000" cy="1871640"/>
          </a:xfrm>
        </p:grpSpPr>
        <p:graphicFrame>
          <p:nvGraphicFramePr>
            <p:cNvPr id="473" name="Object 6"/>
            <p:cNvGraphicFramePr/>
            <p:nvPr/>
          </p:nvGraphicFramePr>
          <p:xfrm>
            <a:off x="2124000" y="5289480"/>
            <a:ext cx="358920" cy="48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24000" y="5289480"/>
                      <a:ext cx="358920" cy="48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5" name="Object 7"/>
            <p:cNvGraphicFramePr/>
            <p:nvPr/>
          </p:nvGraphicFramePr>
          <p:xfrm>
            <a:off x="5650920" y="4665960"/>
            <a:ext cx="286200" cy="544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50920" y="4665960"/>
                      <a:ext cx="28620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7" name="Object 8"/>
            <p:cNvGraphicFramePr/>
            <p:nvPr/>
          </p:nvGraphicFramePr>
          <p:xfrm>
            <a:off x="3323520" y="4665960"/>
            <a:ext cx="312480" cy="555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78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23520" y="4665960"/>
                      <a:ext cx="312480" cy="55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9" name="Object 9"/>
            <p:cNvGraphicFramePr/>
            <p:nvPr/>
          </p:nvGraphicFramePr>
          <p:xfrm>
            <a:off x="6729480" y="5163480"/>
            <a:ext cx="302040" cy="500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0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29480" y="5163480"/>
                      <a:ext cx="302040" cy="50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1" name="AutoShape 10"/>
            <p:cNvSpPr/>
            <p:nvPr/>
          </p:nvSpPr>
          <p:spPr>
            <a:xfrm>
              <a:off x="1403280" y="5355720"/>
              <a:ext cx="431640" cy="3747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S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1"/>
            <p:cNvSpPr/>
            <p:nvPr/>
          </p:nvSpPr>
          <p:spPr>
            <a:xfrm>
              <a:off x="2771280" y="4791960"/>
              <a:ext cx="431280" cy="3747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V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12"/>
            <p:cNvSpPr/>
            <p:nvPr/>
          </p:nvSpPr>
          <p:spPr>
            <a:xfrm>
              <a:off x="3922560" y="4292640"/>
              <a:ext cx="431640" cy="37332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13"/>
            <p:cNvSpPr/>
            <p:nvPr/>
          </p:nvSpPr>
          <p:spPr>
            <a:xfrm>
              <a:off x="4498200" y="5790600"/>
              <a:ext cx="431640" cy="3736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V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14"/>
            <p:cNvSpPr/>
            <p:nvPr/>
          </p:nvSpPr>
          <p:spPr>
            <a:xfrm>
              <a:off x="5002920" y="4292640"/>
              <a:ext cx="431280" cy="37332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MJ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15"/>
            <p:cNvSpPr/>
            <p:nvPr/>
          </p:nvSpPr>
          <p:spPr>
            <a:xfrm>
              <a:off x="4426920" y="4754520"/>
              <a:ext cx="431640" cy="3736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16"/>
            <p:cNvSpPr/>
            <p:nvPr/>
          </p:nvSpPr>
          <p:spPr>
            <a:xfrm>
              <a:off x="3851280" y="5167080"/>
              <a:ext cx="431640" cy="37332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17"/>
            <p:cNvSpPr/>
            <p:nvPr/>
          </p:nvSpPr>
          <p:spPr>
            <a:xfrm>
              <a:off x="6082920" y="4748400"/>
              <a:ext cx="431640" cy="37368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8"/>
            <p:cNvSpPr/>
            <p:nvPr/>
          </p:nvSpPr>
          <p:spPr>
            <a:xfrm>
              <a:off x="7235640" y="5231880"/>
              <a:ext cx="431640" cy="37476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4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0" name="AutoShape 19"/>
            <p:cNvCxnSpPr>
              <a:stCxn id="481" idx="3"/>
            </p:cNvCxnSpPr>
            <p:nvPr/>
          </p:nvCxnSpPr>
          <p:spPr>
            <a:xfrm flipV="1">
              <a:off x="1834560" y="5533920"/>
              <a:ext cx="289440" cy="9000"/>
            </a:xfrm>
            <a:prstGeom prst="bentConnector3">
              <a:avLst>
                <a:gd name="adj1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1" name="AutoShape 20"/>
            <p:cNvCxnSpPr>
              <a:endCxn id="482" idx="1"/>
            </p:cNvCxnSpPr>
            <p:nvPr/>
          </p:nvCxnSpPr>
          <p:spPr>
            <a:xfrm flipV="1">
              <a:off x="2482920" y="4979160"/>
              <a:ext cx="288720" cy="555840"/>
            </a:xfrm>
            <a:prstGeom prst="bentConnector3">
              <a:avLst>
                <a:gd name="adj1" fmla="val 4968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2" name="AutoShape 21"/>
            <p:cNvCxnSpPr>
              <a:endCxn id="484" idx="1"/>
            </p:cNvCxnSpPr>
            <p:nvPr/>
          </p:nvCxnSpPr>
          <p:spPr>
            <a:xfrm>
              <a:off x="2482560" y="5534640"/>
              <a:ext cx="2015640" cy="442800"/>
            </a:xfrm>
            <a:prstGeom prst="bentConnector3">
              <a:avLst>
                <a:gd name="adj1" fmla="val 71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3" name="AutoShape 22"/>
            <p:cNvCxnSpPr>
              <a:stCxn id="482" idx="3"/>
            </p:cNvCxnSpPr>
            <p:nvPr/>
          </p:nvCxnSpPr>
          <p:spPr>
            <a:xfrm flipV="1">
              <a:off x="3202560" y="4943880"/>
              <a:ext cx="121320" cy="3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4" name="AutoShape 23"/>
            <p:cNvCxnSpPr>
              <a:endCxn id="483" idx="1"/>
            </p:cNvCxnSpPr>
            <p:nvPr/>
          </p:nvCxnSpPr>
          <p:spPr>
            <a:xfrm flipV="1">
              <a:off x="3635640" y="4479120"/>
              <a:ext cx="286920" cy="464760"/>
            </a:xfrm>
            <a:prstGeom prst="bentConnector3">
              <a:avLst>
                <a:gd name="adj1" fmla="val 3969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AutoShape 24"/>
            <p:cNvCxnSpPr>
              <a:endCxn id="487" idx="1"/>
            </p:cNvCxnSpPr>
            <p:nvPr/>
          </p:nvCxnSpPr>
          <p:spPr>
            <a:xfrm>
              <a:off x="3635640" y="4944240"/>
              <a:ext cx="215640" cy="409680"/>
            </a:xfrm>
            <a:prstGeom prst="bentConnector3">
              <a:avLst>
                <a:gd name="adj1" fmla="val 553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AutoShape 25"/>
            <p:cNvCxnSpPr>
              <a:endCxn id="486" idx="1"/>
            </p:cNvCxnSpPr>
            <p:nvPr/>
          </p:nvCxnSpPr>
          <p:spPr>
            <a:xfrm flipV="1">
              <a:off x="3636000" y="4939920"/>
              <a:ext cx="79128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AutoShape 26"/>
            <p:cNvCxnSpPr>
              <a:stCxn id="483" idx="3"/>
              <a:endCxn id="485" idx="1"/>
            </p:cNvCxnSpPr>
            <p:nvPr/>
          </p:nvCxnSpPr>
          <p:spPr>
            <a:xfrm>
              <a:off x="4353840" y="4479480"/>
              <a:ext cx="649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AutoShape 27"/>
            <p:cNvCxnSpPr>
              <a:stCxn id="485" idx="3"/>
            </p:cNvCxnSpPr>
            <p:nvPr/>
          </p:nvCxnSpPr>
          <p:spPr>
            <a:xfrm>
              <a:off x="5433840" y="4479480"/>
              <a:ext cx="217080" cy="459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9" name="AutoShape 28"/>
            <p:cNvCxnSpPr>
              <a:stCxn id="487" idx="3"/>
            </p:cNvCxnSpPr>
            <p:nvPr/>
          </p:nvCxnSpPr>
          <p:spPr>
            <a:xfrm flipV="1">
              <a:off x="4282560" y="4937760"/>
              <a:ext cx="1368360" cy="415440"/>
            </a:xfrm>
            <a:prstGeom prst="bentConnector3">
              <a:avLst>
                <a:gd name="adj1" fmla="val 924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0" name="AutoShape 29"/>
            <p:cNvCxnSpPr>
              <a:endCxn id="488" idx="1"/>
            </p:cNvCxnSpPr>
            <p:nvPr/>
          </p:nvCxnSpPr>
          <p:spPr>
            <a:xfrm flipV="1">
              <a:off x="5937120" y="4935600"/>
              <a:ext cx="145800" cy="2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1" name="AutoShape 30"/>
            <p:cNvCxnSpPr>
              <a:stCxn id="488" idx="3"/>
            </p:cNvCxnSpPr>
            <p:nvPr/>
          </p:nvCxnSpPr>
          <p:spPr>
            <a:xfrm>
              <a:off x="6514200" y="4935960"/>
              <a:ext cx="215640" cy="478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2" name="AutoShape 31"/>
            <p:cNvCxnSpPr>
              <a:stCxn id="489" idx="1"/>
              <a:endCxn id="489" idx="1"/>
            </p:cNvCxnSpPr>
            <p:nvPr/>
          </p:nvCxnSpPr>
          <p:spPr>
            <a:xfrm>
              <a:off x="7235280" y="5418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3" name="AutoShape 32"/>
            <p:cNvCxnSpPr>
              <a:endCxn id="489" idx="1"/>
            </p:cNvCxnSpPr>
            <p:nvPr/>
          </p:nvCxnSpPr>
          <p:spPr>
            <a:xfrm>
              <a:off x="7031520" y="5413320"/>
              <a:ext cx="204120" cy="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4" name="AutoShape 33"/>
            <p:cNvCxnSpPr>
              <a:stCxn id="486" idx="3"/>
            </p:cNvCxnSpPr>
            <p:nvPr/>
          </p:nvCxnSpPr>
          <p:spPr>
            <a:xfrm flipV="1">
              <a:off x="4858560" y="4937760"/>
              <a:ext cx="792720" cy="2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5" name="AutoShape 34"/>
            <p:cNvCxnSpPr>
              <a:stCxn id="484" idx="3"/>
            </p:cNvCxnSpPr>
            <p:nvPr/>
          </p:nvCxnSpPr>
          <p:spPr>
            <a:xfrm flipV="1">
              <a:off x="4929480" y="5412600"/>
              <a:ext cx="1800360" cy="564120"/>
            </a:xfrm>
            <a:prstGeom prst="bentConnector3">
              <a:avLst>
                <a:gd name="adj1" fmla="val 940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aphicFrame>
        <p:nvGraphicFramePr>
          <p:cNvPr id="506" name=""/>
          <p:cNvGraphicFramePr/>
          <p:nvPr/>
        </p:nvGraphicFramePr>
        <p:xfrm>
          <a:off x="1979640" y="1413000"/>
          <a:ext cx="4862520" cy="2286000"/>
        </p:xfrm>
        <a:graphic>
          <a:graphicData uri="http://schemas.openxmlformats.org/drawingml/2006/table">
            <a:tbl>
              <a:tblPr/>
              <a:tblGrid>
                <a:gridCol w="863640"/>
                <a:gridCol w="434880"/>
                <a:gridCol w="432000"/>
                <a:gridCol w="431640"/>
                <a:gridCol w="433440"/>
                <a:gridCol w="431640"/>
                <a:gridCol w="432000"/>
                <a:gridCol w="431640"/>
                <a:gridCol w="432000"/>
                <a:gridCol w="5396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ST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MJ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A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V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STP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SC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E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MJR=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AE=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P=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V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R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# LD=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7" name="Freeform 158"/>
          <p:cNvSpPr/>
          <p:nvPr/>
        </p:nvSpPr>
        <p:spPr>
          <a:xfrm>
            <a:off x="3384720" y="3933720"/>
            <a:ext cx="3322440" cy="1895760"/>
          </a:xfrm>
          <a:custGeom>
            <a:avLst/>
            <a:gdLst>
              <a:gd name="textAreaLeft" fmla="*/ 0 w 3322440"/>
              <a:gd name="textAreaRight" fmla="*/ 3322800 w 3322440"/>
              <a:gd name="textAreaTop" fmla="*/ 0 h 1895760"/>
              <a:gd name="textAreaBottom" fmla="*/ 1896120 h 1895760"/>
            </a:gdLst>
            <a:ahLst/>
            <a:rect l="textAreaLeft" t="textAreaTop" r="textAreaRight" b="textAreaBottom"/>
            <a:pathLst>
              <a:path w="2093" h="1194">
                <a:moveTo>
                  <a:pt x="839" y="226"/>
                </a:moveTo>
                <a:cubicBezTo>
                  <a:pt x="967" y="166"/>
                  <a:pt x="1406" y="0"/>
                  <a:pt x="1610" y="45"/>
                </a:cubicBezTo>
                <a:cubicBezTo>
                  <a:pt x="1814" y="90"/>
                  <a:pt x="2033" y="339"/>
                  <a:pt x="2063" y="498"/>
                </a:cubicBezTo>
                <a:cubicBezTo>
                  <a:pt x="2093" y="657"/>
                  <a:pt x="2093" y="891"/>
                  <a:pt x="1791" y="997"/>
                </a:cubicBezTo>
                <a:cubicBezTo>
                  <a:pt x="1489" y="1103"/>
                  <a:pt x="498" y="1194"/>
                  <a:pt x="249" y="1134"/>
                </a:cubicBezTo>
                <a:cubicBezTo>
                  <a:pt x="0" y="1074"/>
                  <a:pt x="196" y="756"/>
                  <a:pt x="294" y="635"/>
                </a:cubicBezTo>
                <a:cubicBezTo>
                  <a:pt x="392" y="514"/>
                  <a:pt x="748" y="476"/>
                  <a:pt x="839" y="408"/>
                </a:cubicBezTo>
                <a:cubicBezTo>
                  <a:pt x="930" y="340"/>
                  <a:pt x="711" y="286"/>
                  <a:pt x="839" y="226"/>
                </a:cubicBezTo>
                <a:close/>
              </a:path>
            </a:pathLst>
          </a:custGeom>
          <a:solidFill>
            <a:srgbClr val="ff66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5CA3-8C70-4756-B1AA-F59E28103E3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oti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rouver le modèle d’un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rouver le comportement exact d’un processus déjà modé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diagnostiqu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méli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039C-F2B8-425A-8D06-68559E5DF8B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xemples de tr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3DF0-84A7-4C32-AEC1-C0E84081048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65240" y="1413000"/>
            <a:ext cx="4551120" cy="51116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Log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caseID, act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 Invoice for Invoice No. 4567 completed on 12.11.2010 at 9:19: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StoreCustomerData(„Müller“, c1987, „Bad Bentheim“) completed on 12.11.2010 at 9:22: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 Invoice for Invoice No. 4567 completed on 12.11.2010 at 9:23: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esulting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4567, Check Invoice), (c1987, StoreCustomerData), (4567, Send Invoice)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istoric"/>
          <p:cNvPicPr/>
          <p:nvPr/>
        </p:nvPicPr>
        <p:blipFill>
          <a:blip r:embed="rId1"/>
          <a:stretch/>
        </p:blipFill>
        <p:spPr>
          <a:xfrm>
            <a:off x="4678200" y="3213000"/>
            <a:ext cx="42814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203480" y="1125360"/>
            <a:ext cx="740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1028880" y="1413000"/>
          <a:ext cx="684036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413000"/>
                    <a:ext cx="68403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5"/>
          <p:cNvSpPr/>
          <p:nvPr/>
        </p:nvSpPr>
        <p:spPr>
          <a:xfrm>
            <a:off x="108000" y="260280"/>
            <a:ext cx="8763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Structure des traces d’exéc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803C-6162-4262-826E-B0118607D35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85680" y="55879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e structure indépenda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tibles avec la plupart des SGWFs act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203480" y="1125360"/>
            <a:ext cx="740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150920" y="2060640"/>
          <a:ext cx="684216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2060640"/>
                    <a:ext cx="68421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5"/>
          <p:cNvSpPr/>
          <p:nvPr/>
        </p:nvSpPr>
        <p:spPr>
          <a:xfrm>
            <a:off x="108000" y="260280"/>
            <a:ext cx="892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Structure des traces d’exéc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(basiqu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Multiplier 2"/>
          <p:cNvSpPr/>
          <p:nvPr/>
        </p:nvSpPr>
        <p:spPr>
          <a:xfrm>
            <a:off x="2608200" y="2347920"/>
            <a:ext cx="1654200" cy="1297080"/>
          </a:xfrm>
          <a:custGeom>
            <a:avLst/>
            <a:gdLst/>
            <a:ahLst/>
            <a:rect l="l" t="t" r="r" b="b"/>
            <a:pathLst>
              <a:path w="1654175" h="1296987">
                <a:moveTo>
                  <a:pt x="303180" y="431533"/>
                </a:moveTo>
                <a:lnTo>
                  <a:pt x="491403" y="191474"/>
                </a:lnTo>
                <a:lnTo>
                  <a:pt x="827088" y="454674"/>
                </a:lnTo>
                <a:lnTo>
                  <a:pt x="1162772" y="191474"/>
                </a:lnTo>
                <a:lnTo>
                  <a:pt x="1350995" y="431533"/>
                </a:lnTo>
                <a:lnTo>
                  <a:pt x="1074285" y="648494"/>
                </a:lnTo>
                <a:lnTo>
                  <a:pt x="1350995" y="865454"/>
                </a:lnTo>
                <a:lnTo>
                  <a:pt x="1162772" y="1105513"/>
                </a:lnTo>
                <a:lnTo>
                  <a:pt x="827088" y="842313"/>
                </a:lnTo>
                <a:lnTo>
                  <a:pt x="491403" y="1105513"/>
                </a:lnTo>
                <a:lnTo>
                  <a:pt x="303180" y="865454"/>
                </a:lnTo>
                <a:lnTo>
                  <a:pt x="579890" y="648494"/>
                </a:lnTo>
                <a:lnTo>
                  <a:pt x="303180" y="43153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Multiplier 3"/>
          <p:cNvSpPr/>
          <p:nvPr/>
        </p:nvSpPr>
        <p:spPr>
          <a:xfrm>
            <a:off x="1166760" y="5013360"/>
            <a:ext cx="1225440" cy="1224000"/>
          </a:xfrm>
          <a:custGeom>
            <a:avLst/>
            <a:gdLst/>
            <a:ahLst/>
            <a:rect l="l" t="t" r="r" b="b"/>
            <a:pathLst>
              <a:path w="1225550" h="1223963">
                <a:moveTo>
                  <a:pt x="192633" y="395811"/>
                </a:moveTo>
                <a:lnTo>
                  <a:pt x="396060" y="192120"/>
                </a:lnTo>
                <a:lnTo>
                  <a:pt x="612775" y="408554"/>
                </a:lnTo>
                <a:lnTo>
                  <a:pt x="829490" y="192120"/>
                </a:lnTo>
                <a:lnTo>
                  <a:pt x="1032917" y="395811"/>
                </a:lnTo>
                <a:lnTo>
                  <a:pt x="816466" y="611982"/>
                </a:lnTo>
                <a:lnTo>
                  <a:pt x="1032917" y="828152"/>
                </a:lnTo>
                <a:lnTo>
                  <a:pt x="829490" y="1031843"/>
                </a:lnTo>
                <a:lnTo>
                  <a:pt x="612775" y="815409"/>
                </a:lnTo>
                <a:lnTo>
                  <a:pt x="396060" y="1031843"/>
                </a:lnTo>
                <a:lnTo>
                  <a:pt x="192633" y="828152"/>
                </a:lnTo>
                <a:lnTo>
                  <a:pt x="409084" y="611982"/>
                </a:lnTo>
                <a:lnTo>
                  <a:pt x="192633" y="39581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Multiplier 4"/>
          <p:cNvSpPr/>
          <p:nvPr/>
        </p:nvSpPr>
        <p:spPr>
          <a:xfrm>
            <a:off x="4417920" y="4995720"/>
            <a:ext cx="1225800" cy="1241640"/>
          </a:xfrm>
          <a:custGeom>
            <a:avLst/>
            <a:gdLst/>
            <a:ahLst/>
            <a:rect l="l" t="t" r="r" b="b"/>
            <a:pathLst>
              <a:path w="1225550" h="1241425">
                <a:moveTo>
                  <a:pt x="191781" y="399413"/>
                </a:moveTo>
                <a:lnTo>
                  <a:pt x="396912" y="196906"/>
                </a:lnTo>
                <a:lnTo>
                  <a:pt x="612775" y="415565"/>
                </a:lnTo>
                <a:lnTo>
                  <a:pt x="828638" y="196906"/>
                </a:lnTo>
                <a:lnTo>
                  <a:pt x="1033769" y="399413"/>
                </a:lnTo>
                <a:lnTo>
                  <a:pt x="815299" y="620713"/>
                </a:lnTo>
                <a:lnTo>
                  <a:pt x="1033769" y="842012"/>
                </a:lnTo>
                <a:lnTo>
                  <a:pt x="828638" y="1044519"/>
                </a:lnTo>
                <a:lnTo>
                  <a:pt x="612775" y="825860"/>
                </a:lnTo>
                <a:lnTo>
                  <a:pt x="396912" y="1044519"/>
                </a:lnTo>
                <a:lnTo>
                  <a:pt x="191781" y="842012"/>
                </a:lnTo>
                <a:lnTo>
                  <a:pt x="410251" y="620713"/>
                </a:lnTo>
                <a:lnTo>
                  <a:pt x="191781" y="39941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A1A0-392E-41E4-8418-CBA022617CA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311120" y="1963800"/>
            <a:ext cx="740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1165320" y="1963800"/>
          <a:ext cx="684036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1963800"/>
                    <a:ext cx="68403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108000" y="260280"/>
            <a:ext cx="8763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Structure des traces d’exéc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ahoma"/>
              </a:rPr>
              <a:t>(Exemple d’exten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e 12"/>
          <p:cNvGrpSpPr/>
          <p:nvPr/>
        </p:nvGrpSpPr>
        <p:grpSpPr>
          <a:xfrm>
            <a:off x="6221520" y="2571840"/>
            <a:ext cx="1662120" cy="903240"/>
            <a:chOff x="6221520" y="2571840"/>
            <a:chExt cx="1662120" cy="903240"/>
          </a:xfrm>
        </p:grpSpPr>
        <p:sp>
          <p:nvSpPr>
            <p:cNvPr id="91" name="Rectangle 1"/>
            <p:cNvSpPr/>
            <p:nvPr/>
          </p:nvSpPr>
          <p:spPr>
            <a:xfrm>
              <a:off x="6948720" y="2611440"/>
              <a:ext cx="93492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Connecteur droit 3"/>
            <p:cNvSpPr/>
            <p:nvPr/>
          </p:nvSpPr>
          <p:spPr>
            <a:xfrm>
              <a:off x="6948720" y="279252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ZoneTexte 4"/>
            <p:cNvSpPr/>
            <p:nvPr/>
          </p:nvSpPr>
          <p:spPr>
            <a:xfrm>
              <a:off x="7040160" y="2571840"/>
              <a:ext cx="77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</a:rPr>
                <a:t>Participa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Connecteur en angle 8"/>
            <p:cNvCxnSpPr>
              <a:endCxn id="91" idx="2"/>
            </p:cNvCxnSpPr>
            <p:nvPr/>
          </p:nvCxnSpPr>
          <p:spPr>
            <a:xfrm flipV="1">
              <a:off x="6221520" y="2971800"/>
              <a:ext cx="1194480" cy="358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5" name="Connecteur droit 11"/>
            <p:cNvSpPr/>
            <p:nvPr/>
          </p:nvSpPr>
          <p:spPr>
            <a:xfrm>
              <a:off x="6221520" y="333072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Ellipse 14"/>
          <p:cNvSpPr/>
          <p:nvPr/>
        </p:nvSpPr>
        <p:spPr>
          <a:xfrm rot="20585400">
            <a:off x="5935680" y="2495160"/>
            <a:ext cx="2382840" cy="1008000"/>
          </a:xfrm>
          <a:prstGeom prst="ellipse">
            <a:avLst/>
          </a:prstGeom>
          <a:noFill/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727B-4E5B-4A9E-BEF7-F25903CE119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1:35:20Z</dcterms:created>
  <dc:creator>Walid Gaaloul</dc:creator>
  <dc:description/>
  <dc:language>en-US</dc:language>
  <cp:lastModifiedBy>Claude Godart</cp:lastModifiedBy>
  <dcterms:modified xsi:type="dcterms:W3CDTF">2016-10-25T07:43:47Z</dcterms:modified>
  <cp:revision>82</cp:revision>
  <dc:subject/>
  <dc:title>Chapitre 6</dc:title>
</cp:coreProperties>
</file>