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7BAD-AE22-4487-B3A6-5BCABFE14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fld id="{B4FE7924-7652-4389-B859-A29D5667D87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4C97-4640-4D94-B63B-A52E046D7A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FDEB-813A-4A14-B310-B3CEEB1A92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90DC-D26F-4635-8D77-CD38CC5CB8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BBCE-C7C4-4724-822D-182C38A925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929A-7F4C-472E-8023-9ADAB9355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6662-ABE7-4DC6-BDF9-D0C2434C37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89B-B622-47A0-839B-F24F66B0A6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956-EA41-4FAD-8996-897A37ACEC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AD83-7C6F-446D-B800-AE17B530B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4267080" y="6324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CD9-8421-4D0D-B082-BF20B5C85038}" type="slidenum"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F0720E-71DD-4982-9C6E-3A42DBBC7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pproche de con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057400" y="1295280"/>
            <a:ext cx="44197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438280" y="1523880"/>
            <a:ext cx="3714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iagramme de classes U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057400" y="3276720"/>
            <a:ext cx="44197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971800" y="3505320"/>
            <a:ext cx="3029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héma rela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057400" y="5334120"/>
            <a:ext cx="44197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438280" y="5562720"/>
            <a:ext cx="3714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héma relationnel normalis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038480" y="2287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4038480" y="4268880"/>
            <a:ext cx="0" cy="9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7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112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rainte d’intégrité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été qui doit être vérifiée par les données d’un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trainte statique 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t au long de la vie de l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trainte dynamique :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ors du changement d’état (modification des données), entre plusieurs (deux) états valides de la b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a valeur d’un attribut ne peut pas être nu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heure&gt;8h00 et heure&lt;20h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un salaire ne peut pas bai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003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rainte de référence 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orsqu’une relation contient des clés étrangères, les n-uplets correspondant à ces clés doivent exister dans la relation référen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en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Employe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_emp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, nom_emp, adresse_emp, role, </a:t>
            </a:r>
            <a:r>
              <a:rPr b="0" i="1" lang="fr-FR" sz="2400" spc="-1" strike="noStrike">
                <a:solidFill>
                  <a:srgbClr val="3333cc"/>
                </a:solidFill>
                <a:latin typeface="Times New Roman"/>
              </a:rPr>
              <a:t>no_dep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epartement(</a:t>
            </a:r>
            <a:r>
              <a:rPr b="0" i="1" lang="fr-FR" sz="2400" spc="-1" strike="noStrike" u="sng">
                <a:solidFill>
                  <a:srgbClr val="3333cc"/>
                </a:solidFill>
                <a:uFillTx/>
                <a:latin typeface="Times New Roman"/>
              </a:rPr>
              <a:t>no_dep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, nom_d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mployés ne peuvent être affectés qu’à des départements qui ex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ne peut supprimer un département dans le quel il y a un employ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jection Relation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Tab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77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chéma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structure des enregistre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-uplet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enregistrement (lig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ttribut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champ (colon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lé primaire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index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ormalisation : object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’objectif de la normalisation est d’assurer qu’un schéma relationnel a les bonnes proprié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inimiser les redondances pour suppr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nomalies de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nomalies d’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anomalies de su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imite des systèmes à une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2720" y="177336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: tables des propriétaires de vo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0" y="3141720"/>
            <a:ext cx="89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O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Nom     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Type     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823760" y="3835440"/>
            <a:ext cx="63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MARTIN      AB123CD        Clio 1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   Clio 192    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 Peu. 208  23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456OP      Espace 777         1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476360" y="2997360"/>
            <a:ext cx="7315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79280" y="3699000"/>
            <a:ext cx="861228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2976480" y="30081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4371840" y="29973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5896080" y="29973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308720" y="30081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imite des systèmes à une tabl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nomalie de mise à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78800" y="3643200"/>
            <a:ext cx="70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    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89600" y="4336920"/>
            <a:ext cx="63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123CD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Clio 1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Clio 192     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  Peu208 23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456OP      Espace 777         1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143000" y="3498840"/>
            <a:ext cx="7315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1143000" y="4260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644920" y="3510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4038480" y="34988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5562720" y="34988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6781680" y="34988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68400" y="190296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y a modification de la puissance d’un type de voiture, il y a autant d’opérations que de voitures de c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imite des systèmes à une tabl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nomalie d’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2160" y="174780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: on ne peut pas stocker les informations sur un type de voiture qui n’est pas la propriété d’une personne (ou alors table pleine de trous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378800" y="3643200"/>
            <a:ext cx="70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    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389600" y="4336920"/>
            <a:ext cx="63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123CD      Clio 1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  Clio 192     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  Peu208 23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456OP      Espace 777         1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1143000" y="3498840"/>
            <a:ext cx="7315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143000" y="426096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2644920" y="3510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038480" y="34988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5562720" y="34988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6781680" y="34988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imite des systèmes à une tabl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nomalie de sup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93640" y="1907640"/>
            <a:ext cx="829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: si on supprime la personne 158..., on supprime complètement le type de voiture PEU208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321560" y="3352680"/>
            <a:ext cx="70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    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333080" y="4046400"/>
            <a:ext cx="63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123CD      Clio 1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  Clio 192             6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CD354AB      Peu208 23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456OP      Espace 777         1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085760" y="3208320"/>
            <a:ext cx="7315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085760" y="397044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2587680" y="3219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3981600" y="3208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505480" y="3208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6724800" y="3208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eilleure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156240" y="15238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O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1833480" y="209556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125280" y="2008080"/>
            <a:ext cx="437544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3106800" y="151452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4500720" y="1498680"/>
            <a:ext cx="0" cy="22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585800" y="1536840"/>
            <a:ext cx="34920" cy="22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1585800" y="1503000"/>
            <a:ext cx="2895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1598760" y="3763440"/>
            <a:ext cx="2895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617360" y="14446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EDE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6310440" y="2014560"/>
            <a:ext cx="2971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AB123CD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BD345E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8…       CD354AB        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AB456OP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A678A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 flipV="1">
            <a:off x="4708440" y="1973160"/>
            <a:ext cx="39783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7291440" y="134136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8686800" y="1330200"/>
            <a:ext cx="19080" cy="23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99120" y="1341360"/>
            <a:ext cx="792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6107040" y="1353960"/>
            <a:ext cx="2559240" cy="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4"/>
          <p:cNvSpPr/>
          <p:nvPr/>
        </p:nvSpPr>
        <p:spPr>
          <a:xfrm flipV="1">
            <a:off x="6118200" y="3687480"/>
            <a:ext cx="25876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114480" y="4070520"/>
            <a:ext cx="43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ITURE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Ty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854360" y="468648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123CD    Clio 1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Clio 192        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Peu208 23 AB456OP   Espace 777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250920" y="4583160"/>
            <a:ext cx="427032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3127320" y="4013280"/>
            <a:ext cx="0" cy="23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4521240" y="4000680"/>
            <a:ext cx="19080" cy="23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1625760" y="4013280"/>
            <a:ext cx="0" cy="23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 flipV="1">
            <a:off x="1595520" y="4017600"/>
            <a:ext cx="2895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 flipV="1">
            <a:off x="1595520" y="6357600"/>
            <a:ext cx="28954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5137920" y="4156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Puissa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6172200" y="475452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io 192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208 23          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pace 777        1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3 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4754520" y="4648320"/>
            <a:ext cx="420516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7520040" y="4070520"/>
            <a:ext cx="0" cy="19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8942400" y="4025880"/>
            <a:ext cx="11160" cy="19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6113520" y="4049640"/>
            <a:ext cx="936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6046920" y="4074840"/>
            <a:ext cx="28954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6076800" y="6054480"/>
            <a:ext cx="2884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e modèle relation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fini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lation, schéma relationnel, clé, contrainte d’intég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cessus de norm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pendance fonctionnelle simple, multivalu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NF, 2NF, 3NF, BCNF, 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pendance fonctionnelle (D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2400" y="17002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R(U) une relation avec U l'ensemble de ses attrib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X, Y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U, i.e X et Y sont deux attributs ou ensemble d'attributs de R. On dit qu'il existe une DF entre X et Y (ou que X détermine Y ou encore que Y est déterminé par X), notée     X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 si et seulement s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l et t2, deux tuples de R, si tl[X] = t2[X] alors tl[Y] = t2[Y] Pour une DF X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Y, X est la source et Y la c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une valeur de X ne correspond qu’une valeu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: noinsee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Dans une relation, tout attribut est en DF avec la clef prim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112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priété des D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1120" y="1628640"/>
          <a:ext cx="7775640" cy="4176720"/>
        </p:xfrm>
        <a:graphic>
          <a:graphicData uri="http://schemas.openxmlformats.org/drawingml/2006/table">
            <a:tbl>
              <a:tblPr/>
              <a:tblGrid>
                <a:gridCol w="2009520"/>
                <a:gridCol w="2573640"/>
                <a:gridCol w="3192480"/>
              </a:tblGrid>
              <a:tr h="81612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4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éflexiv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2560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Y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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0320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30320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rs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(et donc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g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et W 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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032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rs X, Z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,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itiv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X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et Y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032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rs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eudo-transitiv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X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et Y, Z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032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rs X, Z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ts val="15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et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0320">
                        <a:lnSpc>
                          <a:spcPts val="16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rs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,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0" rIns="0" tIns="0" bIns="0" anchor="t">
                      <a:noAutofit/>
                    </a:bodyPr>
                    <a:p>
                      <a:pPr marL="34920">
                        <a:lnSpc>
                          <a:spcPts val="15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com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2560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,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0320">
                        <a:lnSpc>
                          <a:spcPts val="16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rs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Y et X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F et clé candi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oit R(U) une relation et X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 est une clef possible ou candidate si et seulement si on a X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Y où Y = U - X (i.e. le complémentaire de X dans U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F élémentaire et clé minim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98108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R(U) une relation et 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une DF élémentaire entre X et Y, X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Y de façon élémentaire si et seulement si :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X'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X, X'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Y n'est pas vérifi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t X est une clef de 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dit que X est une clef minimale de R si et seulement si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X'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X, X' n'est pas une clef de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(U-X),  la DF X </a:t>
            </a:r>
            <a:r>
              <a:rPr b="0" i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Y est élé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x : Noinsee </a:t>
            </a:r>
            <a:r>
              <a:rPr b="0" i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nom                   (élémenta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1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Noinsee, NoImmat </a:t>
            </a:r>
            <a:r>
              <a:rPr b="0" i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nom (non élémentai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F et norm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éorème de dé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oit R(X,Y,Z) une relation où X, Y, Z sont des ensembles d’attributs, et X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lors la décomposition de R (X,Y) en R1(X,Y) et R2 (X,Z) est sans perte d’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pas de perte de données ni de DF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lation en 1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relation est en première forme normale si tous ses attributs sont atom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sage en 1NF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pprimer les attributs composés en les remplaçant par autant d’attributs que né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choisir une clé prim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lation en 2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relation est en 2NF s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le est en 1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out attribut n’appartenant pas à la clé primaire est en DF élémentaire avec cette c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sage en 2N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oler la DF non élémentaire en créant une nouvell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iminer l’attribut cible de la DF de la relation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lation en 3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160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relation est en 3NF 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le est en 2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le ne contient pas de DF transitive entre attributs non c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sage en 3N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soler la DF non directe en créant une nouvell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iminer l’attribut cible de DF de la relation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864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xemple 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1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63640" y="4152960"/>
            <a:ext cx="4860720" cy="15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insee, NoImmat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m, Type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insee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Immat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Type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19160" y="1387440"/>
            <a:ext cx="89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O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Nom     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Type     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1941840" y="2081160"/>
            <a:ext cx="637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MARTIN      AB123CD        Clio 19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   Clio 192    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 Peu. 208  23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456OP      Espace 777         10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595520" y="1243080"/>
            <a:ext cx="73152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298440" y="1944720"/>
            <a:ext cx="861228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3095640" y="12542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4491000" y="1243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6014880" y="12430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7426440" y="12542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xemple 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2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16720" y="19843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O   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      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1893960" y="255600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185760" y="2468160"/>
            <a:ext cx="43750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3166920" y="197496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4560840" y="1959120"/>
            <a:ext cx="0" cy="22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1646280" y="1996920"/>
            <a:ext cx="34920" cy="22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V="1">
            <a:off x="1646280" y="1963440"/>
            <a:ext cx="2895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4"/>
          <p:cNvSpPr/>
          <p:nvPr/>
        </p:nvSpPr>
        <p:spPr>
          <a:xfrm flipV="1">
            <a:off x="1511280" y="4249440"/>
            <a:ext cx="2895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14800" y="1290600"/>
            <a:ext cx="613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ITURE   </a:t>
            </a:r>
            <a:r>
              <a:rPr b="0" lang="fr-FR" sz="2400" spc="-1" strike="noStrike" u="sng">
                <a:solidFill>
                  <a:srgbClr val="00b05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b050"/>
                </a:solidFill>
                <a:latin typeface="Times New Roman"/>
              </a:rPr>
              <a:t>      Type         Puissa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954680" y="1906560"/>
            <a:ext cx="4029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123CD    Clio 192  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Clio 192               6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Peu208 23            6       AB456OP   Espace 777           10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351240" y="1803240"/>
            <a:ext cx="567036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6227640" y="1233360"/>
            <a:ext cx="0" cy="234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>
            <a:off x="7621560" y="1220760"/>
            <a:ext cx="19080" cy="237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>
            <a:off x="4726080" y="123336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4"/>
          <p:cNvSpPr/>
          <p:nvPr/>
        </p:nvSpPr>
        <p:spPr>
          <a:xfrm flipV="1">
            <a:off x="4695840" y="1247760"/>
            <a:ext cx="4325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 flipV="1">
            <a:off x="4695840" y="3578040"/>
            <a:ext cx="43257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520" y="44481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EDE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1728720" y="5019840"/>
            <a:ext cx="2971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AB123CD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BD345E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8…       CD354AB        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AB456OP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A678A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4"/>
          <p:cNvSpPr/>
          <p:nvPr/>
        </p:nvSpPr>
        <p:spPr>
          <a:xfrm flipV="1">
            <a:off x="144360" y="4987800"/>
            <a:ext cx="39783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2727360" y="435600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4122720" y="4344840"/>
            <a:ext cx="19080" cy="23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535040" y="4356000"/>
            <a:ext cx="792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1542960" y="4368960"/>
            <a:ext cx="25592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4"/>
          <p:cNvSpPr/>
          <p:nvPr/>
        </p:nvSpPr>
        <p:spPr>
          <a:xfrm flipV="1">
            <a:off x="1554120" y="6702120"/>
            <a:ext cx="25876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8983800" y="1220760"/>
            <a:ext cx="19080" cy="237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339800" y="4560840"/>
            <a:ext cx="486108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insee, NoImmat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m, Type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Noinsee </a:t>
            </a:r>
            <a:r>
              <a:rPr b="0" lang="fr-F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50"/>
                </a:solidFill>
                <a:latin typeface="Times New Roman"/>
              </a:rPr>
              <a:t>NoImmat </a:t>
            </a:r>
            <a:r>
              <a:rPr b="0" lang="fr-FR" sz="20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b050"/>
                </a:solidFill>
                <a:latin typeface="Times New Roman"/>
              </a:rPr>
              <a:t> Type,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Puiss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970 par Codd (IBM San Jos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ère réalisations (System-R, Ingres), vers 19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premiers systèmes commerciaux, au début des années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modèle relationnel es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facile à appréhender, même pour un non spéciali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ides bases théoriques: définir de façon formelle les langages de manipulation asso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relations qui peuvent être manipulées par des opérateurs (algèbre relationn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standardisé :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20560" y="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xemple </a:t>
            </a:r>
            <a:r>
              <a:rPr b="0" lang="fr-FR" sz="4400" spc="-1" strike="noStrike">
                <a:solidFill>
                  <a:srgbClr val="3333cc"/>
                </a:solidFill>
                <a:latin typeface="Times New Roman"/>
              </a:rPr>
              <a:t>3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05640" y="10303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RIO    </a:t>
            </a:r>
            <a:r>
              <a:rPr b="0" lang="fr-FR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       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998720" y="161784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     SIMO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8…            MARTI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    DURAND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SCHMITT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289080" y="1488960"/>
            <a:ext cx="43750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3270240" y="995400"/>
            <a:ext cx="0" cy="22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4664160" y="979560"/>
            <a:ext cx="0" cy="22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1749600" y="1017720"/>
            <a:ext cx="34920" cy="22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749600" y="983880"/>
            <a:ext cx="2895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V="1">
            <a:off x="1762200" y="3244320"/>
            <a:ext cx="2895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921920" y="1017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EDE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nse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6613560" y="1479600"/>
            <a:ext cx="2971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AB123CD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67…        BD345E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8…       CD354AB        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78…        AB456OP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A678A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V="1">
            <a:off x="5011560" y="1438200"/>
            <a:ext cx="39783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7594560" y="806400"/>
            <a:ext cx="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8989920" y="795240"/>
            <a:ext cx="19080" cy="236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6402240" y="806400"/>
            <a:ext cx="7920" cy="234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410160" y="819000"/>
            <a:ext cx="25592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4"/>
          <p:cNvSpPr/>
          <p:nvPr/>
        </p:nvSpPr>
        <p:spPr>
          <a:xfrm flipV="1">
            <a:off x="6421320" y="3152520"/>
            <a:ext cx="258768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277920" y="3402000"/>
            <a:ext cx="43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ITURE   </a:t>
            </a:r>
            <a:r>
              <a:rPr b="0" lang="fr-FR" sz="2400" spc="-1" strike="noStrike" u="sng">
                <a:solidFill>
                  <a:srgbClr val="00b050"/>
                </a:solidFill>
                <a:uFillTx/>
                <a:latin typeface="Times New Roman"/>
              </a:rPr>
              <a:t>Noimmat</a:t>
            </a:r>
            <a:r>
              <a:rPr b="0" lang="fr-FR" sz="2400" spc="-1" strike="noStrike">
                <a:solidFill>
                  <a:srgbClr val="00b050"/>
                </a:solidFill>
                <a:latin typeface="Times New Roman"/>
              </a:rPr>
              <a:t>      Ty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017800" y="401796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B123CD    Clio 1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D345EF     Clio 192        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D354AB    Peu208 23 AB456OP   Espace 777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A678AA      C3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414360" y="3914640"/>
            <a:ext cx="427032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3290760" y="3344760"/>
            <a:ext cx="0" cy="234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4684680" y="3332160"/>
            <a:ext cx="19080" cy="237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789200" y="3344760"/>
            <a:ext cx="0" cy="23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4"/>
          <p:cNvSpPr/>
          <p:nvPr/>
        </p:nvSpPr>
        <p:spPr>
          <a:xfrm flipV="1">
            <a:off x="1758960" y="3349800"/>
            <a:ext cx="28954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V="1">
            <a:off x="1758960" y="5689440"/>
            <a:ext cx="28954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5179320" y="33782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YPE     </a:t>
            </a:r>
            <a:r>
              <a:rPr b="0" lang="fr-FR" sz="2400" spc="-1" strike="noStrike" u="sng">
                <a:solidFill>
                  <a:srgbClr val="3333cc"/>
                </a:solidFill>
                <a:uFillTx/>
                <a:latin typeface="Times New Roman"/>
              </a:rPr>
              <a:t>Type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       Puissan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6213600" y="397656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io 192            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208 23          6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pace 777        10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3 821        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4795920" y="3870360"/>
            <a:ext cx="420516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7561440" y="3292560"/>
            <a:ext cx="0" cy="19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8983800" y="3247920"/>
            <a:ext cx="10800" cy="19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6154560" y="3271680"/>
            <a:ext cx="972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4"/>
          <p:cNvSpPr/>
          <p:nvPr/>
        </p:nvSpPr>
        <p:spPr>
          <a:xfrm flipV="1">
            <a:off x="6087960" y="3296880"/>
            <a:ext cx="2895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 flipV="1">
            <a:off x="6118200" y="5276520"/>
            <a:ext cx="2884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31520" y="5702400"/>
            <a:ext cx="75610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insee, NoImmat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Nom, Type, Puissance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Noinsee </a:t>
            </a:r>
            <a:r>
              <a:rPr b="0" lang="fr-F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Nom, </a:t>
            </a:r>
            <a:r>
              <a:rPr b="0" lang="fr-FR" sz="2000" spc="-1" strike="noStrike">
                <a:solidFill>
                  <a:srgbClr val="00b050"/>
                </a:solidFill>
                <a:latin typeface="Times New Roman"/>
              </a:rPr>
              <a:t>NoImmat </a:t>
            </a:r>
            <a:r>
              <a:rPr b="0" lang="fr-FR" sz="2000" spc="-1" strike="noStrike">
                <a:solidFill>
                  <a:srgbClr val="00b05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b050"/>
                </a:solidFill>
                <a:latin typeface="Times New Roman"/>
              </a:rPr>
              <a:t> Type, Puissance,  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Type </a:t>
            </a:r>
            <a:r>
              <a:rPr b="0" lang="fr-FR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e relation en 3NF peut comporter des redond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(VILLE, DEPART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CODE POS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avec les D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LLE, DEPARTEMENT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DE PO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POSTAL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PA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dondance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répète le département pour toutes les villes ayant le même code po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lation en Boyce–Codd N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160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relation est en BCNF si les seules dépendances sont celles dans lesquelles une clé détermine un attribut (=&gt; 3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sage en BCN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omposer la relation en s’appuyant sur la DF problémat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éer une nouvelle relation pour cette D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iminer la cible de la DF problématique dans la relation initiale; modifier la clé en fo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lation en Boyce–Codd N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160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 (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LLE, DEPARTEM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CODE POSTAL) n'est pas en BCN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le peut être décompos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1 (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LLE, CODE POST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2 (DEPARTEMENT,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 POSTA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 utilisant en CODE POSTAL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PAR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s on a perdu la dépend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ILLE, DEPARTEMENT 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CODE PO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e relation en BCNF peut comporter des redond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57080" y="219024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relation ETUDIANT est en BCNF mais contient des redond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1332000" y="36306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UDIANT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Etudi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or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3270240" y="4327560"/>
            <a:ext cx="445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Ski                  Anglai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Tenni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Polon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Sk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Pol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88…            Tenni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Anglai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0…            Natation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Ang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1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Natation         Ital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3041640" y="3500280"/>
            <a:ext cx="4554720" cy="273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1538280" y="4202280"/>
            <a:ext cx="604692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4643280" y="35002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6012000" y="34894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e relation en BCNF peut comporter des redond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57080" y="2190600"/>
            <a:ext cx="7772400" cy="34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relation ETUDIANT est en BCNF mais contient des redondances car le fait qu’un étudiant fasse un sport est indépendant des langues qu’il par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caractériser cette configuration, on utilise les dépendances multivalu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26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épendance multivaluée (D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2560" y="1411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(A1, A2, …, 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 sous-ensemble de {A1, A2, …, A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Y sous-ensemble de {A1, A2, …, An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 = {A1, A2, …, An} - X -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-&gt;&gt; Y  (X multi-détermine Y) s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,y,z&gt;  et &lt;x,y’,z’&gt; dans R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,y’,z&gt;  et &lt;x,y,z’&gt; dan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chaque valeur de X est associée un ensemble de valeurs de Y indépendamment d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058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composition en 4</a:t>
            </a:r>
            <a:r>
              <a:rPr b="0" lang="fr-FR" sz="4400" spc="-1" strike="noStrike" baseline="30000">
                <a:solidFill>
                  <a:srgbClr val="000000"/>
                </a:solidFill>
                <a:latin typeface="Times New Roman"/>
              </a:rPr>
              <a:t>ème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forme norm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5280" y="16876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it R(X,Y,Z) et X -&gt;&gt; Y et X -&gt;&gt; Z, alors R se décompose 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1 (X,Y) et R2 (X,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1 et R2 sont en 4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ans ETUDIANT(NoEtudiant, Sport, Langue), on a NoEtudiant -&gt;&gt; Sport et NoEtudiant -&gt;&gt; Langue, donc ETUDIANT se décompose e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UDIANT1(NoEtudiant, Sport) et ETUDIANT2(NoEtudiant, Lan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t ce n’est pas fini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pendances join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5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e relation peut se décomposer en plus de 2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odèle relati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6720" y="1752120"/>
            <a:ext cx="77724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données sont organisées sous forme de tables à deux dimensions, encore appelées relations, dont les lignes sont appelées « tuple » ou « n-uple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ligne représente un 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colonne un 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données sont manipulées par des opérateurs de l’algèbre relationn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état cohérent de la base est défini par un ensemble de contraintes d’intégr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112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n attribu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t un nom décrivant une information stockée dans une base. Exemples d’attribut : l’âge d’une personne, son nom, le numéro de sécurité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 domaine d’un attribu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t l’ensemble, fini ou infini, de ses valeurs possibles. Exemple : l’attribut numéro de sécurité sociale a pour domaine l’ensemble des combinaisons de quinze chiffres; l’attribut nom a pour domaine l’ensemble des chaînes de caractères. Un attribut a une valeur ato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ne rela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st un sous-ensemble du produit cartésien de n domaines d’attributs (n&gt;0). Une relation est représentée sous la forme d’une table à deux dimensions dans laquelle les n attributs correspondent aux titres des n colon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69960" y="1427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 schéma de relatio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cise le nom de la relation ainsi que la liste ordonnée des attributs avec leurs do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lation Etudiant: </a:t>
            </a: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Etudiant(</a:t>
            </a:r>
            <a:r>
              <a:rPr b="1" i="1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no</a:t>
            </a: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,nom,prenom,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097160" y="3908520"/>
            <a:ext cx="990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887480" y="3889440"/>
            <a:ext cx="7621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801880" y="3898800"/>
            <a:ext cx="990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545080" y="3908520"/>
            <a:ext cx="9907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592200" y="3213000"/>
            <a:ext cx="6400800" cy="2772720"/>
            <a:chOff x="592200" y="3213000"/>
            <a:chExt cx="6400800" cy="2772720"/>
          </a:xfrm>
        </p:grpSpPr>
        <p:sp>
          <p:nvSpPr>
            <p:cNvPr id="75" name="AutoShape 7"/>
            <p:cNvSpPr/>
            <p:nvPr/>
          </p:nvSpPr>
          <p:spPr>
            <a:xfrm>
              <a:off x="592200" y="3213000"/>
              <a:ext cx="914400" cy="652320"/>
            </a:xfrm>
            <a:prstGeom prst="wedgeRoundRectCallout">
              <a:avLst>
                <a:gd name="adj1" fmla="val 107467"/>
                <a:gd name="adj2" fmla="val 21092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attrib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8"/>
            <p:cNvSpPr/>
            <p:nvPr/>
          </p:nvSpPr>
          <p:spPr>
            <a:xfrm>
              <a:off x="668520" y="4110120"/>
              <a:ext cx="914400" cy="734040"/>
            </a:xfrm>
            <a:prstGeom prst="wedgeRoundRectCallout">
              <a:avLst>
                <a:gd name="adj1" fmla="val 85939"/>
                <a:gd name="adj2" fmla="val -4398"/>
                <a:gd name="adj3" fmla="val 16667"/>
              </a:avLst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n-up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u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9"/>
            <p:cNvGrpSpPr/>
            <p:nvPr/>
          </p:nvGrpSpPr>
          <p:grpSpPr>
            <a:xfrm>
              <a:off x="1811520" y="3375720"/>
              <a:ext cx="5181480" cy="2610000"/>
              <a:chOff x="1811520" y="3375720"/>
              <a:chExt cx="5181480" cy="2610000"/>
            </a:xfrm>
          </p:grpSpPr>
          <p:grpSp>
            <p:nvGrpSpPr>
              <p:cNvPr id="78" name="Group 10"/>
              <p:cNvGrpSpPr/>
              <p:nvPr/>
            </p:nvGrpSpPr>
            <p:grpSpPr>
              <a:xfrm>
                <a:off x="1811520" y="3375720"/>
                <a:ext cx="5181480" cy="2610000"/>
                <a:chOff x="1811520" y="3375720"/>
                <a:chExt cx="5181480" cy="2610000"/>
              </a:xfrm>
            </p:grpSpPr>
            <p:sp>
              <p:nvSpPr>
                <p:cNvPr id="79" name="Line 11"/>
                <p:cNvSpPr/>
                <p:nvPr/>
              </p:nvSpPr>
              <p:spPr>
                <a:xfrm>
                  <a:off x="1811520" y="3821400"/>
                  <a:ext cx="5181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Line 12"/>
                <p:cNvSpPr/>
                <p:nvPr/>
              </p:nvSpPr>
              <p:spPr>
                <a:xfrm>
                  <a:off x="2725560" y="3375720"/>
                  <a:ext cx="0" cy="261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Line 13"/>
                <p:cNvSpPr/>
                <p:nvPr/>
              </p:nvSpPr>
              <p:spPr>
                <a:xfrm>
                  <a:off x="3944880" y="3375720"/>
                  <a:ext cx="0" cy="261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14"/>
                <p:cNvSpPr/>
                <p:nvPr/>
              </p:nvSpPr>
              <p:spPr>
                <a:xfrm>
                  <a:off x="5468760" y="3375720"/>
                  <a:ext cx="0" cy="261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15"/>
              <p:cNvGrpSpPr/>
              <p:nvPr/>
            </p:nvGrpSpPr>
            <p:grpSpPr>
              <a:xfrm>
                <a:off x="1811520" y="3375720"/>
                <a:ext cx="5181120" cy="2609640"/>
                <a:chOff x="1811520" y="3375720"/>
                <a:chExt cx="5181120" cy="2609640"/>
              </a:xfrm>
            </p:grpSpPr>
            <p:sp>
              <p:nvSpPr>
                <p:cNvPr id="84" name="Rectangle 16"/>
                <p:cNvSpPr/>
                <p:nvPr/>
              </p:nvSpPr>
              <p:spPr>
                <a:xfrm>
                  <a:off x="1811520" y="3375720"/>
                  <a:ext cx="5181120" cy="26096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Text Box 17"/>
                <p:cNvSpPr/>
                <p:nvPr/>
              </p:nvSpPr>
              <p:spPr>
                <a:xfrm>
                  <a:off x="1966320" y="3457080"/>
                  <a:ext cx="541080" cy="23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3333cc"/>
                      </a:solidFill>
                      <a:latin typeface="Times New Roman"/>
                    </a:rPr>
                    <a:t>n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Text Box 18"/>
                <p:cNvSpPr/>
                <p:nvPr/>
              </p:nvSpPr>
              <p:spPr>
                <a:xfrm>
                  <a:off x="2816640" y="3457080"/>
                  <a:ext cx="1159920" cy="23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3333cc"/>
                      </a:solidFill>
                      <a:latin typeface="Times New Roman"/>
                    </a:rPr>
                    <a:t>no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Ernes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Barnab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Gertru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Gaeta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19"/>
                <p:cNvSpPr/>
                <p:nvPr/>
              </p:nvSpPr>
              <p:spPr>
                <a:xfrm>
                  <a:off x="4054320" y="3395880"/>
                  <a:ext cx="1314360" cy="241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3333cc"/>
                      </a:solidFill>
                      <a:latin typeface="Times New Roman"/>
                    </a:rPr>
                    <a:t>preno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Michè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Pasc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Françoi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la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20"/>
                <p:cNvSpPr/>
                <p:nvPr/>
              </p:nvSpPr>
              <p:spPr>
                <a:xfrm>
                  <a:off x="5600880" y="3380760"/>
                  <a:ext cx="1314360" cy="241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3333cc"/>
                      </a:solidFill>
                      <a:latin typeface="Times New Roman"/>
                    </a:rPr>
                    <a:t>ag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2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Rectangle 21"/>
          <p:cNvSpPr/>
          <p:nvPr/>
        </p:nvSpPr>
        <p:spPr>
          <a:xfrm>
            <a:off x="1811160" y="3984480"/>
            <a:ext cx="4724640" cy="45720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3"/>
          <p:cNvSpPr/>
          <p:nvPr/>
        </p:nvSpPr>
        <p:spPr>
          <a:xfrm>
            <a:off x="6688080" y="2536920"/>
            <a:ext cx="1981080" cy="838080"/>
          </a:xfrm>
          <a:prstGeom prst="wedgeRoundRectCallout">
            <a:avLst>
              <a:gd name="adj1" fmla="val -54805"/>
              <a:gd name="adj2" fmla="val 6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omaine de l’attri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en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871640" y="3984480"/>
            <a:ext cx="458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5          Dupond         Loïc               19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 degré d’une relation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son nombre d’attribu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e occurrence, ou n-uplet ou tuple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un élément de l’ensemble figuré par la relation. Autrement dit, une occurrence est une ligne de la table qui représente la re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 cardinalité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’une relation est son nombre d’occurren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Espace réservé de la date 3"/>
          <p:cNvSpPr/>
          <p:nvPr/>
        </p:nvSpPr>
        <p:spPr>
          <a:xfrm>
            <a:off x="68580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Bases de Données, 3ème ann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Espace réservé du pied de page 4"/>
          <p:cNvSpPr/>
          <p:nvPr/>
        </p:nvSpPr>
        <p:spPr>
          <a:xfrm>
            <a:off x="5562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laude.Godart@esstin.uhp-nancy.f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ne clé candidat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une relation est un ensemble minimal d’attributs de la relation dont les valeurs identifient à coup sûr une occurrence. La valeur d’une clé candidate est donc distincte pour tous les tuples de la re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ègle : toute relation a au moins une clé candidate et peut en avoir plusieurs. Ainsi, il ne peut jamais y avoir deux tuples identiques au sein d’une rel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clés candidates d’une relation n’ont pas forcément le même nombre d’attributs. Une clé candidate peut être formée d’un attribut arbitraire qui n’a d’autre objectif que de servir de cl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a clé primair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’une relation est une de ses clés candidates. Pour signaler la clé primaire, ses attributs sont généralement souligné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ne clé étrangèr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une relation est formée d’un ou plusieurs attributs qui constituent une clé candidate dans une autre re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7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éfinition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1120" y="135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 schéma relationnel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constitué par l’ensemble des schémas de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arle aussi d’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ntens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a base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e base de données relationnell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st constituée par l’ensemble des n-uplets des différentes relations du schéma relation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parle aussi d’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e la base de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3T18:46:29Z</dcterms:created>
  <dc:creator>admin</dc:creator>
  <dc:description/>
  <dc:language>en-US</dc:language>
  <cp:lastModifiedBy>Claude Godart</cp:lastModifiedBy>
  <cp:lastPrinted>2017-08-31T07:58:37Z</cp:lastPrinted>
  <dcterms:modified xsi:type="dcterms:W3CDTF">2018-10-05T08:01:48Z</dcterms:modified>
  <cp:revision>290</cp:revision>
  <dc:subject/>
  <dc:title>Aucun titre de diapositive</dc:title>
</cp:coreProperties>
</file>