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D6D-D2AB-41E6-BB2A-B65D0B0B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3BE8-82F4-485C-A305-86ABAD5E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704-59CA-428A-A09B-875040A7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877-4E3B-4BB4-BC52-DC84D5E1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542C-0D88-4D5D-9936-EB98C63B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ECE0-5B6C-4251-A405-E4F10AB1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2F4B-0A75-4082-867B-B02F62AC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8567-B4DB-4364-B448-8E5125DC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E215-7CC9-4ABE-B770-A25CB365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E433-BCA6-45CB-B330-8DC2B431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507A-E2BA-45D5-B5D4-B029BFB6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7BB-A437-4C66-80B7-0FEE91A4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03FA-A367-4499-ACE0-29A8D422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3496-1CE0-43F8-99E9-51D0E27E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1F64-0319-4B3D-B125-DCA2F1BA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6411-D1F0-48F7-B7EB-17D8790E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694C-0894-4F9D-9522-D94A1497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FD2-2F1B-4593-B736-09511CA9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3CC-7BED-4062-8F39-739A37AF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CBD-1479-442E-B4D1-D414F2B4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F97-56A0-46F2-A4A6-6D3CC4D3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65A-6F5F-4799-B93F-6934F5AA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A8D-DEF0-42DE-8928-9BFBD208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D63-63FC-4905-B9A9-1E677CF0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2DF4-A801-46FA-90E4-18A2EB99E71B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D4BF-7D2D-46A1-AD5C-96105764E54D}" type="slidenum">
              <a:rPr b="0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08000" y="404280"/>
            <a:ext cx="75693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0066"/>
                </a:solidFill>
                <a:latin typeface="Arial"/>
              </a:rPr>
              <a:t>Recherche combinatoire sur les graphes</a:t>
            </a:r>
            <a:r>
              <a:rPr b="1" lang="fr-FR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26560" y="2925720"/>
            <a:ext cx="6248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thilde Bou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age effectué au Loria, équipe Adage, sous la direction de Gregory Kucher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s-Août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D72B-5D12-4AC4-A1E5-09DADDD0E34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Recherche de plusieurs fausses pièces parmi 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3560" y="1719360"/>
            <a:ext cx="868680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ots de n pièces parmi lesquelles un nombre donné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d &gt; 1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fausses pièce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, ou un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nombre arbitraire de fausses pièce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esée d’un sous-ensemble des piè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Que révèle chaque pesée d’un ensemble Q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fr-FR" sz="2600" spc="-1" strike="noStrike">
                <a:solidFill>
                  <a:srgbClr val="330066"/>
                </a:solidFill>
                <a:latin typeface="Arial"/>
              </a:rPr>
              <a:t>oui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i="1" lang="fr-FR" sz="2600" spc="-1" strike="noStrike">
                <a:solidFill>
                  <a:srgbClr val="330066"/>
                </a:solidFill>
                <a:latin typeface="Arial"/>
              </a:rPr>
              <a:t> n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une fausse pièce appartient à 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i="1" lang="fr-FR" sz="2600" spc="-1" strike="noStrike">
                <a:solidFill>
                  <a:srgbClr val="330066"/>
                </a:solidFill>
                <a:latin typeface="Arial"/>
              </a:rPr>
              <a:t> nombr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de fausses pièces qui appartiennent à 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odèle booléen VS modèle quantitat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824-99D2-472B-8463-EFF7AAFD1A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Elargissements possib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ifférents degrés de fausseté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haque pièce a un degré de fausseté entre 0 et 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n veut reconstruire le vecteur de degrés de fausseté (v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,…, v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 {0,…,d}</a:t>
            </a:r>
            <a:r>
              <a:rPr b="0" lang="fr-FR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Questions : somme des v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 pour i </a:t>
            </a:r>
            <a:r>
              <a:rPr b="1" lang="fr-FR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 Q, pour Q un  sous-ensemble de {1,…,n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Reconstruction de vecteurs à poids borné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(n,d) = { (v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,…,v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) |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=1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 ≤ d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Reconstruire un vecteur de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(n,d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Questions : id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5805360"/>
            <a:ext cx="576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82440" y="5013360"/>
            <a:ext cx="30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6B2-66C9-4D03-8D4D-F32E1D0463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0066"/>
                </a:solidFill>
                <a:latin typeface="Arial"/>
              </a:rPr>
              <a:t>Quelques uns des principaux outil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fférents types de modè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fférents types d’algorith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évaluation particulière de la complexité des algorith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33BE-58CF-4EDF-8BC6-B421CC1FF6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Modèles booléen et quantitati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odèle booléen : les questions autorisées donnent lieu à une réponse </a:t>
            </a:r>
            <a:r>
              <a:rPr b="0" i="1" lang="fr-FR" sz="2600" spc="-1" strike="noStrike">
                <a:solidFill>
                  <a:srgbClr val="330066"/>
                </a:solidFill>
                <a:latin typeface="Arial"/>
              </a:rPr>
              <a:t>vrai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i="1" lang="fr-FR" sz="2600" spc="-1" strike="noStrike">
                <a:solidFill>
                  <a:srgbClr val="330066"/>
                </a:solidFill>
                <a:latin typeface="Arial"/>
              </a:rPr>
              <a:t> faux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odèle quantitatif : </a:t>
            </a:r>
            <a:r>
              <a:rPr b="0" i="1" lang="fr-FR" sz="2600" spc="-1" strike="noStrike">
                <a:solidFill>
                  <a:srgbClr val="330066"/>
                </a:solidFill>
                <a:latin typeface="Arial"/>
              </a:rPr>
              <a:t>information quantitativ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sur la configuration caché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Y a-t-il </a:t>
            </a:r>
            <a:r>
              <a:rPr b="0" i="1" lang="fr-FR" sz="2600" spc="-1" strike="noStrike">
                <a:solidFill>
                  <a:srgbClr val="330066"/>
                </a:solidFill>
                <a:latin typeface="Arial"/>
              </a:rPr>
              <a:t>au moins un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fausse pièce dans l’ensemble pesé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330066"/>
                </a:solidFill>
                <a:latin typeface="Arial"/>
              </a:rPr>
              <a:t>Combie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y a-t-il de fausses pièces dans l’ensemble pesé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5D4-AA3E-44B6-82FC-2B6760C4B0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Algorithmes en recherche combinatoi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lgorithme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=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suite de question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à poser pour pouvoir retrouver quelle est la configuration caché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Attention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: l’algorithme fournit seulement un jeu de questions à poser. Les outils utilisés pour passer des réponses obtenues à la configuration cachée n’apparaissent pas dans l’algorithme (précalcul possible) 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F19-467A-452D-A2A4-059132DC5D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Algorithme adaptati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te question posée par l’algorithme peut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dépendre des réponse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obtenues aux questions précédemment posées : l’algorithme s’adap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xemple : recherche par dichotomie d’une fausse pièce ou d’un nombre cach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D87-A8B5-4D77-80E3-687BF2992E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Algorithme non-adaptati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questions sont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indépendante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les unes des autres. Un algorithme non-adaptatif est seulement un ensemble de questions à poser, sans enchaînement chronologiqu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Intérêt pratique pour poser les questions en parallèle (expériences biologiques p.e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6F4-3696-4F04-B270-09002135D4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Algorithme à s tou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mpromis entre algorithmes adaptatifs (a priori plus puissants) et non-adaptatifs (plus aisé à mettre en oeuv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lgorithme composé de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s étapes non-adaptative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qui se succè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questions posées dans la même étape sont indépend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questions posées à l’étape i+1 peuvent dépendre des réponses obtenues aux étapes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382-E9D1-4B1C-A510-BA6C0ABD4E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Complexité d’un algorith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esure particulière de la complexit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mplexité d’un algorithme =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nombre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maximal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de question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posées par un algorithme pour retrouver la configuration caché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mplexité d’un problème = complexité minimale d’un algorithme résolvant ce problè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763-BFD2-417F-B7AB-469299D273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Evaluation de la complexité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alcul précis difficile : on se contente d’estima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Bornes inférieures : astuce de la théorie de l’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Bornes supérieures : algorithme effect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F5DE-DD65-47E4-8FCC-D88AAE6162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L’équipe Ad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6000" y="1719360"/>
            <a:ext cx="8820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330066"/>
                </a:solidFill>
                <a:latin typeface="Arial"/>
              </a:rPr>
              <a:t>A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gorithmique </a:t>
            </a:r>
            <a:r>
              <a:rPr b="0" lang="fr-FR" sz="3000" spc="-1" strike="noStrike">
                <a:solidFill>
                  <a:srgbClr val="330066"/>
                </a:solidFill>
                <a:latin typeface="Arial"/>
              </a:rPr>
              <a:t>D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iscrète </a:t>
            </a:r>
            <a:r>
              <a:rPr b="0" lang="fr-FR" sz="3000" spc="-1" strike="noStrike">
                <a:solidFill>
                  <a:srgbClr val="330066"/>
                </a:solidFill>
                <a:latin typeface="Arial"/>
              </a:rPr>
              <a:t>A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pliquée à la </a:t>
            </a:r>
            <a:r>
              <a:rPr b="0" lang="fr-FR" sz="3000" spc="-1" strike="noStrike">
                <a:solidFill>
                  <a:srgbClr val="330066"/>
                </a:solidFill>
                <a:latin typeface="Arial"/>
              </a:rPr>
              <a:t>GE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nom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lgorithmique du texte et géométrie discrète Domaine d’application privilégié : bioinformat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éveloppement de logiciels expérimentaux (grappe, mreps, YAS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EF6-51AE-4A8C-BE72-6130A496094E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Astuce de la théorie de l’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560" y="1719360"/>
            <a:ext cx="88930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upposons qu’il y ait n configurations à discrimin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On numérote en binaire ces configurations : chacune est définie par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log</a:t>
            </a:r>
            <a:r>
              <a:rPr b="0" i="1" lang="fr-FR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n bit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d’in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i l’ensemble de réponses est {0,…,d-1}, chaque question permet de découvrir au plus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log</a:t>
            </a:r>
            <a:r>
              <a:rPr b="0" i="1" lang="fr-FR" sz="30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d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b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clusion : au moins log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n / log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log</a:t>
            </a:r>
            <a:r>
              <a:rPr b="0" i="1" lang="fr-FR" sz="3000" spc="-1" strike="noStrike" baseline="-25000">
                <a:solidFill>
                  <a:srgbClr val="330066"/>
                </a:solidFill>
                <a:latin typeface="Arial"/>
              </a:rPr>
              <a:t>d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n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questions sont nécessaires pour retrouver une configuration caché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On dit que la complexité est en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(log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23D-D39C-45FD-A69A-09D2289311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101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Atteindre cette borne inférieure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62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théorie de l’information ne tient pas compte du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type de question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autorisées : il est souvent impossible d’atteindre la borne inférieure de la théorie de l’in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arfois, un algorithme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adaptatif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permet de l’atteindre, mais on démontre que c’est impossible pour tout algorithme non-adaptati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ans certains cas, les meilleurs algorithmes connus sont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non-adaptatif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et atteignent cette borne inférieure de la théorie de l’in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7E5E-F648-4ACB-83BA-DCD1911984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73080" y="358920"/>
            <a:ext cx="7524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0066"/>
                </a:solidFill>
                <a:latin typeface="Arial"/>
              </a:rPr>
              <a:t>Recherche combinatoire de graph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cherche d’un graphe dans une classe de graphes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emple de la classe des éto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E1B7-0C9B-488F-A81B-B6C53E9D30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Recherche d’un graphe dans une classe de graphes donné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Formulation générique du problè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otivation bioinformat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odèle quantitatif et modèle boolé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daptatif ou non-adaptatif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tteindre la complexité optimale par un algorithme non-adaptati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 algorithme adaptatif strictement plus puissant que tout algorithme non-adaptati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C51-2E4C-4AEC-B5B6-C804CF2A50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Reconstruction d’un graph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On considère toujours des graphes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  <a:ea typeface="Arial"/>
              </a:rPr>
              <a:t>non-orientés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ont les sommets sont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  <a:ea typeface="Arial"/>
              </a:rPr>
              <a:t>étiqueté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de 1 à 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Monotype Corsiva"/>
              </a:rPr>
              <a:t>G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≥0</a:t>
            </a:r>
            <a:r>
              <a:rPr b="0" lang="fr-FR" sz="32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une classe de graphes donnée, avec </a:t>
            </a:r>
            <a:r>
              <a:rPr b="0" lang="fr-FR" sz="32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= les graphes de </a:t>
            </a:r>
            <a:r>
              <a:rPr b="0" lang="fr-FR" sz="32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à n somm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Un entier n donn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Un graphe caché G </a:t>
            </a:r>
            <a:r>
              <a:rPr b="1" lang="fr-FR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2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qu’il nous faut reconstru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Questions portant sur un sous-ensemble de sommets du grap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5439-4C6F-43E7-B29B-EBFA248992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Motivations biologiq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équençage d’un génome circulaire complet : on obtient des fragments d’ADN (=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contig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) qu’il faut ordonner et orienter sur le cer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3860640"/>
            <a:ext cx="2160360" cy="2159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50920" y="3860640"/>
            <a:ext cx="865440" cy="432000"/>
          </a:xfrm>
          <a:custGeom>
            <a:avLst/>
            <a:gdLst/>
            <a:ahLst/>
            <a:rect l="l" t="t" r="r" b="b"/>
            <a:pathLst>
              <a:path w="545" h="272">
                <a:moveTo>
                  <a:pt x="0" y="0"/>
                </a:moveTo>
                <a:cubicBezTo>
                  <a:pt x="79" y="11"/>
                  <a:pt x="159" y="22"/>
                  <a:pt x="227" y="45"/>
                </a:cubicBezTo>
                <a:cubicBezTo>
                  <a:pt x="295" y="68"/>
                  <a:pt x="356" y="98"/>
                  <a:pt x="409" y="136"/>
                </a:cubicBezTo>
                <a:cubicBezTo>
                  <a:pt x="462" y="174"/>
                  <a:pt x="503" y="223"/>
                  <a:pt x="545" y="272"/>
                </a:cubicBezTo>
              </a:path>
            </a:pathLst>
          </a:custGeom>
          <a:noFill/>
          <a:ln w="57240">
            <a:solidFill>
              <a:srgbClr val="47a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4508640"/>
            <a:ext cx="239760" cy="1079280"/>
          </a:xfrm>
          <a:custGeom>
            <a:avLst/>
            <a:gdLst/>
            <a:ahLst/>
            <a:rect l="l" t="t" r="r" b="b"/>
            <a:pathLst>
              <a:path w="151" h="680">
                <a:moveTo>
                  <a:pt x="90" y="0"/>
                </a:moveTo>
                <a:cubicBezTo>
                  <a:pt x="120" y="102"/>
                  <a:pt x="151" y="204"/>
                  <a:pt x="136" y="317"/>
                </a:cubicBezTo>
                <a:cubicBezTo>
                  <a:pt x="121" y="430"/>
                  <a:pt x="23" y="620"/>
                  <a:pt x="0" y="680"/>
                </a:cubicBezTo>
              </a:path>
            </a:pathLst>
          </a:custGeom>
          <a:noFill/>
          <a:ln w="57240">
            <a:solidFill>
              <a:srgbClr val="47a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4219560"/>
            <a:ext cx="252360" cy="720720"/>
          </a:xfrm>
          <a:custGeom>
            <a:avLst/>
            <a:gdLst/>
            <a:ahLst/>
            <a:rect l="l" t="t" r="r" b="b"/>
            <a:pathLst>
              <a:path w="159" h="454">
                <a:moveTo>
                  <a:pt x="23" y="454"/>
                </a:moveTo>
                <a:cubicBezTo>
                  <a:pt x="11" y="378"/>
                  <a:pt x="0" y="303"/>
                  <a:pt x="23" y="227"/>
                </a:cubicBezTo>
                <a:cubicBezTo>
                  <a:pt x="46" y="151"/>
                  <a:pt x="102" y="75"/>
                  <a:pt x="159" y="0"/>
                </a:cubicBezTo>
              </a:path>
            </a:pathLst>
          </a:custGeom>
          <a:noFill/>
          <a:ln w="57240">
            <a:solidFill>
              <a:srgbClr val="47a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42920" y="5227560"/>
            <a:ext cx="360360" cy="576360"/>
          </a:xfrm>
          <a:custGeom>
            <a:avLst/>
            <a:gdLst/>
            <a:ahLst/>
            <a:rect l="l" t="t" r="r" b="b"/>
            <a:pathLst>
              <a:path w="227" h="363">
                <a:moveTo>
                  <a:pt x="0" y="0"/>
                </a:moveTo>
                <a:cubicBezTo>
                  <a:pt x="26" y="83"/>
                  <a:pt x="53" y="167"/>
                  <a:pt x="91" y="227"/>
                </a:cubicBezTo>
                <a:cubicBezTo>
                  <a:pt x="129" y="287"/>
                  <a:pt x="178" y="325"/>
                  <a:pt x="227" y="363"/>
                </a:cubicBezTo>
              </a:path>
            </a:pathLst>
          </a:custGeom>
          <a:noFill/>
          <a:ln w="57240">
            <a:solidFill>
              <a:srgbClr val="47a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35280" y="5877000"/>
            <a:ext cx="792000" cy="166680"/>
          </a:xfrm>
          <a:custGeom>
            <a:avLst/>
            <a:gdLst/>
            <a:ahLst/>
            <a:rect l="l" t="t" r="r" b="b"/>
            <a:pathLst>
              <a:path w="499" h="105">
                <a:moveTo>
                  <a:pt x="0" y="90"/>
                </a:moveTo>
                <a:cubicBezTo>
                  <a:pt x="94" y="97"/>
                  <a:pt x="189" y="105"/>
                  <a:pt x="272" y="90"/>
                </a:cubicBezTo>
                <a:cubicBezTo>
                  <a:pt x="355" y="75"/>
                  <a:pt x="427" y="37"/>
                  <a:pt x="499" y="0"/>
                </a:cubicBezTo>
              </a:path>
            </a:pathLst>
          </a:custGeom>
          <a:noFill/>
          <a:ln w="57240">
            <a:solidFill>
              <a:srgbClr val="47a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4149720"/>
            <a:ext cx="216000" cy="14292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4941720"/>
            <a:ext cx="216000" cy="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900000" y="5229360"/>
            <a:ext cx="216000" cy="7128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331640" y="5734080"/>
            <a:ext cx="144360" cy="14292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35280" y="5877000"/>
            <a:ext cx="0" cy="21600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56000" y="5805360"/>
            <a:ext cx="144360" cy="14472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43280" y="5516640"/>
            <a:ext cx="216000" cy="14436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843280" y="4221000"/>
            <a:ext cx="216000" cy="14472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3789360"/>
            <a:ext cx="0" cy="21600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987640" y="4436640"/>
            <a:ext cx="216000" cy="14436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771280" y="4005360"/>
            <a:ext cx="792360" cy="0"/>
          </a:xfrm>
          <a:prstGeom prst="line">
            <a:avLst/>
          </a:prstGeom>
          <a:ln w="38160">
            <a:solidFill>
              <a:srgbClr val="47a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88200" y="3660840"/>
            <a:ext cx="119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47aeb9"/>
                </a:solidFill>
                <a:latin typeface="Arial"/>
              </a:rPr>
              <a:t>conti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132000" y="5661000"/>
            <a:ext cx="719280" cy="0"/>
          </a:xfrm>
          <a:prstGeom prst="line">
            <a:avLst/>
          </a:prstGeom>
          <a:ln w="38160">
            <a:solidFill>
              <a:srgbClr val="b000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52360" y="5297400"/>
            <a:ext cx="12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b00015"/>
                </a:solidFill>
                <a:latin typeface="Arial"/>
              </a:rPr>
              <a:t>prim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6560" y="3517920"/>
            <a:ext cx="83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ro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87280" y="3860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08720" y="3789360"/>
            <a:ext cx="33112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primer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est un fragment d’ADN qui caractérise une extrémité d’un contig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4145-F83F-4855-823E-8B6D615E72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Polymerase Chain Rea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640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e PCR se produit entre deux </a:t>
            </a:r>
            <a:r>
              <a:rPr b="0" lang="fr-FR" sz="2600" spc="-1" strike="noStrike">
                <a:solidFill>
                  <a:srgbClr val="b00015"/>
                </a:solidFill>
                <a:latin typeface="Arial"/>
              </a:rPr>
              <a:t>primers</a:t>
            </a:r>
            <a:r>
              <a:rPr b="0" lang="fr-FR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qui se trouvent de part et d’autre du même tro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ette réaction se produit aussi entre deux tels </a:t>
            </a:r>
            <a:r>
              <a:rPr b="0" lang="fr-FR" sz="2600" spc="-1" strike="noStrike">
                <a:solidFill>
                  <a:srgbClr val="47aeb9"/>
                </a:solidFill>
                <a:latin typeface="Arial"/>
              </a:rPr>
              <a:t>contig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 mécanisme biologique permet de détecter les paires de primers ou de contigs qui réagissent ensem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35280" y="2131920"/>
            <a:ext cx="215640" cy="14292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58920" y="2635200"/>
            <a:ext cx="216000" cy="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00000" y="2995200"/>
            <a:ext cx="216000" cy="7164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266560" y="1916280"/>
            <a:ext cx="144360" cy="14256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35280" y="3643200"/>
            <a:ext cx="0" cy="21600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08000" y="2924280"/>
            <a:ext cx="144720" cy="14436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43280" y="3282840"/>
            <a:ext cx="216000" cy="14472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266920" y="3284640"/>
            <a:ext cx="216000" cy="14436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03280" y="3355920"/>
            <a:ext cx="0" cy="21600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266920" y="2634840"/>
            <a:ext cx="216000" cy="14436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05080" y="4941720"/>
            <a:ext cx="865080" cy="432000"/>
          </a:xfrm>
          <a:custGeom>
            <a:avLst/>
            <a:gdLst/>
            <a:ahLst/>
            <a:rect l="l" t="t" r="r" b="b"/>
            <a:pathLst>
              <a:path w="545" h="272">
                <a:moveTo>
                  <a:pt x="0" y="0"/>
                </a:moveTo>
                <a:cubicBezTo>
                  <a:pt x="79" y="11"/>
                  <a:pt x="159" y="22"/>
                  <a:pt x="227" y="45"/>
                </a:cubicBezTo>
                <a:cubicBezTo>
                  <a:pt x="295" y="68"/>
                  <a:pt x="356" y="98"/>
                  <a:pt x="409" y="136"/>
                </a:cubicBezTo>
                <a:cubicBezTo>
                  <a:pt x="462" y="174"/>
                  <a:pt x="503" y="223"/>
                  <a:pt x="545" y="272"/>
                </a:cubicBezTo>
              </a:path>
            </a:pathLst>
          </a:custGeom>
          <a:noFill/>
          <a:ln w="57240">
            <a:solidFill>
              <a:srgbClr val="47a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73440" y="4365720"/>
            <a:ext cx="239760" cy="1079280"/>
          </a:xfrm>
          <a:custGeom>
            <a:avLst/>
            <a:gdLst/>
            <a:ahLst/>
            <a:rect l="l" t="t" r="r" b="b"/>
            <a:pathLst>
              <a:path w="151" h="680">
                <a:moveTo>
                  <a:pt x="90" y="0"/>
                </a:moveTo>
                <a:cubicBezTo>
                  <a:pt x="120" y="102"/>
                  <a:pt x="151" y="204"/>
                  <a:pt x="136" y="317"/>
                </a:cubicBezTo>
                <a:cubicBezTo>
                  <a:pt x="121" y="430"/>
                  <a:pt x="23" y="620"/>
                  <a:pt x="0" y="680"/>
                </a:cubicBezTo>
              </a:path>
            </a:pathLst>
          </a:custGeom>
          <a:noFill/>
          <a:ln w="57240">
            <a:solidFill>
              <a:srgbClr val="47a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00000" y="4581360"/>
            <a:ext cx="252360" cy="720720"/>
          </a:xfrm>
          <a:custGeom>
            <a:avLst/>
            <a:gdLst/>
            <a:ahLst/>
            <a:rect l="l" t="t" r="r" b="b"/>
            <a:pathLst>
              <a:path w="159" h="454">
                <a:moveTo>
                  <a:pt x="23" y="454"/>
                </a:moveTo>
                <a:cubicBezTo>
                  <a:pt x="11" y="378"/>
                  <a:pt x="0" y="303"/>
                  <a:pt x="23" y="227"/>
                </a:cubicBezTo>
                <a:cubicBezTo>
                  <a:pt x="46" y="151"/>
                  <a:pt x="102" y="75"/>
                  <a:pt x="159" y="0"/>
                </a:cubicBezTo>
              </a:path>
            </a:pathLst>
          </a:custGeom>
          <a:noFill/>
          <a:ln w="57240">
            <a:solidFill>
              <a:srgbClr val="47a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7149600">
            <a:off x="1098720" y="5391720"/>
            <a:ext cx="612720" cy="576360"/>
          </a:xfrm>
          <a:custGeom>
            <a:avLst/>
            <a:gdLst/>
            <a:ahLst/>
            <a:rect l="l" t="t" r="r" b="b"/>
            <a:pathLst>
              <a:path w="227" h="363">
                <a:moveTo>
                  <a:pt x="0" y="0"/>
                </a:moveTo>
                <a:cubicBezTo>
                  <a:pt x="26" y="83"/>
                  <a:pt x="53" y="167"/>
                  <a:pt x="91" y="227"/>
                </a:cubicBezTo>
                <a:cubicBezTo>
                  <a:pt x="129" y="287"/>
                  <a:pt x="178" y="325"/>
                  <a:pt x="227" y="363"/>
                </a:cubicBezTo>
              </a:path>
            </a:pathLst>
          </a:custGeom>
          <a:noFill/>
          <a:ln w="57240">
            <a:solidFill>
              <a:srgbClr val="47a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4462800">
            <a:off x="1883880" y="4678200"/>
            <a:ext cx="792000" cy="166680"/>
          </a:xfrm>
          <a:custGeom>
            <a:avLst/>
            <a:gdLst/>
            <a:ahLst/>
            <a:rect l="l" t="t" r="r" b="b"/>
            <a:pathLst>
              <a:path w="499" h="105">
                <a:moveTo>
                  <a:pt x="0" y="90"/>
                </a:moveTo>
                <a:cubicBezTo>
                  <a:pt x="94" y="97"/>
                  <a:pt x="189" y="105"/>
                  <a:pt x="272" y="90"/>
                </a:cubicBezTo>
                <a:cubicBezTo>
                  <a:pt x="355" y="75"/>
                  <a:pt x="427" y="37"/>
                  <a:pt x="499" y="0"/>
                </a:cubicBezTo>
              </a:path>
            </a:pathLst>
          </a:custGeom>
          <a:noFill/>
          <a:ln w="57240">
            <a:solidFill>
              <a:srgbClr val="47a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D2C4-BCF0-4E7F-9B7B-9DB73209BE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Modélisation par un graph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n produit chimique (primer ou contig) = un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sommet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du grap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ne réaction chimique (PCR) entre deux produits = une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arête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du graphe reliant les deux sommets corresponda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Généralisation possible à tous les problèmes où on cherche des paires de produits chimiques qui réagiss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88000" y="63086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08720" y="4869000"/>
            <a:ext cx="1429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08720" y="58770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44720" y="53020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1080" y="60944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00720" y="436572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5080" y="4438800"/>
            <a:ext cx="14292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5"/>
            <a:endCxn id="252" idx="1"/>
          </p:cNvCxnSpPr>
          <p:nvPr/>
        </p:nvCxnSpPr>
        <p:spPr>
          <a:xfrm>
            <a:off x="3327480" y="4560480"/>
            <a:ext cx="2202480" cy="1337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6588000" y="44370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84720" y="638172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64000" y="551664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66920" y="45813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C94-5C82-49E0-A9CB-0B23959475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Modélisation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Reconstituer le placement des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contig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sur le génome circulaire revient à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reconstruire un cycle Hamilton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ycle Hamiltonien : graphe dont les arêtes forment un cycle passant une et une seule fois par chaque somm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35640" y="3213000"/>
            <a:ext cx="865080" cy="432000"/>
          </a:xfrm>
          <a:custGeom>
            <a:avLst/>
            <a:gdLst/>
            <a:ahLst/>
            <a:rect l="l" t="t" r="r" b="b"/>
            <a:pathLst>
              <a:path w="545" h="272">
                <a:moveTo>
                  <a:pt x="0" y="0"/>
                </a:moveTo>
                <a:cubicBezTo>
                  <a:pt x="79" y="11"/>
                  <a:pt x="159" y="22"/>
                  <a:pt x="227" y="45"/>
                </a:cubicBezTo>
                <a:cubicBezTo>
                  <a:pt x="295" y="68"/>
                  <a:pt x="356" y="98"/>
                  <a:pt x="409" y="136"/>
                </a:cubicBezTo>
                <a:cubicBezTo>
                  <a:pt x="462" y="174"/>
                  <a:pt x="503" y="223"/>
                  <a:pt x="545" y="272"/>
                </a:cubicBezTo>
              </a:path>
            </a:pathLst>
          </a:custGeom>
          <a:noFill/>
          <a:ln w="57240">
            <a:solidFill>
              <a:srgbClr val="47a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9403400">
            <a:off x="5292720" y="4076640"/>
            <a:ext cx="216000" cy="1079640"/>
          </a:xfrm>
          <a:custGeom>
            <a:avLst/>
            <a:gdLst/>
            <a:ahLst/>
            <a:rect l="l" t="t" r="r" b="b"/>
            <a:pathLst>
              <a:path w="151" h="680">
                <a:moveTo>
                  <a:pt x="90" y="0"/>
                </a:moveTo>
                <a:cubicBezTo>
                  <a:pt x="120" y="102"/>
                  <a:pt x="151" y="204"/>
                  <a:pt x="136" y="317"/>
                </a:cubicBezTo>
                <a:cubicBezTo>
                  <a:pt x="121" y="430"/>
                  <a:pt x="23" y="620"/>
                  <a:pt x="0" y="680"/>
                </a:cubicBezTo>
              </a:path>
            </a:pathLst>
          </a:custGeom>
          <a:noFill/>
          <a:ln w="57240">
            <a:solidFill>
              <a:srgbClr val="47a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08000" y="3860640"/>
            <a:ext cx="252720" cy="720720"/>
          </a:xfrm>
          <a:custGeom>
            <a:avLst/>
            <a:gdLst/>
            <a:ahLst/>
            <a:rect l="l" t="t" r="r" b="b"/>
            <a:pathLst>
              <a:path w="159" h="454">
                <a:moveTo>
                  <a:pt x="23" y="454"/>
                </a:moveTo>
                <a:cubicBezTo>
                  <a:pt x="11" y="378"/>
                  <a:pt x="0" y="303"/>
                  <a:pt x="23" y="227"/>
                </a:cubicBezTo>
                <a:cubicBezTo>
                  <a:pt x="46" y="151"/>
                  <a:pt x="102" y="75"/>
                  <a:pt x="159" y="0"/>
                </a:cubicBezTo>
              </a:path>
            </a:pathLst>
          </a:custGeom>
          <a:noFill/>
          <a:ln w="57240">
            <a:solidFill>
              <a:srgbClr val="47a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7149600">
            <a:off x="3473640" y="4815360"/>
            <a:ext cx="612720" cy="576360"/>
          </a:xfrm>
          <a:custGeom>
            <a:avLst/>
            <a:gdLst/>
            <a:ahLst/>
            <a:rect l="l" t="t" r="r" b="b"/>
            <a:pathLst>
              <a:path w="227" h="363">
                <a:moveTo>
                  <a:pt x="0" y="0"/>
                </a:moveTo>
                <a:cubicBezTo>
                  <a:pt x="26" y="83"/>
                  <a:pt x="53" y="167"/>
                  <a:pt x="91" y="227"/>
                </a:cubicBezTo>
                <a:cubicBezTo>
                  <a:pt x="129" y="287"/>
                  <a:pt x="178" y="325"/>
                  <a:pt x="227" y="363"/>
                </a:cubicBezTo>
              </a:path>
            </a:pathLst>
          </a:custGeom>
          <a:noFill/>
          <a:ln w="57240">
            <a:solidFill>
              <a:srgbClr val="47a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4462800">
            <a:off x="3250800" y="3741480"/>
            <a:ext cx="792000" cy="166680"/>
          </a:xfrm>
          <a:custGeom>
            <a:avLst/>
            <a:gdLst/>
            <a:ahLst/>
            <a:rect l="l" t="t" r="r" b="b"/>
            <a:pathLst>
              <a:path w="499" h="105">
                <a:moveTo>
                  <a:pt x="0" y="90"/>
                </a:moveTo>
                <a:cubicBezTo>
                  <a:pt x="94" y="97"/>
                  <a:pt x="189" y="105"/>
                  <a:pt x="272" y="90"/>
                </a:cubicBezTo>
                <a:cubicBezTo>
                  <a:pt x="355" y="75"/>
                  <a:pt x="427" y="37"/>
                  <a:pt x="499" y="0"/>
                </a:cubicBezTo>
              </a:path>
            </a:pathLst>
          </a:custGeom>
          <a:noFill/>
          <a:ln w="57240">
            <a:solidFill>
              <a:srgbClr val="47a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95640" y="3860640"/>
            <a:ext cx="1655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492360" y="3213000"/>
            <a:ext cx="1943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651280" y="3645000"/>
            <a:ext cx="649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140360" y="4149720"/>
            <a:ext cx="93636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08000" y="4581360"/>
            <a:ext cx="144000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FE0-C473-4C7D-A837-B923869C40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Modélisation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Reconstituer le placement des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primer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sur le génome circulaire revient à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reconstruire un couplage parfa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uplage parfait : graphe dans lequel tout sommet a pour degré exactement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92360" y="3286080"/>
            <a:ext cx="216000" cy="14292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47640" y="3573360"/>
            <a:ext cx="216000" cy="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557440" y="4149720"/>
            <a:ext cx="216000" cy="7128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148000" y="3141720"/>
            <a:ext cx="144360" cy="14292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2360" y="4797360"/>
            <a:ext cx="0" cy="21600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56000" y="3933720"/>
            <a:ext cx="144720" cy="14472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76720" y="5084640"/>
            <a:ext cx="216000" cy="14472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020000" y="4581360"/>
            <a:ext cx="216000" cy="14472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47640" y="4653000"/>
            <a:ext cx="0" cy="21600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96000" y="4292280"/>
            <a:ext cx="216000" cy="144360"/>
          </a:xfrm>
          <a:prstGeom prst="line">
            <a:avLst/>
          </a:prstGeom>
          <a:ln w="76320">
            <a:solidFill>
              <a:srgbClr val="b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stCxn id="275" idx="1"/>
            <a:endCxn id="275" idx="1"/>
          </p:cNvCxnSpPr>
          <p:nvPr/>
        </p:nvCxnSpPr>
        <p:spPr>
          <a:xfrm>
            <a:off x="456840" y="4122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 flipV="1">
            <a:off x="1763640" y="3357360"/>
            <a:ext cx="180036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427640" y="3284640"/>
            <a:ext cx="720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492000" y="4437000"/>
            <a:ext cx="23036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547640" y="4221000"/>
            <a:ext cx="115272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148360" y="4581000"/>
            <a:ext cx="201600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843-28C8-4F67-99E7-795F739A5B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Contexte du st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1995-1998 : doctorat au Loria de Vladimir Grebins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WG 2005 à Metz : exposé alliant graphes et bioinformat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on stage au Loria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eprise du travail de Vladimir et Greg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echerche bibliographique de résultats réc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pprofondisse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68C-1DE0-411E-A4F3-573A53F529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Deux modèles de questions pour la reconstruction de graph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306864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Modèle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  <a:ea typeface="Arial"/>
              </a:rPr>
              <a:t>booléen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: Existe-t-il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  <a:ea typeface="Arial"/>
              </a:rPr>
              <a:t>au moins une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arête du graphe caché qui relie deux sommets de Q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Modèle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  <a:ea typeface="Arial"/>
              </a:rPr>
              <a:t>quantitatif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  <a:ea typeface="Arial"/>
              </a:rPr>
              <a:t>Combien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d’arêtes relient deux sommets de Q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9280" y="1700280"/>
            <a:ext cx="871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our une question Q sous-ensemble de sommets, la réponse obtenue dépend du modèle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9919-DF7C-4752-BBCC-3CE4D87440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Résultats préexista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V. Grebinski et G. Kucherov [’95 à ‘98] : reconstruction de circuits Hamiltoniens et de graphes à degré borné dans les deux modè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N. Alon et al. [‘02] : reconstruction de couplages dans le modèle booléen, par un algorithme non-adaptat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N. Alon et V. Asodi [‘04] : reconstruction d’étoiles et de cliques dans le modèle booléen par un algorithme non-adaptat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674F-1A7E-4842-9F88-A9EF4B29E8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Suite et fin de l’exposé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n algorithme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non-adaptatif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est parfois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optimal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Graphes à degré borné, dans le modèle quantitati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Il peut exister une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différence intrinsèque incompressible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entre les complexités d’algorithmes adaptatifs et non-adaptati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étoiles, dans le modèle boolé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E07-0FE6-4CB8-BBFD-969FAE6B2C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Graphes à degré borné :</a:t>
            </a:r>
            <a:br>
              <a:rPr sz="3900"/>
            </a:b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borne inférie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stante d fixée : </a:t>
            </a:r>
            <a:r>
              <a:rPr b="0" lang="fr-FR" sz="3200" spc="-1" strike="noStrike">
                <a:solidFill>
                  <a:srgbClr val="000000"/>
                </a:solidFill>
                <a:latin typeface="Monotype Corsiva"/>
              </a:rPr>
              <a:t>G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{ graphe G sur les sommets {1,…,n} à degré borné par d 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En se restreignant à des sous-classes des graphes à degré borné par d, la théorie de l’information donne la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  <a:ea typeface="Arial"/>
              </a:rPr>
              <a:t>borne inférieure (</a:t>
            </a:r>
            <a:r>
              <a:rPr b="0" i="1" lang="en-US" sz="3000" spc="-1" strike="noStrike">
                <a:solidFill>
                  <a:srgbClr val="330066"/>
                </a:solidFill>
                <a:latin typeface="Arial"/>
                <a:ea typeface="Arial"/>
              </a:rPr>
              <a:t>½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  <a:ea typeface="Arial"/>
              </a:rPr>
              <a:t>+o(1)) nd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sur la complexité du problèm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416D-0695-4B1C-9361-17A710BD396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Graphes à degré borné : </a:t>
            </a:r>
            <a:br>
              <a:rPr sz="3900"/>
            </a:b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borne supérie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On considère la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représentation bipartie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d’un graphe : G=(V,E)       &gt; G’=(V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,V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; E’) avec {i,j}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Є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E ssi (i,j)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E’ et (j,i)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E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Représentation bipartie + recherche de d fausses pièces parmi n + recherche d’un vecteur de degré de fausseté </a:t>
            </a:r>
            <a:r>
              <a:rPr b="1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{0,…,d}</a:t>
            </a:r>
            <a:r>
              <a:rPr b="0" lang="fr-FR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existence d’un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  <a:ea typeface="Arial"/>
              </a:rPr>
              <a:t>algorithme non-adaptatif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pour la reconstruction de graphes à degré borné en </a:t>
            </a:r>
            <a:r>
              <a:rPr b="0" i="1" lang="fr-FR" sz="3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O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(nd)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24360" y="2421000"/>
            <a:ext cx="647640" cy="156960"/>
          </a:xfrm>
          <a:custGeom>
            <a:avLst/>
            <a:gdLst/>
            <a:ahLst/>
            <a:rect l="l" t="t" r="r" b="b"/>
            <a:pathLst>
              <a:path w="1043" h="144">
                <a:moveTo>
                  <a:pt x="0" y="136"/>
                </a:moveTo>
                <a:cubicBezTo>
                  <a:pt x="38" y="68"/>
                  <a:pt x="76" y="0"/>
                  <a:pt x="136" y="0"/>
                </a:cubicBezTo>
                <a:cubicBezTo>
                  <a:pt x="196" y="0"/>
                  <a:pt x="295" y="136"/>
                  <a:pt x="363" y="136"/>
                </a:cubicBezTo>
                <a:cubicBezTo>
                  <a:pt x="431" y="136"/>
                  <a:pt x="476" y="0"/>
                  <a:pt x="544" y="0"/>
                </a:cubicBezTo>
                <a:cubicBezTo>
                  <a:pt x="612" y="0"/>
                  <a:pt x="710" y="128"/>
                  <a:pt x="771" y="136"/>
                </a:cubicBezTo>
                <a:cubicBezTo>
                  <a:pt x="832" y="144"/>
                  <a:pt x="862" y="60"/>
                  <a:pt x="907" y="45"/>
                </a:cubicBezTo>
                <a:cubicBezTo>
                  <a:pt x="952" y="30"/>
                  <a:pt x="1020" y="45"/>
                  <a:pt x="1043" y="4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4797360"/>
            <a:ext cx="649080" cy="287280"/>
          </a:xfrm>
          <a:prstGeom prst="rightArrow">
            <a:avLst>
              <a:gd name="adj1" fmla="val 50000"/>
              <a:gd name="adj2" fmla="val 564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9F9-6136-48D9-9016-AC3A106CC9B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Graphes à degré borné : concl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n algorithme non-adaptatif peut atteindre à une constante multiplicative près la borne inférieure de la théorie de l’in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imite : On prouve l’existence d’un tel algorithme, mais on ne sait pas le construire de manière effective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oblème ouvert depuis 30 ans : retrouver d fausses pièces parmi n avec un algorithme non-adaptatif faisant O(d.log n / log d) questions (borne inférieure dont on sait qu’elle peut être atteint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02C-9B4D-41AA-ACB0-9FA31266A88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Etoiles : défini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toiles sur n somm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= étoiles à k+1 sommets, avec n-k-1 sommets isol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03640" y="3573360"/>
            <a:ext cx="36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3280" y="3444840"/>
            <a:ext cx="45180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000000"/>
                </a:solidFill>
                <a:latin typeface="Arial"/>
              </a:rPr>
              <a:t>Star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Arial"/>
              </a:rPr>
              <a:t>k=0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ensemble de toutes 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étoiles sur n sommet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vec un nombre arbitrai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e sommets isolé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78040" y="3463920"/>
            <a:ext cx="50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92360" y="4724280"/>
            <a:ext cx="144360" cy="144720"/>
          </a:xfrm>
          <a:prstGeom prst="ellipse">
            <a:avLst/>
          </a:prstGeom>
          <a:solidFill>
            <a:srgbClr val="330066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16000" y="3933720"/>
            <a:ext cx="144360" cy="144720"/>
          </a:xfrm>
          <a:prstGeom prst="ellipse">
            <a:avLst/>
          </a:prstGeom>
          <a:solidFill>
            <a:srgbClr val="330066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24000" y="3860640"/>
            <a:ext cx="144360" cy="144720"/>
          </a:xfrm>
          <a:prstGeom prst="ellipse">
            <a:avLst/>
          </a:prstGeom>
          <a:solidFill>
            <a:srgbClr val="330066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71640" y="4365720"/>
            <a:ext cx="144720" cy="144360"/>
          </a:xfrm>
          <a:prstGeom prst="ellipse">
            <a:avLst/>
          </a:prstGeom>
          <a:solidFill>
            <a:srgbClr val="330066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79640" y="5589720"/>
            <a:ext cx="144360" cy="144360"/>
          </a:xfrm>
          <a:prstGeom prst="ellipse">
            <a:avLst/>
          </a:prstGeom>
          <a:solidFill>
            <a:srgbClr val="330066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00000" y="5445000"/>
            <a:ext cx="144720" cy="144720"/>
          </a:xfrm>
          <a:prstGeom prst="ellipse">
            <a:avLst/>
          </a:prstGeom>
          <a:solidFill>
            <a:srgbClr val="330066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55640" y="4581360"/>
            <a:ext cx="144360" cy="144720"/>
          </a:xfrm>
          <a:prstGeom prst="ellipse">
            <a:avLst/>
          </a:prstGeom>
          <a:solidFill>
            <a:srgbClr val="330066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56000" y="5157720"/>
            <a:ext cx="144360" cy="144360"/>
          </a:xfrm>
          <a:prstGeom prst="ellipse">
            <a:avLst/>
          </a:prstGeom>
          <a:solidFill>
            <a:srgbClr val="330066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12" idx="5"/>
            <a:endCxn id="319" idx="2"/>
          </p:cNvCxnSpPr>
          <p:nvPr/>
        </p:nvCxnSpPr>
        <p:spPr>
          <a:xfrm>
            <a:off x="1815840" y="4847760"/>
            <a:ext cx="740520" cy="383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312" idx="6"/>
            <a:endCxn id="315" idx="3"/>
          </p:cNvCxnSpPr>
          <p:nvPr/>
        </p:nvCxnSpPr>
        <p:spPr>
          <a:xfrm flipV="1">
            <a:off x="1836360" y="4488840"/>
            <a:ext cx="956520" cy="30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312" idx="1"/>
            <a:endCxn id="313" idx="5"/>
          </p:cNvCxnSpPr>
          <p:nvPr/>
        </p:nvCxnSpPr>
        <p:spPr>
          <a:xfrm flipH="1" flipV="1">
            <a:off x="1239480" y="4057560"/>
            <a:ext cx="473760" cy="687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7" idx="7"/>
            <a:endCxn id="312" idx="3"/>
          </p:cNvCxnSpPr>
          <p:nvPr/>
        </p:nvCxnSpPr>
        <p:spPr>
          <a:xfrm flipV="1">
            <a:off x="1023840" y="4847760"/>
            <a:ext cx="689760" cy="618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827640" y="595008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n=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078-7948-4D52-B419-40DBFB1657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Dans le modèle boolé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N. Alon et V. Asodi : </a:t>
            </a:r>
            <a:r>
              <a:rPr b="0" lang="fr-FR" sz="4700" spc="-1" strike="noStrike">
                <a:solidFill>
                  <a:srgbClr val="000000"/>
                </a:solidFill>
                <a:latin typeface="Arial"/>
                <a:ea typeface="Arial"/>
              </a:rPr>
              <a:t>(  )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l-GR" sz="3000" spc="-1" strike="noStrike">
                <a:solidFill>
                  <a:srgbClr val="330066"/>
                </a:solidFill>
                <a:latin typeface="Arial"/>
                <a:ea typeface="Arial"/>
              </a:rPr>
              <a:t>Ω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  <a:ea typeface="Arial"/>
              </a:rPr>
              <a:t>(n²)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questions sont nécessaires pour reconstruire une étoile de </a:t>
            </a:r>
            <a:r>
              <a:rPr b="0" i="1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Stars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par un algorithme non-adaptatif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La borne inférieure de la théorie de l’information est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  <a:ea typeface="Arial"/>
              </a:rPr>
              <a:t>linéaire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Un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  <a:ea typeface="Arial"/>
              </a:rPr>
              <a:t>algorithme à deux tour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atteint cette borne inférieure à un facteur 2 prè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Un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  <a:ea typeface="Arial"/>
              </a:rPr>
              <a:t>algorithme adaptatif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atteint cette borne à o(n) questions prè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165564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0" y="21081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4362-CCC5-4E23-BE92-139DF710715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Borne inférieure de la théorie de l’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|S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| = n . </a:t>
            </a:r>
            <a:r>
              <a:rPr b="0" lang="fr-FR" sz="4700" spc="-1" strike="noStrike">
                <a:solidFill>
                  <a:srgbClr val="000000"/>
                </a:solidFill>
                <a:latin typeface="Arial"/>
                <a:ea typeface="Arial"/>
              </a:rPr>
              <a:t>(    )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our k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≥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Star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| =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Σ </a:t>
            </a:r>
            <a:r>
              <a:rPr b="0" lang="fr-FR" sz="4700" spc="-1" strike="noStrike">
                <a:solidFill>
                  <a:srgbClr val="000000"/>
                </a:solidFill>
                <a:latin typeface="Arial"/>
                <a:ea typeface="Arial"/>
              </a:rPr>
              <a:t>(    )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+ n(n-1)/2 +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4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4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= n (2</a:t>
            </a:r>
            <a:r>
              <a:rPr b="0" lang="fr-FR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-1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-1) - n(n-1)/2 +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Borne inférieure : log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|</a:t>
            </a:r>
            <a:r>
              <a:rPr b="0" i="1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Star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| = (1+o(1))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627280" y="1655640"/>
            <a:ext cx="100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27280" y="21081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59280" y="3024360"/>
            <a:ext cx="100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59280" y="35481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64840" y="3141720"/>
            <a:ext cx="50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392560" y="3824280"/>
            <a:ext cx="54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 baseline="30000">
                <a:solidFill>
                  <a:srgbClr val="000000"/>
                </a:solidFill>
                <a:latin typeface="Arial"/>
              </a:rPr>
              <a:t>k=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1AFD-E16D-4ED3-9D08-70471E86208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Algorithme à deux tou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emier tour : chercher le centre x de l’étoile en n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Questions V\{i} pour tous les sommets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euxième tour : chercher quels sont les voisins du centre en n-1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{x,i} pour tous les sommets i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haque tour est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non-adaptatif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2n-1 questions au total, soit 2 fois la borne inférieure de la théorie de l’in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CB7-D399-4B0B-848B-6B81B7433F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La recherche combinatoi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Identification d’un objet inconnu ou « caché » dans un ensemble d’obj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Jeu à deux joueurs : l’un choisit l’objet caché, l’autre le cher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’objet caché peut aussi être déterminé de façon aléatoire, par un mécanisme biologique, ou par une réalité physique inconnue de celui qui cherch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CE0-7039-4977-8754-909DD3921B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Algorithme adaptati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On peut accélérer la première étape de l’algorithme précédent en O(log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n) questions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adaptative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lgorithme obtenu : adaptatif mais en (1+o(1))n questions, la borne inférieure de la théorie de l’informa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BAD9-F3F2-4E8B-946A-DCD1067C089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Etoiles dans le modèle booléen : bi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lgorithmes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 non-adaptatif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strictement moins puissants qu’algorithmes adaptatif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lgorithme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à deux tour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(= 2 étapes non-adaptatives) : atteignent à un facteur 2 la borne inférieure de la théorie de l’in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lgorithme complètement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adaptatif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: atteint la borne inférieure de la théorie de l’in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EB3F-27FD-4A36-A2E6-23194F2DACD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Dans le modèle quantitatif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24000" y="1719360"/>
            <a:ext cx="836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Borne inférieure de la théorie de l’information : log</a:t>
            </a:r>
            <a:r>
              <a:rPr b="0" lang="fr-FR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(|</a:t>
            </a:r>
            <a:r>
              <a:rPr b="0" i="1" lang="fr-FR" sz="3000" spc="-1" strike="noStrike">
                <a:solidFill>
                  <a:srgbClr val="000000"/>
                </a:solidFill>
                <a:latin typeface="Arial"/>
              </a:rPr>
              <a:t>Star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|) = </a:t>
            </a:r>
            <a:r>
              <a:rPr b="0" i="1" lang="el-GR" sz="3000" spc="-1" strike="noStrike">
                <a:solidFill>
                  <a:srgbClr val="330066"/>
                </a:solidFill>
                <a:latin typeface="Arial"/>
                <a:ea typeface="Arial"/>
              </a:rPr>
              <a:t>Ω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  <a:ea typeface="Arial"/>
              </a:rPr>
              <a:t>(n/log</a:t>
            </a:r>
            <a:r>
              <a:rPr b="0" i="1" lang="fr-FR" sz="3000" spc="-1" strike="noStrike" baseline="-25000">
                <a:solidFill>
                  <a:srgbClr val="330066"/>
                </a:solidFill>
                <a:latin typeface="Arial"/>
                <a:ea typeface="Arial"/>
              </a:rPr>
              <a:t>2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  <a:ea typeface="Arial"/>
              </a:rPr>
              <a:t>n)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Algorithme adaptatif en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  <a:ea typeface="Arial"/>
              </a:rPr>
              <a:t>O(n/log</a:t>
            </a:r>
            <a:r>
              <a:rPr b="0" i="1" lang="fr-FR" sz="3000" spc="-1" strike="noStrike" baseline="-25000">
                <a:solidFill>
                  <a:srgbClr val="330066"/>
                </a:solidFill>
                <a:latin typeface="Arial"/>
                <a:ea typeface="Arial"/>
              </a:rPr>
              <a:t>2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  <a:ea typeface="Arial"/>
              </a:rPr>
              <a:t>n)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ques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Même structure que dans le modèle boolé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Première étape en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(log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n) 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euxième étape : recherche d’un nombre arbitraire de fausses pièces parmi n-1 (les voisins de x) :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O(n/log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n) ques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Algorithmes non-adaptatif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9D2-378E-40F1-9478-30D7EF6FF13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Conclu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ésentation de la recherche combinato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otivations bioinformat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xemples de recherche combinatoire sur les grap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59F4-BF40-4451-A6F4-952BE8C8F47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0066"/>
                </a:solidFill>
                <a:latin typeface="Arial"/>
              </a:rPr>
              <a:t>Merci !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7A0B-9009-438A-820F-7BD63A450AE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1° tour en O(log</a:t>
            </a:r>
            <a:r>
              <a:rPr b="1" lang="fr-FR" sz="39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n) question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rouver une arête de l’étoile cachée s’il en existe u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nstruire par dichotomie 2 /s-ens. de sommets S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et S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, non vides, ne contenant aucune arête, et tq il existe au moins une arête entre S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et S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rouver un sommet v de S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qui a un voisin dans S</a:t>
            </a:r>
            <a:r>
              <a:rPr b="0" lang="fr-FR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, puis trouver ce voisin w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rouver si le centre est v ou 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erminer comme avant en retrouvant les voisins du centr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0D8E-74EF-4351-B39C-7C3A85B2B8D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7634520" cy="59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99F-DB61-4104-AEFA-65D76C74191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43360" cy="402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B6F-F60E-4855-9C83-57827FFBBA4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0066"/>
                </a:solidFill>
                <a:latin typeface="Arial"/>
              </a:rPr>
              <a:t>Les problèmes de pesage de pièces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cherche d’une ou de plusieurs fausses pièces parmi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u du nombre cach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largissements pos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F54A-B013-4AD4-9CA9-3712EA48EB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Une fausse pièce parmi 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ot de n pièces dont une est fausse ( = de poids différent des pièces authentiques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n lots de pièces possibles = n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configu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Balance à un plateau : la pesée d’un ensemble Q de pièces issues du lot révèle si la fausse pièce appartient ou non à l’ensemble Q pes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oui ou non =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réponses possib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a fausse pièce est-elle dans Q ? = </a:t>
            </a:r>
            <a:r>
              <a:rPr b="0" i="1" lang="fr-FR" sz="3000" spc="-1" strike="noStrike">
                <a:solidFill>
                  <a:srgbClr val="330066"/>
                </a:solidFill>
                <a:latin typeface="Arial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C90-8552-4F9A-BA27-FA24914E2E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Le jeu du nombre caché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2" name="" descr="Pikku Piko"/>
          <p:cNvPicPr/>
          <p:nvPr/>
        </p:nvPicPr>
        <p:blipFill>
          <a:blip r:embed="rId1"/>
          <a:stretch/>
        </p:blipFill>
        <p:spPr>
          <a:xfrm>
            <a:off x="2367000" y="3772080"/>
            <a:ext cx="218880" cy="304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Le Petit Spirou et son pote Vertignasse"/>
          <p:cNvPicPr/>
          <p:nvPr/>
        </p:nvPicPr>
        <p:blipFill>
          <a:blip r:embed="rId2"/>
          <a:stretch/>
        </p:blipFill>
        <p:spPr>
          <a:xfrm>
            <a:off x="1835280" y="2997360"/>
            <a:ext cx="5472000" cy="3578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09440" y="1773360"/>
            <a:ext cx="3167280" cy="1512720"/>
          </a:xfrm>
          <a:prstGeom prst="wedgeEllipseCallout">
            <a:avLst>
              <a:gd name="adj1" fmla="val 24337"/>
              <a:gd name="adj2" fmla="val 99842"/>
            </a:avLst>
          </a:prstGeom>
          <a:solidFill>
            <a:srgbClr val="ef7e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oisis un nombre entre 1 et 1000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43640" y="2060640"/>
            <a:ext cx="2160720" cy="1042920"/>
          </a:xfrm>
          <a:prstGeom prst="cloudCallout">
            <a:avLst>
              <a:gd name="adj1" fmla="val -30384"/>
              <a:gd name="adj2" fmla="val 11347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e choisi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475-0C02-43BC-911E-5B5A0F5E78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Le Petit Spirou et son pote Vertignasse"/>
          <p:cNvPicPr/>
          <p:nvPr/>
        </p:nvPicPr>
        <p:blipFill>
          <a:blip r:embed="rId1"/>
          <a:stretch/>
        </p:blipFill>
        <p:spPr>
          <a:xfrm>
            <a:off x="1835280" y="2997360"/>
            <a:ext cx="5472000" cy="35780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Le jeu du nombre caché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1773360"/>
            <a:ext cx="2808360" cy="1368360"/>
          </a:xfrm>
          <a:prstGeom prst="wedgeEllipseCallout">
            <a:avLst>
              <a:gd name="adj1" fmla="val -21000"/>
              <a:gd name="adj2" fmla="val 92805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vine quel nombre j’ai choisi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773360"/>
            <a:ext cx="3564000" cy="1512720"/>
          </a:xfrm>
          <a:prstGeom prst="wedgeEllipseCallout">
            <a:avLst>
              <a:gd name="adj1" fmla="val 19129"/>
              <a:gd name="adj2" fmla="val 99842"/>
            </a:avLst>
          </a:prstGeom>
          <a:solidFill>
            <a:srgbClr val="ef7e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nombre caché est-il inférieur ou égal à 500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6A1-8E1A-4CA4-B47E-0B835F84AF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Un problème de recherche combinatoir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 ensemble fini </a:t>
            </a:r>
            <a:r>
              <a:rPr b="0" lang="fr-FR" sz="28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fr-FR" sz="2600" spc="-1" strike="noStrike">
                <a:solidFill>
                  <a:srgbClr val="330066"/>
                </a:solidFill>
                <a:latin typeface="Arial"/>
              </a:rPr>
              <a:t>configuration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à discrimi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 ensemble fini </a:t>
            </a:r>
            <a:r>
              <a:rPr b="0" lang="fr-FR" sz="2800" spc="-1" strike="noStrike">
                <a:solidFill>
                  <a:srgbClr val="000000"/>
                </a:solidFill>
                <a:latin typeface="Monotype Corsiva"/>
              </a:rPr>
              <a:t>D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fr-FR" sz="2600" spc="-1" strike="noStrike">
                <a:solidFill>
                  <a:srgbClr val="330066"/>
                </a:solidFill>
                <a:latin typeface="Arial"/>
              </a:rPr>
              <a:t>réponses possible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noté {0,…,d-1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 sous-ensemble </a:t>
            </a:r>
            <a:r>
              <a:rPr b="0" lang="fr-FR" sz="2800" spc="-1" strike="noStrike">
                <a:solidFill>
                  <a:srgbClr val="000000"/>
                </a:solidFill>
                <a:latin typeface="Monotype Corsiva"/>
              </a:rPr>
              <a:t>Q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des fonctions de </a:t>
            </a:r>
            <a:r>
              <a:rPr b="0" lang="fr-FR" sz="28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ans </a:t>
            </a:r>
            <a:r>
              <a:rPr b="0" lang="fr-FR" sz="2800" spc="-1" strike="noStrike">
                <a:solidFill>
                  <a:srgbClr val="000000"/>
                </a:solidFill>
                <a:latin typeface="Monotype Corsiva"/>
              </a:rPr>
              <a:t>D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: les </a:t>
            </a:r>
            <a:r>
              <a:rPr b="0" i="1" lang="fr-FR" sz="2600" spc="-1" strike="noStrike">
                <a:solidFill>
                  <a:srgbClr val="330066"/>
                </a:solidFill>
                <a:latin typeface="Arial"/>
              </a:rPr>
              <a:t>question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autorisé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i="1" lang="fr-FR" sz="2600" spc="-1" strike="noStrike">
                <a:solidFill>
                  <a:srgbClr val="330066"/>
                </a:solidFill>
                <a:latin typeface="Arial"/>
              </a:rPr>
              <a:t>nombre caché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fr-FR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{1,…,1000} que l’on veut retrou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Les réponses sont </a:t>
            </a:r>
            <a:r>
              <a:rPr b="0" i="1" lang="fr-FR" sz="2600" spc="-1" strike="noStrike">
                <a:solidFill>
                  <a:srgbClr val="330066"/>
                </a:solidFill>
                <a:latin typeface="Arial"/>
                <a:ea typeface="Arial"/>
              </a:rPr>
              <a:t>oui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ou</a:t>
            </a:r>
            <a:r>
              <a:rPr b="0" i="1" lang="fr-FR" sz="2600" spc="-1" strike="noStrike">
                <a:solidFill>
                  <a:srgbClr val="330066"/>
                </a:solidFill>
                <a:latin typeface="Arial"/>
                <a:ea typeface="Arial"/>
              </a:rPr>
              <a:t> n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Les questions sont de la forme « </a:t>
            </a:r>
            <a:r>
              <a:rPr b="0" i="1" lang="fr-FR" sz="2600" spc="-1" strike="noStrike">
                <a:solidFill>
                  <a:srgbClr val="330066"/>
                </a:solidFill>
                <a:latin typeface="Arial"/>
                <a:ea typeface="Arial"/>
              </a:rPr>
              <a:t>x est-il inférieur ou égal à y ?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 » pour y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Arial"/>
              </a:rPr>
              <a:t> {1,…,999}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F34-6E2D-478C-80CA-B6CE512CA9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uvel</cp:lastModifiedBy>
  <dcterms:modified xsi:type="dcterms:W3CDTF">2005-09-14T06:39:03Z</dcterms:modified>
  <cp:revision>160</cp:revision>
  <dc:subject/>
  <dc:title>PowerPoint Presentation</dc:title>
</cp:coreProperties>
</file>